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0ED-97EE-415C-B844-5BE42EFBA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C1AE-8CBA-4ECA-8088-BD43509B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8477-6A35-41FD-BE7F-C198776B5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7F83-9EBC-4934-B3E0-9A681D094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6087-C4CA-47AA-9ED9-E48E8B38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CCD6-DF50-4BE0-AB2C-FC7A019DB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F8B6-63EF-4E27-8F66-0D1C12668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853-F04D-4AC1-AA21-24210B5D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6765-C395-46DE-91B6-973FD2E7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A519-5C69-47CE-92E3-9407FE82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FE30-DEE5-44C8-9552-7A5C4320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4AA-9096-48CF-8267-F3CF2C6E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C432-8C3A-4D04-9F88-37C44AD49E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344520" y="189000"/>
            <a:ext cx="1333440" cy="1706400"/>
            <a:chOff x="344520" y="189000"/>
            <a:chExt cx="1333440" cy="1706400"/>
          </a:xfrm>
        </p:grpSpPr>
        <p:sp>
          <p:nvSpPr>
            <p:cNvPr id="43" name="フローチャート : 論理積ゲート 109"/>
            <p:cNvSpPr/>
            <p:nvPr/>
          </p:nvSpPr>
          <p:spPr>
            <a:xfrm rot="16200000">
              <a:off x="158040" y="375480"/>
              <a:ext cx="1706400" cy="1333440"/>
            </a:xfrm>
            <a:prstGeom prst="flowChartDelay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フローチャート : 論理積ゲート 110"/>
            <p:cNvSpPr/>
            <p:nvPr/>
          </p:nvSpPr>
          <p:spPr>
            <a:xfrm rot="16200000">
              <a:off x="267480" y="507240"/>
              <a:ext cx="1488960" cy="1093680"/>
            </a:xfrm>
            <a:prstGeom prst="flowChartDelay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正方形/長方形 111"/>
            <p:cNvSpPr/>
            <p:nvPr/>
          </p:nvSpPr>
          <p:spPr>
            <a:xfrm>
              <a:off x="465120" y="1431720"/>
              <a:ext cx="1093680" cy="1159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正方形/長方形 112"/>
            <p:cNvSpPr/>
            <p:nvPr/>
          </p:nvSpPr>
          <p:spPr>
            <a:xfrm>
              <a:off x="465120" y="1006560"/>
              <a:ext cx="1093680" cy="11592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正方形/長方形 113"/>
            <p:cNvSpPr/>
            <p:nvPr/>
          </p:nvSpPr>
          <p:spPr>
            <a:xfrm rot="5400000">
              <a:off x="264600" y="995040"/>
              <a:ext cx="1496880" cy="1191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928880" y="189000"/>
            <a:ext cx="1334880" cy="1706400"/>
            <a:chOff x="1928880" y="189000"/>
            <a:chExt cx="1334880" cy="1706400"/>
          </a:xfrm>
        </p:grpSpPr>
        <p:sp>
          <p:nvSpPr>
            <p:cNvPr id="49" name="フローチャート : 論理積ゲート 116"/>
            <p:cNvSpPr/>
            <p:nvPr/>
          </p:nvSpPr>
          <p:spPr>
            <a:xfrm rot="16200000">
              <a:off x="1743120" y="374760"/>
              <a:ext cx="1706400" cy="133488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フローチャート : 論理積ゲート 117"/>
            <p:cNvSpPr/>
            <p:nvPr/>
          </p:nvSpPr>
          <p:spPr>
            <a:xfrm rot="16200000">
              <a:off x="1851480" y="507240"/>
              <a:ext cx="1488960" cy="1093680"/>
            </a:xfrm>
            <a:prstGeom prst="flowChartDelay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正方形/長方形 118"/>
            <p:cNvSpPr/>
            <p:nvPr/>
          </p:nvSpPr>
          <p:spPr>
            <a:xfrm>
              <a:off x="2050920" y="1431720"/>
              <a:ext cx="1091880" cy="117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正方形/長方形 119"/>
            <p:cNvSpPr/>
            <p:nvPr/>
          </p:nvSpPr>
          <p:spPr>
            <a:xfrm>
              <a:off x="2050920" y="1006560"/>
              <a:ext cx="1091880" cy="117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正方形/長方形 120"/>
            <p:cNvSpPr/>
            <p:nvPr/>
          </p:nvSpPr>
          <p:spPr>
            <a:xfrm rot="5400000">
              <a:off x="1849320" y="996120"/>
              <a:ext cx="1495440" cy="11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380920" y="3098880"/>
            <a:ext cx="1614600" cy="1657440"/>
            <a:chOff x="5380920" y="3098880"/>
            <a:chExt cx="1614600" cy="1657440"/>
          </a:xfrm>
        </p:grpSpPr>
        <p:sp>
          <p:nvSpPr>
            <p:cNvPr id="55" name="Oval 56"/>
            <p:cNvSpPr/>
            <p:nvPr/>
          </p:nvSpPr>
          <p:spPr>
            <a:xfrm rot="3600000">
              <a:off x="5942880" y="4562640"/>
              <a:ext cx="57240" cy="2156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 flipH="1" rot="18000000">
              <a:off x="6085440" y="4562640"/>
              <a:ext cx="57600" cy="21600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6006960" y="4584600"/>
              <a:ext cx="71640" cy="17172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2"/>
            <p:cNvSpPr/>
            <p:nvPr/>
          </p:nvSpPr>
          <p:spPr>
            <a:xfrm rot="3600000">
              <a:off x="6230160" y="4562640"/>
              <a:ext cx="57240" cy="2156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3"/>
            <p:cNvSpPr/>
            <p:nvPr/>
          </p:nvSpPr>
          <p:spPr>
            <a:xfrm flipH="1" rot="18000000">
              <a:off x="6372720" y="4562640"/>
              <a:ext cx="57600" cy="2156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4"/>
            <p:cNvSpPr/>
            <p:nvPr/>
          </p:nvSpPr>
          <p:spPr>
            <a:xfrm>
              <a:off x="6294600" y="4584600"/>
              <a:ext cx="71280" cy="17172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41"/>
            <p:cNvSpPr/>
            <p:nvPr/>
          </p:nvSpPr>
          <p:spPr>
            <a:xfrm>
              <a:off x="5935680" y="4324320"/>
              <a:ext cx="216000" cy="28404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42"/>
            <p:cNvSpPr/>
            <p:nvPr/>
          </p:nvSpPr>
          <p:spPr>
            <a:xfrm>
              <a:off x="6224760" y="4324320"/>
              <a:ext cx="215640" cy="28404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43"/>
            <p:cNvSpPr/>
            <p:nvPr/>
          </p:nvSpPr>
          <p:spPr>
            <a:xfrm rot="20700000">
              <a:off x="6440400" y="3387240"/>
              <a:ext cx="432000" cy="1008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44"/>
            <p:cNvSpPr/>
            <p:nvPr/>
          </p:nvSpPr>
          <p:spPr>
            <a:xfrm rot="900000">
              <a:off x="5504040" y="3387600"/>
              <a:ext cx="431640" cy="100836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45"/>
            <p:cNvSpPr/>
            <p:nvPr/>
          </p:nvSpPr>
          <p:spPr>
            <a:xfrm>
              <a:off x="5648400" y="3098880"/>
              <a:ext cx="1079280" cy="144144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46"/>
            <p:cNvSpPr/>
            <p:nvPr/>
          </p:nvSpPr>
          <p:spPr>
            <a:xfrm>
              <a:off x="5791320" y="3316320"/>
              <a:ext cx="792000" cy="503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47"/>
            <p:cNvSpPr/>
            <p:nvPr/>
          </p:nvSpPr>
          <p:spPr>
            <a:xfrm>
              <a:off x="6008760" y="3603600"/>
              <a:ext cx="358560" cy="432000"/>
            </a:xfrm>
            <a:custGeom>
              <a:avLst/>
              <a:gdLst/>
              <a:ahLst/>
              <a:rect l="l" t="t" r="r" b="b"/>
              <a:pathLst>
                <a:path w="181" h="227">
                  <a:moveTo>
                    <a:pt x="90" y="0"/>
                  </a:moveTo>
                  <a:lnTo>
                    <a:pt x="0" y="91"/>
                  </a:lnTo>
                  <a:lnTo>
                    <a:pt x="90" y="227"/>
                  </a:lnTo>
                  <a:lnTo>
                    <a:pt x="181" y="9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48"/>
            <p:cNvSpPr/>
            <p:nvPr/>
          </p:nvSpPr>
          <p:spPr>
            <a:xfrm>
              <a:off x="5864400" y="34592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51"/>
            <p:cNvSpPr/>
            <p:nvPr/>
          </p:nvSpPr>
          <p:spPr>
            <a:xfrm>
              <a:off x="5900760" y="3495600"/>
              <a:ext cx="144360" cy="14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53"/>
            <p:cNvSpPr/>
            <p:nvPr/>
          </p:nvSpPr>
          <p:spPr>
            <a:xfrm>
              <a:off x="6296040" y="3459240"/>
              <a:ext cx="216000" cy="21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4"/>
            <p:cNvSpPr/>
            <p:nvPr/>
          </p:nvSpPr>
          <p:spPr>
            <a:xfrm>
              <a:off x="6332400" y="3495600"/>
              <a:ext cx="144720" cy="14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028640" y="3298680"/>
            <a:ext cx="2341440" cy="1440000"/>
            <a:chOff x="7028640" y="3298680"/>
            <a:chExt cx="2341440" cy="1440000"/>
          </a:xfrm>
        </p:grpSpPr>
        <p:sp>
          <p:nvSpPr>
            <p:cNvPr id="73" name="Oval 152"/>
            <p:cNvSpPr/>
            <p:nvPr/>
          </p:nvSpPr>
          <p:spPr>
            <a:xfrm rot="3600000">
              <a:off x="7951680" y="4545000"/>
              <a:ext cx="56880" cy="21600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153"/>
            <p:cNvSpPr/>
            <p:nvPr/>
          </p:nvSpPr>
          <p:spPr>
            <a:xfrm flipH="1" rot="18000000">
              <a:off x="8094240" y="4545000"/>
              <a:ext cx="56880" cy="2156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154"/>
            <p:cNvSpPr/>
            <p:nvPr/>
          </p:nvSpPr>
          <p:spPr>
            <a:xfrm>
              <a:off x="8016840" y="4567320"/>
              <a:ext cx="71640" cy="17136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56"/>
            <p:cNvSpPr/>
            <p:nvPr/>
          </p:nvSpPr>
          <p:spPr>
            <a:xfrm rot="3600000">
              <a:off x="8240400" y="4545000"/>
              <a:ext cx="56880" cy="21600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57"/>
            <p:cNvSpPr/>
            <p:nvPr/>
          </p:nvSpPr>
          <p:spPr>
            <a:xfrm flipH="1" rot="18000000">
              <a:off x="8382600" y="4545000"/>
              <a:ext cx="56880" cy="21600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58"/>
            <p:cNvSpPr/>
            <p:nvPr/>
          </p:nvSpPr>
          <p:spPr>
            <a:xfrm>
              <a:off x="8304120" y="4567320"/>
              <a:ext cx="71640" cy="17136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59"/>
            <p:cNvSpPr/>
            <p:nvPr/>
          </p:nvSpPr>
          <p:spPr>
            <a:xfrm>
              <a:off x="7945560" y="4307040"/>
              <a:ext cx="215640" cy="28404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60"/>
            <p:cNvSpPr/>
            <p:nvPr/>
          </p:nvSpPr>
          <p:spPr>
            <a:xfrm>
              <a:off x="8234280" y="4307040"/>
              <a:ext cx="216000" cy="28404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61"/>
            <p:cNvSpPr/>
            <p:nvPr/>
          </p:nvSpPr>
          <p:spPr>
            <a:xfrm rot="15300000">
              <a:off x="8448480" y="3366720"/>
              <a:ext cx="576360" cy="115704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62"/>
            <p:cNvSpPr/>
            <p:nvPr/>
          </p:nvSpPr>
          <p:spPr>
            <a:xfrm rot="17100000">
              <a:off x="7372800" y="3367440"/>
              <a:ext cx="576360" cy="115560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3"/>
            <p:cNvSpPr/>
            <p:nvPr/>
          </p:nvSpPr>
          <p:spPr>
            <a:xfrm>
              <a:off x="7658280" y="3298680"/>
              <a:ext cx="1079280" cy="1224000"/>
            </a:xfrm>
            <a:prstGeom prst="ellipse">
              <a:avLst/>
            </a:prstGeom>
            <a:solidFill>
              <a:srgbClr val="ff9933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64"/>
            <p:cNvSpPr/>
            <p:nvPr/>
          </p:nvSpPr>
          <p:spPr>
            <a:xfrm>
              <a:off x="7800840" y="3444840"/>
              <a:ext cx="792360" cy="503280"/>
            </a:xfrm>
            <a:prstGeom prst="ellipse">
              <a:avLst/>
            </a:prstGeom>
            <a:solidFill>
              <a:srgbClr val="ffff99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165"/>
            <p:cNvSpPr/>
            <p:nvPr/>
          </p:nvSpPr>
          <p:spPr>
            <a:xfrm>
              <a:off x="8018640" y="3732120"/>
              <a:ext cx="358560" cy="432000"/>
            </a:xfrm>
            <a:custGeom>
              <a:avLst/>
              <a:gdLst/>
              <a:ahLst/>
              <a:rect l="l" t="t" r="r" b="b"/>
              <a:pathLst>
                <a:path w="181" h="227">
                  <a:moveTo>
                    <a:pt x="90" y="0"/>
                  </a:moveTo>
                  <a:lnTo>
                    <a:pt x="0" y="91"/>
                  </a:lnTo>
                  <a:lnTo>
                    <a:pt x="90" y="227"/>
                  </a:lnTo>
                  <a:lnTo>
                    <a:pt x="181" y="91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cc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66"/>
            <p:cNvSpPr/>
            <p:nvPr/>
          </p:nvSpPr>
          <p:spPr>
            <a:xfrm>
              <a:off x="7873920" y="3587760"/>
              <a:ext cx="216000" cy="21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167"/>
            <p:cNvSpPr/>
            <p:nvPr/>
          </p:nvSpPr>
          <p:spPr>
            <a:xfrm>
              <a:off x="7910640" y="3624120"/>
              <a:ext cx="144360" cy="144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68"/>
            <p:cNvSpPr/>
            <p:nvPr/>
          </p:nvSpPr>
          <p:spPr>
            <a:xfrm>
              <a:off x="8305920" y="3587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69"/>
            <p:cNvSpPr/>
            <p:nvPr/>
          </p:nvSpPr>
          <p:spPr>
            <a:xfrm>
              <a:off x="8342280" y="3624120"/>
              <a:ext cx="144360" cy="144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414040" y="4959360"/>
            <a:ext cx="1614600" cy="1657440"/>
            <a:chOff x="5414040" y="4959360"/>
            <a:chExt cx="1614600" cy="1657440"/>
          </a:xfrm>
        </p:grpSpPr>
        <p:sp>
          <p:nvSpPr>
            <p:cNvPr id="91" name="Oval 56"/>
            <p:cNvSpPr/>
            <p:nvPr/>
          </p:nvSpPr>
          <p:spPr>
            <a:xfrm rot="3600000">
              <a:off x="5976720" y="6422760"/>
              <a:ext cx="5724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8"/>
            <p:cNvSpPr/>
            <p:nvPr/>
          </p:nvSpPr>
          <p:spPr>
            <a:xfrm flipH="1" rot="18000000">
              <a:off x="6118920" y="6423120"/>
              <a:ext cx="5760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9"/>
            <p:cNvSpPr/>
            <p:nvPr/>
          </p:nvSpPr>
          <p:spPr>
            <a:xfrm>
              <a:off x="6040440" y="6445080"/>
              <a:ext cx="71280" cy="171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62"/>
            <p:cNvSpPr/>
            <p:nvPr/>
          </p:nvSpPr>
          <p:spPr>
            <a:xfrm rot="3600000">
              <a:off x="6264000" y="6422760"/>
              <a:ext cx="5724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63"/>
            <p:cNvSpPr/>
            <p:nvPr/>
          </p:nvSpPr>
          <p:spPr>
            <a:xfrm flipH="1" rot="18000000">
              <a:off x="6406200" y="6423120"/>
              <a:ext cx="5760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64"/>
            <p:cNvSpPr/>
            <p:nvPr/>
          </p:nvSpPr>
          <p:spPr>
            <a:xfrm>
              <a:off x="6327720" y="6445080"/>
              <a:ext cx="71640" cy="171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41"/>
            <p:cNvSpPr/>
            <p:nvPr/>
          </p:nvSpPr>
          <p:spPr>
            <a:xfrm>
              <a:off x="5969160" y="6184800"/>
              <a:ext cx="215640" cy="28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42"/>
            <p:cNvSpPr/>
            <p:nvPr/>
          </p:nvSpPr>
          <p:spPr>
            <a:xfrm>
              <a:off x="6257880" y="6184800"/>
              <a:ext cx="216000" cy="284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43"/>
            <p:cNvSpPr/>
            <p:nvPr/>
          </p:nvSpPr>
          <p:spPr>
            <a:xfrm rot="20700000">
              <a:off x="6473520" y="5248440"/>
              <a:ext cx="431640" cy="10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44"/>
            <p:cNvSpPr/>
            <p:nvPr/>
          </p:nvSpPr>
          <p:spPr>
            <a:xfrm rot="900000">
              <a:off x="5537160" y="5248080"/>
              <a:ext cx="432000" cy="1008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45"/>
            <p:cNvSpPr/>
            <p:nvPr/>
          </p:nvSpPr>
          <p:spPr>
            <a:xfrm>
              <a:off x="5681520" y="4959360"/>
              <a:ext cx="1079640" cy="1441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48"/>
            <p:cNvSpPr/>
            <p:nvPr/>
          </p:nvSpPr>
          <p:spPr>
            <a:xfrm>
              <a:off x="5897520" y="5319720"/>
              <a:ext cx="21600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53"/>
            <p:cNvSpPr/>
            <p:nvPr/>
          </p:nvSpPr>
          <p:spPr>
            <a:xfrm>
              <a:off x="6329520" y="531972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082640" y="5192640"/>
            <a:ext cx="2341800" cy="1441440"/>
            <a:chOff x="7082640" y="5192640"/>
            <a:chExt cx="2341800" cy="1441440"/>
          </a:xfrm>
        </p:grpSpPr>
        <p:sp>
          <p:nvSpPr>
            <p:cNvPr id="105" name="Oval 152"/>
            <p:cNvSpPr/>
            <p:nvPr/>
          </p:nvSpPr>
          <p:spPr>
            <a:xfrm rot="3600000">
              <a:off x="8007120" y="6440400"/>
              <a:ext cx="5688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53"/>
            <p:cNvSpPr/>
            <p:nvPr/>
          </p:nvSpPr>
          <p:spPr>
            <a:xfrm flipH="1" rot="18000000">
              <a:off x="8149320" y="6440400"/>
              <a:ext cx="5688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54"/>
            <p:cNvSpPr/>
            <p:nvPr/>
          </p:nvSpPr>
          <p:spPr>
            <a:xfrm>
              <a:off x="8072280" y="6462720"/>
              <a:ext cx="71640" cy="171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56"/>
            <p:cNvSpPr/>
            <p:nvPr/>
          </p:nvSpPr>
          <p:spPr>
            <a:xfrm rot="3600000">
              <a:off x="8294400" y="6440400"/>
              <a:ext cx="5688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57"/>
            <p:cNvSpPr/>
            <p:nvPr/>
          </p:nvSpPr>
          <p:spPr>
            <a:xfrm flipH="1" rot="18000000">
              <a:off x="8436600" y="6440400"/>
              <a:ext cx="56880" cy="21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58"/>
            <p:cNvSpPr/>
            <p:nvPr/>
          </p:nvSpPr>
          <p:spPr>
            <a:xfrm>
              <a:off x="8359920" y="6462720"/>
              <a:ext cx="71280" cy="171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59"/>
            <p:cNvSpPr/>
            <p:nvPr/>
          </p:nvSpPr>
          <p:spPr>
            <a:xfrm>
              <a:off x="8001000" y="6202440"/>
              <a:ext cx="216000" cy="284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60"/>
            <p:cNvSpPr/>
            <p:nvPr/>
          </p:nvSpPr>
          <p:spPr>
            <a:xfrm>
              <a:off x="8290080" y="6202440"/>
              <a:ext cx="215640" cy="284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61"/>
            <p:cNvSpPr/>
            <p:nvPr/>
          </p:nvSpPr>
          <p:spPr>
            <a:xfrm rot="15300000">
              <a:off x="8503200" y="5262840"/>
              <a:ext cx="576360" cy="11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62"/>
            <p:cNvSpPr/>
            <p:nvPr/>
          </p:nvSpPr>
          <p:spPr>
            <a:xfrm rot="17100000">
              <a:off x="7427880" y="5262120"/>
              <a:ext cx="576360" cy="1157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63"/>
            <p:cNvSpPr/>
            <p:nvPr/>
          </p:nvSpPr>
          <p:spPr>
            <a:xfrm>
              <a:off x="7713720" y="5192640"/>
              <a:ext cx="1079280" cy="122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66"/>
            <p:cNvSpPr/>
            <p:nvPr/>
          </p:nvSpPr>
          <p:spPr>
            <a:xfrm>
              <a:off x="7929720" y="5481720"/>
              <a:ext cx="215640" cy="21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68"/>
            <p:cNvSpPr/>
            <p:nvPr/>
          </p:nvSpPr>
          <p:spPr>
            <a:xfrm>
              <a:off x="8361360" y="5481720"/>
              <a:ext cx="216000" cy="215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グループ化 1"/>
          <p:cNvGrpSpPr/>
          <p:nvPr/>
        </p:nvGrpSpPr>
        <p:grpSpPr>
          <a:xfrm>
            <a:off x="272880" y="2781360"/>
            <a:ext cx="3940200" cy="1871640"/>
            <a:chOff x="272880" y="2781360"/>
            <a:chExt cx="3940200" cy="1871640"/>
          </a:xfrm>
        </p:grpSpPr>
        <p:sp>
          <p:nvSpPr>
            <p:cNvPr id="119" name="Oval 106"/>
            <p:cNvSpPr/>
            <p:nvPr/>
          </p:nvSpPr>
          <p:spPr>
            <a:xfrm>
              <a:off x="3205440" y="2781360"/>
              <a:ext cx="144360" cy="28872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07"/>
            <p:cNvSpPr/>
            <p:nvPr/>
          </p:nvSpPr>
          <p:spPr>
            <a:xfrm>
              <a:off x="3062520" y="2923920"/>
              <a:ext cx="431640" cy="28872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08"/>
            <p:cNvSpPr/>
            <p:nvPr/>
          </p:nvSpPr>
          <p:spPr>
            <a:xfrm>
              <a:off x="3494160" y="3141720"/>
              <a:ext cx="718920" cy="10796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09"/>
            <p:cNvSpPr/>
            <p:nvPr/>
          </p:nvSpPr>
          <p:spPr>
            <a:xfrm>
              <a:off x="2413080" y="3141720"/>
              <a:ext cx="718920" cy="10796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10"/>
            <p:cNvSpPr/>
            <p:nvPr/>
          </p:nvSpPr>
          <p:spPr>
            <a:xfrm>
              <a:off x="2629080" y="3068640"/>
              <a:ext cx="718920" cy="1225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11"/>
            <p:cNvSpPr/>
            <p:nvPr/>
          </p:nvSpPr>
          <p:spPr>
            <a:xfrm>
              <a:off x="3278160" y="3068640"/>
              <a:ext cx="718920" cy="1225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12"/>
            <p:cNvSpPr/>
            <p:nvPr/>
          </p:nvSpPr>
          <p:spPr>
            <a:xfrm>
              <a:off x="2917800" y="2997000"/>
              <a:ext cx="720360" cy="1368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3"/>
            <p:cNvSpPr/>
            <p:nvPr/>
          </p:nvSpPr>
          <p:spPr>
            <a:xfrm>
              <a:off x="3062520" y="3284640"/>
              <a:ext cx="431640" cy="43164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31"/>
            <p:cNvSpPr/>
            <p:nvPr/>
          </p:nvSpPr>
          <p:spPr>
            <a:xfrm>
              <a:off x="3710160" y="3357720"/>
              <a:ext cx="288720" cy="28872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2"/>
            <p:cNvSpPr/>
            <p:nvPr/>
          </p:nvSpPr>
          <p:spPr>
            <a:xfrm>
              <a:off x="2557440" y="3357720"/>
              <a:ext cx="288720" cy="28872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フリーフォーム 14"/>
            <p:cNvSpPr/>
            <p:nvPr/>
          </p:nvSpPr>
          <p:spPr>
            <a:xfrm flipH="1">
              <a:off x="272880" y="3467160"/>
              <a:ext cx="1908000" cy="1185840"/>
            </a:xfrm>
            <a:custGeom>
              <a:avLst/>
              <a:gdLst/>
              <a:ahLst/>
              <a:rect l="l" t="t" r="r" b="b"/>
              <a:pathLst>
                <a:path w="6886575" h="4648200">
                  <a:moveTo>
                    <a:pt x="4848225" y="381000"/>
                  </a:moveTo>
                  <a:lnTo>
                    <a:pt x="4371975" y="428625"/>
                  </a:lnTo>
                  <a:lnTo>
                    <a:pt x="3419475" y="438150"/>
                  </a:lnTo>
                  <a:lnTo>
                    <a:pt x="3295650" y="495300"/>
                  </a:lnTo>
                  <a:lnTo>
                    <a:pt x="3181350" y="581025"/>
                  </a:lnTo>
                  <a:lnTo>
                    <a:pt x="2933700" y="600075"/>
                  </a:lnTo>
                  <a:lnTo>
                    <a:pt x="2724150" y="571500"/>
                  </a:lnTo>
                  <a:lnTo>
                    <a:pt x="2628900" y="561975"/>
                  </a:lnTo>
                  <a:lnTo>
                    <a:pt x="2619375" y="609600"/>
                  </a:lnTo>
                  <a:lnTo>
                    <a:pt x="2419350" y="647700"/>
                  </a:lnTo>
                  <a:lnTo>
                    <a:pt x="2286000" y="647700"/>
                  </a:lnTo>
                  <a:lnTo>
                    <a:pt x="1838325" y="523875"/>
                  </a:lnTo>
                  <a:lnTo>
                    <a:pt x="1628775" y="552450"/>
                  </a:lnTo>
                  <a:lnTo>
                    <a:pt x="933450" y="704850"/>
                  </a:lnTo>
                  <a:lnTo>
                    <a:pt x="866775" y="819150"/>
                  </a:lnTo>
                  <a:lnTo>
                    <a:pt x="714375" y="942975"/>
                  </a:lnTo>
                  <a:lnTo>
                    <a:pt x="542925" y="1038225"/>
                  </a:lnTo>
                  <a:lnTo>
                    <a:pt x="285750" y="1628775"/>
                  </a:lnTo>
                  <a:lnTo>
                    <a:pt x="295275" y="1885950"/>
                  </a:lnTo>
                  <a:lnTo>
                    <a:pt x="161925" y="2238375"/>
                  </a:lnTo>
                  <a:lnTo>
                    <a:pt x="142875" y="2495550"/>
                  </a:lnTo>
                  <a:lnTo>
                    <a:pt x="104775" y="2657475"/>
                  </a:lnTo>
                  <a:lnTo>
                    <a:pt x="114300" y="2971800"/>
                  </a:lnTo>
                  <a:lnTo>
                    <a:pt x="85725" y="3419475"/>
                  </a:lnTo>
                  <a:lnTo>
                    <a:pt x="0" y="3629025"/>
                  </a:lnTo>
                  <a:lnTo>
                    <a:pt x="142875" y="3476625"/>
                  </a:lnTo>
                  <a:lnTo>
                    <a:pt x="133350" y="3609975"/>
                  </a:lnTo>
                  <a:lnTo>
                    <a:pt x="295275" y="3390900"/>
                  </a:lnTo>
                  <a:lnTo>
                    <a:pt x="304800" y="3600450"/>
                  </a:lnTo>
                  <a:lnTo>
                    <a:pt x="390525" y="3238500"/>
                  </a:lnTo>
                  <a:lnTo>
                    <a:pt x="428625" y="3400425"/>
                  </a:lnTo>
                  <a:lnTo>
                    <a:pt x="476250" y="2952750"/>
                  </a:lnTo>
                  <a:lnTo>
                    <a:pt x="590550" y="2571750"/>
                  </a:lnTo>
                  <a:lnTo>
                    <a:pt x="657225" y="2171700"/>
                  </a:lnTo>
                  <a:lnTo>
                    <a:pt x="685800" y="1828800"/>
                  </a:lnTo>
                  <a:lnTo>
                    <a:pt x="685800" y="1685925"/>
                  </a:lnTo>
                  <a:lnTo>
                    <a:pt x="781050" y="1952625"/>
                  </a:lnTo>
                  <a:lnTo>
                    <a:pt x="762000" y="1685925"/>
                  </a:lnTo>
                  <a:lnTo>
                    <a:pt x="933450" y="2124075"/>
                  </a:lnTo>
                  <a:lnTo>
                    <a:pt x="1038225" y="2257425"/>
                  </a:lnTo>
                  <a:lnTo>
                    <a:pt x="933450" y="2428875"/>
                  </a:lnTo>
                  <a:lnTo>
                    <a:pt x="790575" y="2600325"/>
                  </a:lnTo>
                  <a:lnTo>
                    <a:pt x="676275" y="2686050"/>
                  </a:lnTo>
                  <a:lnTo>
                    <a:pt x="609600" y="2781300"/>
                  </a:lnTo>
                  <a:lnTo>
                    <a:pt x="628650" y="3228975"/>
                  </a:lnTo>
                  <a:lnTo>
                    <a:pt x="657225" y="3457575"/>
                  </a:lnTo>
                  <a:lnTo>
                    <a:pt x="695325" y="3629025"/>
                  </a:lnTo>
                  <a:lnTo>
                    <a:pt x="647700" y="3752850"/>
                  </a:lnTo>
                  <a:lnTo>
                    <a:pt x="628650" y="3838575"/>
                  </a:lnTo>
                  <a:lnTo>
                    <a:pt x="552450" y="3981450"/>
                  </a:lnTo>
                  <a:lnTo>
                    <a:pt x="495300" y="3914775"/>
                  </a:lnTo>
                  <a:lnTo>
                    <a:pt x="352425" y="3933825"/>
                  </a:lnTo>
                  <a:lnTo>
                    <a:pt x="238125" y="4219575"/>
                  </a:lnTo>
                  <a:lnTo>
                    <a:pt x="438150" y="4200525"/>
                  </a:lnTo>
                  <a:lnTo>
                    <a:pt x="523875" y="4124325"/>
                  </a:lnTo>
                  <a:lnTo>
                    <a:pt x="742950" y="3990975"/>
                  </a:lnTo>
                  <a:lnTo>
                    <a:pt x="847725" y="3943350"/>
                  </a:lnTo>
                  <a:lnTo>
                    <a:pt x="866775" y="3771900"/>
                  </a:lnTo>
                  <a:lnTo>
                    <a:pt x="857250" y="3143250"/>
                  </a:lnTo>
                  <a:lnTo>
                    <a:pt x="885825" y="3048000"/>
                  </a:lnTo>
                  <a:lnTo>
                    <a:pt x="1085850" y="2800350"/>
                  </a:lnTo>
                  <a:lnTo>
                    <a:pt x="1038225" y="3057525"/>
                  </a:lnTo>
                  <a:lnTo>
                    <a:pt x="990600" y="3200400"/>
                  </a:lnTo>
                  <a:lnTo>
                    <a:pt x="1162050" y="3562350"/>
                  </a:lnTo>
                  <a:lnTo>
                    <a:pt x="1390650" y="4057650"/>
                  </a:lnTo>
                  <a:lnTo>
                    <a:pt x="1447800" y="4295775"/>
                  </a:lnTo>
                  <a:lnTo>
                    <a:pt x="1590675" y="4381500"/>
                  </a:lnTo>
                  <a:lnTo>
                    <a:pt x="1685925" y="4467225"/>
                  </a:lnTo>
                  <a:lnTo>
                    <a:pt x="1676400" y="4552950"/>
                  </a:lnTo>
                  <a:lnTo>
                    <a:pt x="1752600" y="4648200"/>
                  </a:lnTo>
                  <a:lnTo>
                    <a:pt x="1933575" y="4638675"/>
                  </a:lnTo>
                  <a:lnTo>
                    <a:pt x="2085975" y="4562475"/>
                  </a:lnTo>
                  <a:lnTo>
                    <a:pt x="1943100" y="4381500"/>
                  </a:lnTo>
                  <a:lnTo>
                    <a:pt x="1781175" y="4314825"/>
                  </a:lnTo>
                  <a:lnTo>
                    <a:pt x="1628775" y="4067175"/>
                  </a:lnTo>
                  <a:lnTo>
                    <a:pt x="1400175" y="3552825"/>
                  </a:lnTo>
                  <a:lnTo>
                    <a:pt x="1371600" y="3362325"/>
                  </a:lnTo>
                  <a:lnTo>
                    <a:pt x="1438275" y="3038475"/>
                  </a:lnTo>
                  <a:lnTo>
                    <a:pt x="1552575" y="2762250"/>
                  </a:lnTo>
                  <a:lnTo>
                    <a:pt x="1790700" y="2171700"/>
                  </a:lnTo>
                  <a:lnTo>
                    <a:pt x="1895475" y="2152650"/>
                  </a:lnTo>
                  <a:lnTo>
                    <a:pt x="1962150" y="2038350"/>
                  </a:lnTo>
                  <a:lnTo>
                    <a:pt x="2019300" y="1905000"/>
                  </a:lnTo>
                  <a:lnTo>
                    <a:pt x="2114550" y="1914525"/>
                  </a:lnTo>
                  <a:lnTo>
                    <a:pt x="2600325" y="2143125"/>
                  </a:lnTo>
                  <a:lnTo>
                    <a:pt x="2990850" y="2238375"/>
                  </a:lnTo>
                  <a:lnTo>
                    <a:pt x="3352800" y="2238375"/>
                  </a:lnTo>
                  <a:lnTo>
                    <a:pt x="3457575" y="2247900"/>
                  </a:lnTo>
                  <a:lnTo>
                    <a:pt x="3505200" y="2266950"/>
                  </a:lnTo>
                  <a:lnTo>
                    <a:pt x="3676650" y="2257425"/>
                  </a:lnTo>
                  <a:lnTo>
                    <a:pt x="3800475" y="2343150"/>
                  </a:lnTo>
                  <a:lnTo>
                    <a:pt x="3571875" y="3152775"/>
                  </a:lnTo>
                  <a:lnTo>
                    <a:pt x="3590925" y="3286125"/>
                  </a:lnTo>
                  <a:lnTo>
                    <a:pt x="3381375" y="3790950"/>
                  </a:lnTo>
                  <a:lnTo>
                    <a:pt x="3352800" y="3971925"/>
                  </a:lnTo>
                  <a:lnTo>
                    <a:pt x="3457575" y="4143375"/>
                  </a:lnTo>
                  <a:lnTo>
                    <a:pt x="3467100" y="4229100"/>
                  </a:lnTo>
                  <a:lnTo>
                    <a:pt x="3438525" y="4371975"/>
                  </a:lnTo>
                  <a:lnTo>
                    <a:pt x="3609975" y="4467225"/>
                  </a:lnTo>
                  <a:lnTo>
                    <a:pt x="3724275" y="4448175"/>
                  </a:lnTo>
                  <a:lnTo>
                    <a:pt x="3810000" y="4371975"/>
                  </a:lnTo>
                  <a:lnTo>
                    <a:pt x="3667125" y="4200525"/>
                  </a:lnTo>
                  <a:lnTo>
                    <a:pt x="3638550" y="4162425"/>
                  </a:lnTo>
                  <a:lnTo>
                    <a:pt x="3600450" y="3924300"/>
                  </a:lnTo>
                  <a:lnTo>
                    <a:pt x="3648075" y="3657600"/>
                  </a:lnTo>
                  <a:lnTo>
                    <a:pt x="3714750" y="3429000"/>
                  </a:lnTo>
                  <a:lnTo>
                    <a:pt x="3800475" y="3381375"/>
                  </a:lnTo>
                  <a:lnTo>
                    <a:pt x="4029075" y="2809875"/>
                  </a:lnTo>
                  <a:lnTo>
                    <a:pt x="4286250" y="2362200"/>
                  </a:lnTo>
                  <a:lnTo>
                    <a:pt x="4362450" y="2457450"/>
                  </a:lnTo>
                  <a:lnTo>
                    <a:pt x="4524375" y="2543175"/>
                  </a:lnTo>
                  <a:lnTo>
                    <a:pt x="4657725" y="2695575"/>
                  </a:lnTo>
                  <a:lnTo>
                    <a:pt x="5000625" y="3105150"/>
                  </a:lnTo>
                  <a:lnTo>
                    <a:pt x="5114925" y="3248025"/>
                  </a:lnTo>
                  <a:lnTo>
                    <a:pt x="5162550" y="3343275"/>
                  </a:lnTo>
                  <a:lnTo>
                    <a:pt x="5286375" y="3495675"/>
                  </a:lnTo>
                  <a:lnTo>
                    <a:pt x="5448300" y="3771900"/>
                  </a:lnTo>
                  <a:lnTo>
                    <a:pt x="5524500" y="4057650"/>
                  </a:lnTo>
                  <a:lnTo>
                    <a:pt x="5629275" y="4152900"/>
                  </a:lnTo>
                  <a:lnTo>
                    <a:pt x="5753100" y="4267200"/>
                  </a:lnTo>
                  <a:lnTo>
                    <a:pt x="5743575" y="4352925"/>
                  </a:lnTo>
                  <a:lnTo>
                    <a:pt x="5734050" y="4448175"/>
                  </a:lnTo>
                  <a:lnTo>
                    <a:pt x="5857875" y="4543425"/>
                  </a:lnTo>
                  <a:lnTo>
                    <a:pt x="6115050" y="4562475"/>
                  </a:lnTo>
                  <a:lnTo>
                    <a:pt x="6153150" y="4533900"/>
                  </a:lnTo>
                  <a:lnTo>
                    <a:pt x="6076950" y="4314825"/>
                  </a:lnTo>
                  <a:lnTo>
                    <a:pt x="5972175" y="4238625"/>
                  </a:lnTo>
                  <a:lnTo>
                    <a:pt x="5943600" y="4152900"/>
                  </a:lnTo>
                  <a:lnTo>
                    <a:pt x="5743575" y="3990975"/>
                  </a:lnTo>
                  <a:lnTo>
                    <a:pt x="5495925" y="3467100"/>
                  </a:lnTo>
                  <a:lnTo>
                    <a:pt x="5486400" y="3343275"/>
                  </a:lnTo>
                  <a:lnTo>
                    <a:pt x="5143500" y="2733675"/>
                  </a:lnTo>
                  <a:lnTo>
                    <a:pt x="4943475" y="2219325"/>
                  </a:lnTo>
                  <a:lnTo>
                    <a:pt x="5076825" y="1952625"/>
                  </a:lnTo>
                  <a:lnTo>
                    <a:pt x="5143500" y="1600200"/>
                  </a:lnTo>
                  <a:lnTo>
                    <a:pt x="5334000" y="1333500"/>
                  </a:lnTo>
                  <a:lnTo>
                    <a:pt x="5762625" y="1009650"/>
                  </a:lnTo>
                  <a:lnTo>
                    <a:pt x="5924550" y="971550"/>
                  </a:lnTo>
                  <a:lnTo>
                    <a:pt x="6057900" y="1057275"/>
                  </a:lnTo>
                  <a:lnTo>
                    <a:pt x="6181725" y="1238250"/>
                  </a:lnTo>
                  <a:lnTo>
                    <a:pt x="6257925" y="1457325"/>
                  </a:lnTo>
                  <a:lnTo>
                    <a:pt x="6305550" y="1562100"/>
                  </a:lnTo>
                  <a:lnTo>
                    <a:pt x="6296025" y="1628775"/>
                  </a:lnTo>
                  <a:lnTo>
                    <a:pt x="6276975" y="1724025"/>
                  </a:lnTo>
                  <a:lnTo>
                    <a:pt x="6391275" y="1838325"/>
                  </a:lnTo>
                  <a:lnTo>
                    <a:pt x="6429375" y="1819275"/>
                  </a:lnTo>
                  <a:lnTo>
                    <a:pt x="6486526" y="1749420"/>
                  </a:lnTo>
                  <a:lnTo>
                    <a:pt x="6505575" y="1752600"/>
                  </a:lnTo>
                  <a:lnTo>
                    <a:pt x="6524625" y="1828800"/>
                  </a:lnTo>
                  <a:lnTo>
                    <a:pt x="6667500" y="1847850"/>
                  </a:lnTo>
                  <a:lnTo>
                    <a:pt x="6810375" y="1781175"/>
                  </a:lnTo>
                  <a:lnTo>
                    <a:pt x="6819900" y="1704975"/>
                  </a:lnTo>
                  <a:lnTo>
                    <a:pt x="6829425" y="1371600"/>
                  </a:lnTo>
                  <a:lnTo>
                    <a:pt x="6858000" y="1295400"/>
                  </a:lnTo>
                  <a:lnTo>
                    <a:pt x="6819900" y="1257300"/>
                  </a:lnTo>
                  <a:lnTo>
                    <a:pt x="6819900" y="1219200"/>
                  </a:lnTo>
                  <a:lnTo>
                    <a:pt x="6886575" y="1152525"/>
                  </a:lnTo>
                  <a:lnTo>
                    <a:pt x="6877050" y="895350"/>
                  </a:lnTo>
                  <a:lnTo>
                    <a:pt x="6829425" y="485775"/>
                  </a:lnTo>
                  <a:lnTo>
                    <a:pt x="6781800" y="352425"/>
                  </a:lnTo>
                  <a:lnTo>
                    <a:pt x="6867525" y="209550"/>
                  </a:lnTo>
                  <a:lnTo>
                    <a:pt x="6819900" y="200025"/>
                  </a:lnTo>
                  <a:lnTo>
                    <a:pt x="6886575" y="0"/>
                  </a:lnTo>
                  <a:lnTo>
                    <a:pt x="6648450" y="238125"/>
                  </a:lnTo>
                  <a:lnTo>
                    <a:pt x="6486525" y="200025"/>
                  </a:lnTo>
                  <a:lnTo>
                    <a:pt x="6400800" y="200025"/>
                  </a:lnTo>
                  <a:lnTo>
                    <a:pt x="6315075" y="161925"/>
                  </a:lnTo>
                  <a:lnTo>
                    <a:pt x="6210300" y="171450"/>
                  </a:lnTo>
                  <a:lnTo>
                    <a:pt x="6067425" y="152400"/>
                  </a:lnTo>
                  <a:lnTo>
                    <a:pt x="6029325" y="161925"/>
                  </a:lnTo>
                  <a:lnTo>
                    <a:pt x="5981700" y="161925"/>
                  </a:lnTo>
                  <a:lnTo>
                    <a:pt x="5857875" y="180975"/>
                  </a:lnTo>
                  <a:lnTo>
                    <a:pt x="5638800" y="219075"/>
                  </a:lnTo>
                  <a:lnTo>
                    <a:pt x="5600700" y="219075"/>
                  </a:lnTo>
                  <a:lnTo>
                    <a:pt x="5486400" y="238125"/>
                  </a:lnTo>
                  <a:lnTo>
                    <a:pt x="5324475" y="219075"/>
                  </a:lnTo>
                  <a:lnTo>
                    <a:pt x="5257800" y="276225"/>
                  </a:lnTo>
                  <a:lnTo>
                    <a:pt x="5095875" y="314325"/>
                  </a:lnTo>
                  <a:lnTo>
                    <a:pt x="4848225" y="381000"/>
                  </a:ln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正方形/長方形 15"/>
            <p:cNvSpPr/>
            <p:nvPr/>
          </p:nvSpPr>
          <p:spPr>
            <a:xfrm>
              <a:off x="828000" y="3848040"/>
              <a:ext cx="2304000" cy="1036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25"/>
            <p:cNvSpPr/>
            <p:nvPr/>
          </p:nvSpPr>
          <p:spPr>
            <a:xfrm>
              <a:off x="3212640" y="3716280"/>
              <a:ext cx="142560" cy="8650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26"/>
            <p:cNvSpPr/>
            <p:nvPr/>
          </p:nvSpPr>
          <p:spPr>
            <a:xfrm rot="5400000">
              <a:off x="3213720" y="3714480"/>
              <a:ext cx="142560" cy="8650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27"/>
            <p:cNvSpPr/>
            <p:nvPr/>
          </p:nvSpPr>
          <p:spPr>
            <a:xfrm rot="2700000">
              <a:off x="3210840" y="3718080"/>
              <a:ext cx="142560" cy="8650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28"/>
            <p:cNvSpPr/>
            <p:nvPr/>
          </p:nvSpPr>
          <p:spPr>
            <a:xfrm rot="8100000">
              <a:off x="3212280" y="3715560"/>
              <a:ext cx="142560" cy="8650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9"/>
            <p:cNvSpPr/>
            <p:nvPr/>
          </p:nvSpPr>
          <p:spPr>
            <a:xfrm>
              <a:off x="2779200" y="3645000"/>
              <a:ext cx="1007640" cy="1008000"/>
            </a:xfrm>
            <a:custGeom>
              <a:avLst/>
              <a:gdLst>
                <a:gd name="textAreaLeft" fmla="*/ 147600 w 1007640"/>
                <a:gd name="textAreaRight" fmla="*/ 860040 w 1007640"/>
                <a:gd name="textAreaTop" fmla="*/ 147600 h 1008000"/>
                <a:gd name="textAreaBottom" fmla="*/ 8604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687" y="10800"/>
                  </a:moveTo>
                  <a:cubicBezTo>
                    <a:pt x="2687" y="15281"/>
                    <a:pt x="6319" y="18913"/>
                    <a:pt x="10800" y="18913"/>
                  </a:cubicBezTo>
                  <a:cubicBezTo>
                    <a:pt x="15281" y="18913"/>
                    <a:pt x="18913" y="15281"/>
                    <a:pt x="18913" y="10800"/>
                  </a:cubicBezTo>
                  <a:cubicBezTo>
                    <a:pt x="18913" y="6319"/>
                    <a:pt x="15281" y="2687"/>
                    <a:pt x="10800" y="2687"/>
                  </a:cubicBezTo>
                  <a:cubicBezTo>
                    <a:pt x="6319" y="2687"/>
                    <a:pt x="2687" y="6319"/>
                    <a:pt x="2687" y="10800"/>
                  </a:cubicBezTo>
                  <a:close/>
                </a:path>
              </a:pathLst>
            </a:custGeom>
            <a:solidFill>
              <a:srgbClr val="ff99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0"/>
            <p:cNvSpPr/>
            <p:nvPr/>
          </p:nvSpPr>
          <p:spPr>
            <a:xfrm>
              <a:off x="3139560" y="4005360"/>
              <a:ext cx="288720" cy="28872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グループ化 2"/>
          <p:cNvGrpSpPr/>
          <p:nvPr/>
        </p:nvGrpSpPr>
        <p:grpSpPr>
          <a:xfrm>
            <a:off x="272520" y="4724280"/>
            <a:ext cx="3942360" cy="1871640"/>
            <a:chOff x="272520" y="4724280"/>
            <a:chExt cx="3942360" cy="1871640"/>
          </a:xfrm>
        </p:grpSpPr>
        <p:sp>
          <p:nvSpPr>
            <p:cNvPr id="138" name="Oval 106"/>
            <p:cNvSpPr/>
            <p:nvPr/>
          </p:nvSpPr>
          <p:spPr>
            <a:xfrm>
              <a:off x="3206880" y="4724280"/>
              <a:ext cx="144360" cy="28872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07"/>
            <p:cNvSpPr/>
            <p:nvPr/>
          </p:nvSpPr>
          <p:spPr>
            <a:xfrm>
              <a:off x="3063960" y="4866840"/>
              <a:ext cx="431640" cy="28872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08"/>
            <p:cNvSpPr/>
            <p:nvPr/>
          </p:nvSpPr>
          <p:spPr>
            <a:xfrm>
              <a:off x="3495960" y="5084640"/>
              <a:ext cx="718920" cy="10796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09"/>
            <p:cNvSpPr/>
            <p:nvPr/>
          </p:nvSpPr>
          <p:spPr>
            <a:xfrm>
              <a:off x="2414520" y="5084640"/>
              <a:ext cx="718920" cy="10796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10"/>
            <p:cNvSpPr/>
            <p:nvPr/>
          </p:nvSpPr>
          <p:spPr>
            <a:xfrm>
              <a:off x="2630520" y="5011560"/>
              <a:ext cx="718920" cy="12254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11"/>
            <p:cNvSpPr/>
            <p:nvPr/>
          </p:nvSpPr>
          <p:spPr>
            <a:xfrm>
              <a:off x="3279960" y="5011560"/>
              <a:ext cx="718920" cy="12254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12"/>
            <p:cNvSpPr/>
            <p:nvPr/>
          </p:nvSpPr>
          <p:spPr>
            <a:xfrm>
              <a:off x="2919600" y="4939920"/>
              <a:ext cx="720720" cy="13683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23"/>
            <p:cNvSpPr/>
            <p:nvPr/>
          </p:nvSpPr>
          <p:spPr>
            <a:xfrm>
              <a:off x="3063600" y="5227560"/>
              <a:ext cx="43164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31"/>
            <p:cNvSpPr/>
            <p:nvPr/>
          </p:nvSpPr>
          <p:spPr>
            <a:xfrm>
              <a:off x="3711600" y="5300640"/>
              <a:ext cx="288720" cy="28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32"/>
            <p:cNvSpPr/>
            <p:nvPr/>
          </p:nvSpPr>
          <p:spPr>
            <a:xfrm>
              <a:off x="2558520" y="5300640"/>
              <a:ext cx="288720" cy="288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フリーフォーム 44"/>
            <p:cNvSpPr/>
            <p:nvPr/>
          </p:nvSpPr>
          <p:spPr>
            <a:xfrm flipH="1">
              <a:off x="272160" y="5410080"/>
              <a:ext cx="1908360" cy="1185840"/>
            </a:xfrm>
            <a:custGeom>
              <a:avLst/>
              <a:gdLst/>
              <a:ahLst/>
              <a:rect l="l" t="t" r="r" b="b"/>
              <a:pathLst>
                <a:path w="6886575" h="4648200">
                  <a:moveTo>
                    <a:pt x="4848225" y="381000"/>
                  </a:moveTo>
                  <a:lnTo>
                    <a:pt x="4371975" y="428625"/>
                  </a:lnTo>
                  <a:lnTo>
                    <a:pt x="3419475" y="438150"/>
                  </a:lnTo>
                  <a:lnTo>
                    <a:pt x="3295650" y="495300"/>
                  </a:lnTo>
                  <a:lnTo>
                    <a:pt x="3181350" y="581025"/>
                  </a:lnTo>
                  <a:lnTo>
                    <a:pt x="2933700" y="600075"/>
                  </a:lnTo>
                  <a:lnTo>
                    <a:pt x="2724150" y="571500"/>
                  </a:lnTo>
                  <a:lnTo>
                    <a:pt x="2628900" y="561975"/>
                  </a:lnTo>
                  <a:lnTo>
                    <a:pt x="2619375" y="609600"/>
                  </a:lnTo>
                  <a:lnTo>
                    <a:pt x="2419350" y="647700"/>
                  </a:lnTo>
                  <a:lnTo>
                    <a:pt x="2286000" y="647700"/>
                  </a:lnTo>
                  <a:lnTo>
                    <a:pt x="1838325" y="523875"/>
                  </a:lnTo>
                  <a:lnTo>
                    <a:pt x="1628775" y="552450"/>
                  </a:lnTo>
                  <a:lnTo>
                    <a:pt x="933450" y="704850"/>
                  </a:lnTo>
                  <a:lnTo>
                    <a:pt x="866775" y="819150"/>
                  </a:lnTo>
                  <a:lnTo>
                    <a:pt x="714375" y="942975"/>
                  </a:lnTo>
                  <a:lnTo>
                    <a:pt x="542925" y="1038225"/>
                  </a:lnTo>
                  <a:lnTo>
                    <a:pt x="285750" y="1628775"/>
                  </a:lnTo>
                  <a:lnTo>
                    <a:pt x="295275" y="1885950"/>
                  </a:lnTo>
                  <a:lnTo>
                    <a:pt x="161925" y="2238375"/>
                  </a:lnTo>
                  <a:lnTo>
                    <a:pt x="142875" y="2495550"/>
                  </a:lnTo>
                  <a:lnTo>
                    <a:pt x="104775" y="2657475"/>
                  </a:lnTo>
                  <a:lnTo>
                    <a:pt x="114300" y="2971800"/>
                  </a:lnTo>
                  <a:lnTo>
                    <a:pt x="114300" y="2971800"/>
                  </a:lnTo>
                  <a:lnTo>
                    <a:pt x="85725" y="3419475"/>
                  </a:lnTo>
                  <a:lnTo>
                    <a:pt x="0" y="3629025"/>
                  </a:lnTo>
                  <a:lnTo>
                    <a:pt x="142875" y="3476625"/>
                  </a:lnTo>
                  <a:lnTo>
                    <a:pt x="133350" y="3609975"/>
                  </a:lnTo>
                  <a:lnTo>
                    <a:pt x="295275" y="3390900"/>
                  </a:lnTo>
                  <a:lnTo>
                    <a:pt x="304800" y="3600450"/>
                  </a:lnTo>
                  <a:lnTo>
                    <a:pt x="390525" y="3238500"/>
                  </a:lnTo>
                  <a:lnTo>
                    <a:pt x="428625" y="3400425"/>
                  </a:lnTo>
                  <a:lnTo>
                    <a:pt x="476250" y="2952750"/>
                  </a:lnTo>
                  <a:lnTo>
                    <a:pt x="590550" y="2571750"/>
                  </a:lnTo>
                  <a:lnTo>
                    <a:pt x="657225" y="2171700"/>
                  </a:lnTo>
                  <a:lnTo>
                    <a:pt x="685800" y="1828800"/>
                  </a:lnTo>
                  <a:lnTo>
                    <a:pt x="685800" y="1685925"/>
                  </a:lnTo>
                  <a:lnTo>
                    <a:pt x="781050" y="1952625"/>
                  </a:lnTo>
                  <a:lnTo>
                    <a:pt x="762000" y="1685925"/>
                  </a:lnTo>
                  <a:lnTo>
                    <a:pt x="933450" y="2124075"/>
                  </a:lnTo>
                  <a:lnTo>
                    <a:pt x="1038225" y="2257425"/>
                  </a:lnTo>
                  <a:lnTo>
                    <a:pt x="933450" y="2428875"/>
                  </a:lnTo>
                  <a:lnTo>
                    <a:pt x="790575" y="2600325"/>
                  </a:lnTo>
                  <a:lnTo>
                    <a:pt x="676275" y="2686050"/>
                  </a:lnTo>
                  <a:lnTo>
                    <a:pt x="609600" y="2781300"/>
                  </a:lnTo>
                  <a:lnTo>
                    <a:pt x="628650" y="3228975"/>
                  </a:lnTo>
                  <a:lnTo>
                    <a:pt x="657225" y="3457575"/>
                  </a:lnTo>
                  <a:lnTo>
                    <a:pt x="695325" y="3629025"/>
                  </a:lnTo>
                  <a:lnTo>
                    <a:pt x="647700" y="3752850"/>
                  </a:lnTo>
                  <a:lnTo>
                    <a:pt x="628650" y="3838575"/>
                  </a:lnTo>
                  <a:lnTo>
                    <a:pt x="552450" y="3981450"/>
                  </a:lnTo>
                  <a:lnTo>
                    <a:pt x="495300" y="3914775"/>
                  </a:lnTo>
                  <a:lnTo>
                    <a:pt x="352425" y="3933825"/>
                  </a:lnTo>
                  <a:lnTo>
                    <a:pt x="238125" y="4219575"/>
                  </a:lnTo>
                  <a:lnTo>
                    <a:pt x="438150" y="4200525"/>
                  </a:lnTo>
                  <a:lnTo>
                    <a:pt x="523875" y="4124325"/>
                  </a:lnTo>
                  <a:lnTo>
                    <a:pt x="742950" y="3990975"/>
                  </a:lnTo>
                  <a:lnTo>
                    <a:pt x="847725" y="3943350"/>
                  </a:lnTo>
                  <a:lnTo>
                    <a:pt x="866775" y="3771900"/>
                  </a:lnTo>
                  <a:lnTo>
                    <a:pt x="857250" y="3143250"/>
                  </a:lnTo>
                  <a:lnTo>
                    <a:pt x="885825" y="3048000"/>
                  </a:lnTo>
                  <a:lnTo>
                    <a:pt x="1085850" y="2800350"/>
                  </a:lnTo>
                  <a:lnTo>
                    <a:pt x="1038225" y="3057525"/>
                  </a:lnTo>
                  <a:lnTo>
                    <a:pt x="990600" y="3200400"/>
                  </a:lnTo>
                  <a:lnTo>
                    <a:pt x="1162050" y="3562350"/>
                  </a:lnTo>
                  <a:lnTo>
                    <a:pt x="1390650" y="4057650"/>
                  </a:lnTo>
                  <a:lnTo>
                    <a:pt x="1447800" y="4295775"/>
                  </a:lnTo>
                  <a:lnTo>
                    <a:pt x="1590675" y="4381500"/>
                  </a:lnTo>
                  <a:lnTo>
                    <a:pt x="1685925" y="4467225"/>
                  </a:lnTo>
                  <a:lnTo>
                    <a:pt x="1676400" y="4552950"/>
                  </a:lnTo>
                  <a:lnTo>
                    <a:pt x="1752600" y="4648200"/>
                  </a:lnTo>
                  <a:lnTo>
                    <a:pt x="1933575" y="4638675"/>
                  </a:lnTo>
                  <a:lnTo>
                    <a:pt x="2085975" y="4562475"/>
                  </a:lnTo>
                  <a:lnTo>
                    <a:pt x="1943100" y="4381500"/>
                  </a:lnTo>
                  <a:lnTo>
                    <a:pt x="1781175" y="4314825"/>
                  </a:lnTo>
                  <a:lnTo>
                    <a:pt x="1628775" y="4067175"/>
                  </a:lnTo>
                  <a:lnTo>
                    <a:pt x="1400175" y="3552825"/>
                  </a:lnTo>
                  <a:lnTo>
                    <a:pt x="1371600" y="3362325"/>
                  </a:lnTo>
                  <a:lnTo>
                    <a:pt x="1438275" y="3038475"/>
                  </a:lnTo>
                  <a:lnTo>
                    <a:pt x="1552575" y="2762250"/>
                  </a:lnTo>
                  <a:lnTo>
                    <a:pt x="1790700" y="2171700"/>
                  </a:lnTo>
                  <a:lnTo>
                    <a:pt x="1895475" y="2152650"/>
                  </a:lnTo>
                  <a:lnTo>
                    <a:pt x="1962150" y="2038350"/>
                  </a:lnTo>
                  <a:lnTo>
                    <a:pt x="2019300" y="1905000"/>
                  </a:lnTo>
                  <a:lnTo>
                    <a:pt x="2114550" y="1914525"/>
                  </a:lnTo>
                  <a:lnTo>
                    <a:pt x="2600325" y="2143125"/>
                  </a:lnTo>
                  <a:lnTo>
                    <a:pt x="2990850" y="2238375"/>
                  </a:lnTo>
                  <a:lnTo>
                    <a:pt x="3352800" y="2238375"/>
                  </a:lnTo>
                  <a:lnTo>
                    <a:pt x="3457575" y="2247900"/>
                  </a:lnTo>
                  <a:lnTo>
                    <a:pt x="3505200" y="2266950"/>
                  </a:lnTo>
                  <a:lnTo>
                    <a:pt x="3676650" y="2257425"/>
                  </a:lnTo>
                  <a:lnTo>
                    <a:pt x="3800475" y="2343150"/>
                  </a:lnTo>
                  <a:lnTo>
                    <a:pt x="3571875" y="3152775"/>
                  </a:lnTo>
                  <a:lnTo>
                    <a:pt x="3590925" y="3286125"/>
                  </a:lnTo>
                  <a:lnTo>
                    <a:pt x="3381375" y="3790950"/>
                  </a:lnTo>
                  <a:lnTo>
                    <a:pt x="3352800" y="3971925"/>
                  </a:lnTo>
                  <a:lnTo>
                    <a:pt x="3457575" y="4143375"/>
                  </a:lnTo>
                  <a:lnTo>
                    <a:pt x="3467100" y="4229100"/>
                  </a:lnTo>
                  <a:lnTo>
                    <a:pt x="3438525" y="4371975"/>
                  </a:lnTo>
                  <a:lnTo>
                    <a:pt x="3609975" y="4467225"/>
                  </a:lnTo>
                  <a:lnTo>
                    <a:pt x="3724275" y="4448175"/>
                  </a:lnTo>
                  <a:lnTo>
                    <a:pt x="3810000" y="4371975"/>
                  </a:lnTo>
                  <a:lnTo>
                    <a:pt x="3667125" y="4200525"/>
                  </a:lnTo>
                  <a:lnTo>
                    <a:pt x="3638550" y="4162425"/>
                  </a:lnTo>
                  <a:lnTo>
                    <a:pt x="3600450" y="3924300"/>
                  </a:lnTo>
                  <a:lnTo>
                    <a:pt x="3648075" y="3657600"/>
                  </a:lnTo>
                  <a:lnTo>
                    <a:pt x="3714750" y="3429000"/>
                  </a:lnTo>
                  <a:lnTo>
                    <a:pt x="3800475" y="3381375"/>
                  </a:lnTo>
                  <a:lnTo>
                    <a:pt x="4029075" y="2809875"/>
                  </a:lnTo>
                  <a:lnTo>
                    <a:pt x="4286250" y="2362200"/>
                  </a:lnTo>
                  <a:lnTo>
                    <a:pt x="4362450" y="2457450"/>
                  </a:lnTo>
                  <a:lnTo>
                    <a:pt x="4524375" y="2543175"/>
                  </a:lnTo>
                  <a:lnTo>
                    <a:pt x="4657725" y="2695575"/>
                  </a:lnTo>
                  <a:lnTo>
                    <a:pt x="5000625" y="3105150"/>
                  </a:lnTo>
                  <a:lnTo>
                    <a:pt x="5114925" y="3248025"/>
                  </a:lnTo>
                  <a:lnTo>
                    <a:pt x="5162550" y="3343275"/>
                  </a:lnTo>
                  <a:lnTo>
                    <a:pt x="5286375" y="3495675"/>
                  </a:lnTo>
                  <a:lnTo>
                    <a:pt x="5448300" y="3771900"/>
                  </a:lnTo>
                  <a:lnTo>
                    <a:pt x="5524500" y="4057650"/>
                  </a:lnTo>
                  <a:lnTo>
                    <a:pt x="5629275" y="4152900"/>
                  </a:lnTo>
                  <a:lnTo>
                    <a:pt x="5753100" y="4267200"/>
                  </a:lnTo>
                  <a:lnTo>
                    <a:pt x="5743575" y="4352925"/>
                  </a:lnTo>
                  <a:lnTo>
                    <a:pt x="5734050" y="4448175"/>
                  </a:lnTo>
                  <a:lnTo>
                    <a:pt x="5857875" y="4543425"/>
                  </a:lnTo>
                  <a:lnTo>
                    <a:pt x="6115050" y="4562475"/>
                  </a:lnTo>
                  <a:lnTo>
                    <a:pt x="6153150" y="4533900"/>
                  </a:lnTo>
                  <a:lnTo>
                    <a:pt x="6076950" y="4314825"/>
                  </a:lnTo>
                  <a:lnTo>
                    <a:pt x="5972175" y="4238625"/>
                  </a:lnTo>
                  <a:lnTo>
                    <a:pt x="5943600" y="4152900"/>
                  </a:lnTo>
                  <a:lnTo>
                    <a:pt x="5743575" y="3990975"/>
                  </a:lnTo>
                  <a:lnTo>
                    <a:pt x="5495925" y="3467100"/>
                  </a:lnTo>
                  <a:lnTo>
                    <a:pt x="5486400" y="3343275"/>
                  </a:lnTo>
                  <a:lnTo>
                    <a:pt x="5143500" y="2733675"/>
                  </a:lnTo>
                  <a:lnTo>
                    <a:pt x="4943475" y="2219325"/>
                  </a:lnTo>
                  <a:lnTo>
                    <a:pt x="5076825" y="1952625"/>
                  </a:lnTo>
                  <a:lnTo>
                    <a:pt x="5143500" y="1600200"/>
                  </a:lnTo>
                  <a:lnTo>
                    <a:pt x="5334000" y="1333500"/>
                  </a:lnTo>
                  <a:lnTo>
                    <a:pt x="5762625" y="1009650"/>
                  </a:lnTo>
                  <a:lnTo>
                    <a:pt x="5924550" y="971550"/>
                  </a:lnTo>
                  <a:lnTo>
                    <a:pt x="6057900" y="1057275"/>
                  </a:lnTo>
                  <a:lnTo>
                    <a:pt x="6181725" y="1238250"/>
                  </a:lnTo>
                  <a:lnTo>
                    <a:pt x="6257925" y="1457325"/>
                  </a:lnTo>
                  <a:lnTo>
                    <a:pt x="6305550" y="1562100"/>
                  </a:lnTo>
                  <a:lnTo>
                    <a:pt x="6296025" y="1628775"/>
                  </a:lnTo>
                  <a:lnTo>
                    <a:pt x="6276975" y="1724025"/>
                  </a:lnTo>
                  <a:lnTo>
                    <a:pt x="6391275" y="1838325"/>
                  </a:lnTo>
                  <a:lnTo>
                    <a:pt x="6429375" y="1819275"/>
                  </a:lnTo>
                  <a:lnTo>
                    <a:pt x="6486526" y="1749420"/>
                  </a:lnTo>
                  <a:lnTo>
                    <a:pt x="6505575" y="1752600"/>
                  </a:lnTo>
                  <a:lnTo>
                    <a:pt x="6524625" y="1828800"/>
                  </a:lnTo>
                  <a:lnTo>
                    <a:pt x="6667500" y="1847850"/>
                  </a:lnTo>
                  <a:lnTo>
                    <a:pt x="6810375" y="1781175"/>
                  </a:lnTo>
                  <a:lnTo>
                    <a:pt x="6819900" y="1704975"/>
                  </a:lnTo>
                  <a:lnTo>
                    <a:pt x="6829425" y="1371600"/>
                  </a:lnTo>
                  <a:lnTo>
                    <a:pt x="6858000" y="1295400"/>
                  </a:lnTo>
                  <a:lnTo>
                    <a:pt x="6819900" y="1257300"/>
                  </a:lnTo>
                  <a:lnTo>
                    <a:pt x="6819900" y="1219200"/>
                  </a:lnTo>
                  <a:lnTo>
                    <a:pt x="6886575" y="1152525"/>
                  </a:lnTo>
                  <a:lnTo>
                    <a:pt x="6877050" y="895350"/>
                  </a:lnTo>
                  <a:lnTo>
                    <a:pt x="6829425" y="485775"/>
                  </a:lnTo>
                  <a:lnTo>
                    <a:pt x="6781800" y="352425"/>
                  </a:lnTo>
                  <a:lnTo>
                    <a:pt x="6867525" y="209550"/>
                  </a:lnTo>
                  <a:lnTo>
                    <a:pt x="6819900" y="200025"/>
                  </a:lnTo>
                  <a:lnTo>
                    <a:pt x="6886575" y="0"/>
                  </a:lnTo>
                  <a:lnTo>
                    <a:pt x="6648450" y="238125"/>
                  </a:lnTo>
                  <a:lnTo>
                    <a:pt x="6486525" y="200025"/>
                  </a:lnTo>
                  <a:lnTo>
                    <a:pt x="6400800" y="200025"/>
                  </a:lnTo>
                  <a:lnTo>
                    <a:pt x="6315075" y="161925"/>
                  </a:lnTo>
                  <a:lnTo>
                    <a:pt x="6210300" y="171450"/>
                  </a:lnTo>
                  <a:lnTo>
                    <a:pt x="6067425" y="152400"/>
                  </a:lnTo>
                  <a:lnTo>
                    <a:pt x="6029325" y="161925"/>
                  </a:lnTo>
                  <a:lnTo>
                    <a:pt x="5981700" y="161925"/>
                  </a:lnTo>
                  <a:lnTo>
                    <a:pt x="5857875" y="180975"/>
                  </a:lnTo>
                  <a:lnTo>
                    <a:pt x="5638800" y="219075"/>
                  </a:lnTo>
                  <a:lnTo>
                    <a:pt x="5600700" y="219075"/>
                  </a:lnTo>
                  <a:lnTo>
                    <a:pt x="5486400" y="238125"/>
                  </a:lnTo>
                  <a:lnTo>
                    <a:pt x="5324475" y="219075"/>
                  </a:lnTo>
                  <a:lnTo>
                    <a:pt x="5257800" y="276225"/>
                  </a:lnTo>
                  <a:lnTo>
                    <a:pt x="5095875" y="314325"/>
                  </a:lnTo>
                  <a:lnTo>
                    <a:pt x="4848225" y="381000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正方形/長方形 45"/>
            <p:cNvSpPr/>
            <p:nvPr/>
          </p:nvSpPr>
          <p:spPr>
            <a:xfrm>
              <a:off x="828360" y="5790960"/>
              <a:ext cx="2305080" cy="10296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25"/>
            <p:cNvSpPr/>
            <p:nvPr/>
          </p:nvSpPr>
          <p:spPr>
            <a:xfrm>
              <a:off x="3214080" y="5659200"/>
              <a:ext cx="142920" cy="86508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26"/>
            <p:cNvSpPr/>
            <p:nvPr/>
          </p:nvSpPr>
          <p:spPr>
            <a:xfrm rot="5400000">
              <a:off x="3215880" y="5657400"/>
              <a:ext cx="142560" cy="86544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27"/>
            <p:cNvSpPr/>
            <p:nvPr/>
          </p:nvSpPr>
          <p:spPr>
            <a:xfrm rot="2700000">
              <a:off x="3212640" y="5660280"/>
              <a:ext cx="142560" cy="86544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28"/>
            <p:cNvSpPr/>
            <p:nvPr/>
          </p:nvSpPr>
          <p:spPr>
            <a:xfrm rot="8100000">
              <a:off x="3213360" y="5658840"/>
              <a:ext cx="142920" cy="86508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129"/>
            <p:cNvSpPr/>
            <p:nvPr/>
          </p:nvSpPr>
          <p:spPr>
            <a:xfrm>
              <a:off x="2780280" y="5587920"/>
              <a:ext cx="1008360" cy="1008000"/>
            </a:xfrm>
            <a:custGeom>
              <a:avLst/>
              <a:gdLst>
                <a:gd name="textAreaLeft" fmla="*/ 147600 w 1008360"/>
                <a:gd name="textAreaRight" fmla="*/ 860760 w 1008360"/>
                <a:gd name="textAreaTop" fmla="*/ 147600 h 1008000"/>
                <a:gd name="textAreaBottom" fmla="*/ 86040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687" y="10800"/>
                  </a:moveTo>
                  <a:cubicBezTo>
                    <a:pt x="2687" y="15281"/>
                    <a:pt x="6319" y="18913"/>
                    <a:pt x="10800" y="18913"/>
                  </a:cubicBezTo>
                  <a:cubicBezTo>
                    <a:pt x="15281" y="18913"/>
                    <a:pt x="18913" y="15281"/>
                    <a:pt x="18913" y="10800"/>
                  </a:cubicBezTo>
                  <a:cubicBezTo>
                    <a:pt x="18913" y="6319"/>
                    <a:pt x="15281" y="2687"/>
                    <a:pt x="10800" y="2687"/>
                  </a:cubicBezTo>
                  <a:cubicBezTo>
                    <a:pt x="6319" y="2687"/>
                    <a:pt x="2687" y="6319"/>
                    <a:pt x="2687" y="10800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30"/>
            <p:cNvSpPr/>
            <p:nvPr/>
          </p:nvSpPr>
          <p:spPr>
            <a:xfrm>
              <a:off x="3141000" y="5948280"/>
              <a:ext cx="288720" cy="28872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889600" y="333360"/>
            <a:ext cx="1738080" cy="1800360"/>
            <a:chOff x="5889600" y="333360"/>
            <a:chExt cx="1738080" cy="1800360"/>
          </a:xfrm>
        </p:grpSpPr>
        <p:sp>
          <p:nvSpPr>
            <p:cNvPr id="157" name=""/>
            <p:cNvSpPr/>
            <p:nvPr/>
          </p:nvSpPr>
          <p:spPr>
            <a:xfrm>
              <a:off x="5889600" y="333360"/>
              <a:ext cx="869040" cy="18003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13800" y="456480"/>
              <a:ext cx="24768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386400" y="456480"/>
              <a:ext cx="24876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013800" y="1016280"/>
              <a:ext cx="24768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86400" y="1016280"/>
              <a:ext cx="24876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013800" y="1575000"/>
              <a:ext cx="24768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386400" y="1575000"/>
              <a:ext cx="24876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58640" y="333360"/>
              <a:ext cx="869040" cy="180036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83200" y="456480"/>
              <a:ext cx="24768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55800" y="456480"/>
              <a:ext cx="24876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83200" y="1016280"/>
              <a:ext cx="24768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55800" y="1016280"/>
              <a:ext cx="24876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83200" y="1575000"/>
              <a:ext cx="24768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55800" y="1575000"/>
              <a:ext cx="248760" cy="4352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7763040" y="333360"/>
            <a:ext cx="1738080" cy="1800360"/>
            <a:chOff x="7763040" y="333360"/>
            <a:chExt cx="1738080" cy="1800360"/>
          </a:xfrm>
        </p:grpSpPr>
        <p:sp>
          <p:nvSpPr>
            <p:cNvPr id="172" name=""/>
            <p:cNvSpPr/>
            <p:nvPr/>
          </p:nvSpPr>
          <p:spPr>
            <a:xfrm>
              <a:off x="7763040" y="333360"/>
              <a:ext cx="869760" cy="180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86520" y="457200"/>
              <a:ext cx="249480" cy="434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59840" y="457200"/>
              <a:ext cx="249120" cy="434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86520" y="1015920"/>
              <a:ext cx="249480" cy="436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59840" y="1015920"/>
              <a:ext cx="249120" cy="436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86520" y="1574640"/>
              <a:ext cx="249480" cy="435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259840" y="1574640"/>
              <a:ext cx="249120" cy="435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632800" y="333360"/>
              <a:ext cx="868320" cy="1800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756640" y="457200"/>
              <a:ext cx="247680" cy="434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28160" y="457200"/>
              <a:ext cx="249120" cy="434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756640" y="1015920"/>
              <a:ext cx="247680" cy="436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128160" y="1015920"/>
              <a:ext cx="249120" cy="4366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756640" y="1574640"/>
              <a:ext cx="247680" cy="435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9128160" y="1574640"/>
              <a:ext cx="249120" cy="4352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657240" y="404280"/>
            <a:ext cx="1727280" cy="1800360"/>
            <a:chOff x="3657240" y="404280"/>
            <a:chExt cx="1727280" cy="1800360"/>
          </a:xfrm>
        </p:grpSpPr>
        <p:sp>
          <p:nvSpPr>
            <p:cNvPr id="187" name=""/>
            <p:cNvSpPr/>
            <p:nvPr/>
          </p:nvSpPr>
          <p:spPr>
            <a:xfrm rot="16200000">
              <a:off x="3620880" y="727920"/>
              <a:ext cx="1800360" cy="1152720"/>
            </a:xfrm>
            <a:prstGeom prst="flowChartDelay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5400000">
              <a:off x="2936880" y="1124280"/>
              <a:ext cx="1800360" cy="360360"/>
            </a:xfrm>
            <a:prstGeom prst="flowChartDelay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rot="5400000">
              <a:off x="4303800" y="1124280"/>
              <a:ext cx="1800360" cy="360360"/>
            </a:xfrm>
            <a:prstGeom prst="flowChartDelay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3692520" y="872640"/>
              <a:ext cx="1655640" cy="1008000"/>
            </a:xfrm>
            <a:prstGeom prst="flowChartDelay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グループ化 78"/>
          <p:cNvGrpSpPr/>
          <p:nvPr/>
        </p:nvGrpSpPr>
        <p:grpSpPr>
          <a:xfrm>
            <a:off x="2144880" y="254160"/>
            <a:ext cx="1739880" cy="2646360"/>
            <a:chOff x="2144880" y="254160"/>
            <a:chExt cx="1739880" cy="2646360"/>
          </a:xfrm>
        </p:grpSpPr>
        <p:sp>
          <p:nvSpPr>
            <p:cNvPr id="192" name="フリーフォーム 129"/>
            <p:cNvSpPr/>
            <p:nvPr/>
          </p:nvSpPr>
          <p:spPr>
            <a:xfrm>
              <a:off x="2313000" y="1457640"/>
              <a:ext cx="1362240" cy="1355760"/>
            </a:xfrm>
            <a:custGeom>
              <a:avLst/>
              <a:gdLst/>
              <a:ahLst/>
              <a:rect l="l" t="t" r="r" b="b"/>
              <a:pathLst>
                <a:path w="1363980" h="1356360">
                  <a:moveTo>
                    <a:pt x="0" y="403860"/>
                  </a:moveTo>
                  <a:lnTo>
                    <a:pt x="60960" y="777240"/>
                  </a:lnTo>
                  <a:lnTo>
                    <a:pt x="571500" y="838200"/>
                  </a:lnTo>
                  <a:lnTo>
                    <a:pt x="609600" y="1356360"/>
                  </a:lnTo>
                  <a:lnTo>
                    <a:pt x="784860" y="1356360"/>
                  </a:lnTo>
                  <a:lnTo>
                    <a:pt x="739140" y="838200"/>
                  </a:lnTo>
                  <a:lnTo>
                    <a:pt x="1295400" y="792480"/>
                  </a:lnTo>
                  <a:lnTo>
                    <a:pt x="1363980" y="403860"/>
                  </a:lnTo>
                  <a:lnTo>
                    <a:pt x="1249680" y="411480"/>
                  </a:lnTo>
                  <a:lnTo>
                    <a:pt x="1196340" y="693420"/>
                  </a:lnTo>
                  <a:lnTo>
                    <a:pt x="762000" y="731520"/>
                  </a:lnTo>
                  <a:lnTo>
                    <a:pt x="746760" y="7620"/>
                  </a:lnTo>
                  <a:lnTo>
                    <a:pt x="647700" y="0"/>
                  </a:lnTo>
                  <a:lnTo>
                    <a:pt x="601980" y="731520"/>
                  </a:lnTo>
                  <a:lnTo>
                    <a:pt x="175260" y="693420"/>
                  </a:lnTo>
                  <a:lnTo>
                    <a:pt x="137160" y="403860"/>
                  </a:lnTo>
                  <a:lnTo>
                    <a:pt x="0" y="403860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月 130"/>
            <p:cNvSpPr/>
            <p:nvPr/>
          </p:nvSpPr>
          <p:spPr>
            <a:xfrm rot="5400000">
              <a:off x="2951640" y="2369520"/>
              <a:ext cx="144360" cy="917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フリーフォーム 131"/>
            <p:cNvSpPr/>
            <p:nvPr/>
          </p:nvSpPr>
          <p:spPr>
            <a:xfrm>
              <a:off x="2308320" y="627120"/>
              <a:ext cx="182520" cy="4507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フリーフォーム 132"/>
            <p:cNvSpPr/>
            <p:nvPr/>
          </p:nvSpPr>
          <p:spPr>
            <a:xfrm>
              <a:off x="2346480" y="800280"/>
              <a:ext cx="106200" cy="2635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角丸四角形 133"/>
            <p:cNvSpPr/>
            <p:nvPr/>
          </p:nvSpPr>
          <p:spPr>
            <a:xfrm>
              <a:off x="2317680" y="1109880"/>
              <a:ext cx="166680" cy="612720"/>
            </a:xfrm>
            <a:custGeom>
              <a:avLst/>
              <a:gdLst>
                <a:gd name="textAreaLeft" fmla="*/ 7920 w 166680"/>
                <a:gd name="textAreaRight" fmla="*/ 158760 w 166680"/>
                <a:gd name="textAreaTop" fmla="*/ 7920 h 612720"/>
                <a:gd name="textAreaBottom" fmla="*/ 604800 h 612720"/>
              </a:gdLst>
              <a:ahLst/>
              <a:rect l="textAreaLeft" t="textAreaTop" r="textAreaRight" b="textAreaBottom"/>
              <a:pathLst>
                <a:path w="21600" h="79278">
                  <a:moveTo>
                    <a:pt x="3600" y="0"/>
                  </a:moveTo>
                  <a:arcTo wR="3600" hR="3600" stAng="16200000" swAng="-5400000"/>
                  <a:lnTo>
                    <a:pt x="0" y="75678"/>
                  </a:lnTo>
                  <a:arcTo wR="3600" hR="3600" stAng="10800000" swAng="-5400000"/>
                  <a:lnTo>
                    <a:pt x="18000" y="792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角丸四角形 134"/>
            <p:cNvSpPr/>
            <p:nvPr/>
          </p:nvSpPr>
          <p:spPr>
            <a:xfrm>
              <a:off x="2305080" y="1076400"/>
              <a:ext cx="191880" cy="147600"/>
            </a:xfrm>
            <a:prstGeom prst="roundRect">
              <a:avLst>
                <a:gd name="adj" fmla="val 16667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角丸四角形 135"/>
            <p:cNvSpPr/>
            <p:nvPr/>
          </p:nvSpPr>
          <p:spPr>
            <a:xfrm>
              <a:off x="2927520" y="744480"/>
              <a:ext cx="166680" cy="612720"/>
            </a:xfrm>
            <a:custGeom>
              <a:avLst/>
              <a:gdLst>
                <a:gd name="textAreaLeft" fmla="*/ 7920 w 166680"/>
                <a:gd name="textAreaRight" fmla="*/ 158760 w 166680"/>
                <a:gd name="textAreaTop" fmla="*/ 7920 h 612720"/>
                <a:gd name="textAreaBottom" fmla="*/ 604800 h 612720"/>
              </a:gdLst>
              <a:ahLst/>
              <a:rect l="textAreaLeft" t="textAreaTop" r="textAreaRight" b="textAreaBottom"/>
              <a:pathLst>
                <a:path w="21600" h="79278">
                  <a:moveTo>
                    <a:pt x="3600" y="0"/>
                  </a:moveTo>
                  <a:arcTo wR="3600" hR="3600" stAng="16200000" swAng="-5400000"/>
                  <a:lnTo>
                    <a:pt x="0" y="75678"/>
                  </a:lnTo>
                  <a:arcTo wR="3600" hR="3600" stAng="10800000" swAng="-5400000"/>
                  <a:lnTo>
                    <a:pt x="18000" y="7927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角丸四角形 136"/>
            <p:cNvSpPr/>
            <p:nvPr/>
          </p:nvSpPr>
          <p:spPr>
            <a:xfrm>
              <a:off x="2914920" y="711360"/>
              <a:ext cx="191880" cy="147600"/>
            </a:xfrm>
            <a:prstGeom prst="roundRect">
              <a:avLst>
                <a:gd name="adj" fmla="val 16667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角丸四角形 137"/>
            <p:cNvSpPr/>
            <p:nvPr/>
          </p:nvSpPr>
          <p:spPr>
            <a:xfrm>
              <a:off x="3497400" y="1177920"/>
              <a:ext cx="168120" cy="612720"/>
            </a:xfrm>
            <a:custGeom>
              <a:avLst/>
              <a:gdLst>
                <a:gd name="textAreaLeft" fmla="*/ 7920 w 168120"/>
                <a:gd name="textAreaRight" fmla="*/ 160200 w 168120"/>
                <a:gd name="textAreaTop" fmla="*/ 7920 h 612720"/>
                <a:gd name="textAreaBottom" fmla="*/ 604800 h 612720"/>
              </a:gdLst>
              <a:ahLst/>
              <a:rect l="textAreaLeft" t="textAreaTop" r="textAreaRight" b="textAreaBottom"/>
              <a:pathLst>
                <a:path w="21600" h="78600">
                  <a:moveTo>
                    <a:pt x="3600" y="0"/>
                  </a:moveTo>
                  <a:arcTo wR="3600" hR="3600" stAng="16200000" swAng="-5400000"/>
                  <a:lnTo>
                    <a:pt x="0" y="75000"/>
                  </a:lnTo>
                  <a:arcTo wR="3600" hR="3600" stAng="10800000" swAng="-5400000"/>
                  <a:lnTo>
                    <a:pt x="18000" y="786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角丸四角形 138"/>
            <p:cNvSpPr/>
            <p:nvPr/>
          </p:nvSpPr>
          <p:spPr>
            <a:xfrm>
              <a:off x="3484800" y="1144800"/>
              <a:ext cx="193680" cy="147600"/>
            </a:xfrm>
            <a:prstGeom prst="roundRect">
              <a:avLst>
                <a:gd name="adj" fmla="val 16667"/>
              </a:avLst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月 139"/>
            <p:cNvSpPr/>
            <p:nvPr/>
          </p:nvSpPr>
          <p:spPr>
            <a:xfrm rot="16200000">
              <a:off x="2297160" y="1487520"/>
              <a:ext cx="288720" cy="593640"/>
            </a:xfrm>
            <a:custGeom>
              <a:avLst/>
              <a:gdLst>
                <a:gd name="textAreaLeft" fmla="*/ 17280 w 288720"/>
                <a:gd name="textAreaRight" fmla="*/ 214920 w 288720"/>
                <a:gd name="textAreaTop" fmla="*/ 195120 h 593640"/>
                <a:gd name="textAreaBottom" fmla="*/ 3985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月 140"/>
            <p:cNvSpPr/>
            <p:nvPr/>
          </p:nvSpPr>
          <p:spPr>
            <a:xfrm rot="16200000">
              <a:off x="3443400" y="1506600"/>
              <a:ext cx="288720" cy="593640"/>
            </a:xfrm>
            <a:custGeom>
              <a:avLst/>
              <a:gdLst>
                <a:gd name="textAreaLeft" fmla="*/ 17280 w 288720"/>
                <a:gd name="textAreaRight" fmla="*/ 214920 w 288720"/>
                <a:gd name="textAreaTop" fmla="*/ 195120 h 593640"/>
                <a:gd name="textAreaBottom" fmla="*/ 3985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月 141"/>
            <p:cNvSpPr/>
            <p:nvPr/>
          </p:nvSpPr>
          <p:spPr>
            <a:xfrm rot="16200000">
              <a:off x="2879640" y="1092240"/>
              <a:ext cx="288720" cy="593640"/>
            </a:xfrm>
            <a:custGeom>
              <a:avLst/>
              <a:gdLst>
                <a:gd name="textAreaLeft" fmla="*/ 17280 w 288720"/>
                <a:gd name="textAreaRight" fmla="*/ 214920 w 288720"/>
                <a:gd name="textAreaTop" fmla="*/ 195120 h 593640"/>
                <a:gd name="textAreaBottom" fmla="*/ 398520 h 59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フリーフォーム 142"/>
            <p:cNvSpPr/>
            <p:nvPr/>
          </p:nvSpPr>
          <p:spPr>
            <a:xfrm>
              <a:off x="2926080" y="254160"/>
              <a:ext cx="182520" cy="4507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フリーフォーム 143"/>
            <p:cNvSpPr/>
            <p:nvPr/>
          </p:nvSpPr>
          <p:spPr>
            <a:xfrm>
              <a:off x="2963880" y="426960"/>
              <a:ext cx="106200" cy="2635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フリーフォーム 144"/>
            <p:cNvSpPr/>
            <p:nvPr/>
          </p:nvSpPr>
          <p:spPr>
            <a:xfrm>
              <a:off x="3503880" y="703440"/>
              <a:ext cx="183960" cy="4507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フリーフォーム 145"/>
            <p:cNvSpPr/>
            <p:nvPr/>
          </p:nvSpPr>
          <p:spPr>
            <a:xfrm>
              <a:off x="3542040" y="876240"/>
              <a:ext cx="107640" cy="2635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グループ化 79"/>
          <p:cNvGrpSpPr/>
          <p:nvPr/>
        </p:nvGrpSpPr>
        <p:grpSpPr>
          <a:xfrm>
            <a:off x="235080" y="255600"/>
            <a:ext cx="1739880" cy="2646360"/>
            <a:chOff x="235080" y="255600"/>
            <a:chExt cx="1739880" cy="2646360"/>
          </a:xfrm>
        </p:grpSpPr>
        <p:sp>
          <p:nvSpPr>
            <p:cNvPr id="210" name="フリーフォーム 60"/>
            <p:cNvSpPr/>
            <p:nvPr/>
          </p:nvSpPr>
          <p:spPr>
            <a:xfrm>
              <a:off x="402480" y="1458360"/>
              <a:ext cx="1363320" cy="1356120"/>
            </a:xfrm>
            <a:custGeom>
              <a:avLst/>
              <a:gdLst/>
              <a:ahLst/>
              <a:rect l="l" t="t" r="r" b="b"/>
              <a:pathLst>
                <a:path w="1363980" h="1356360">
                  <a:moveTo>
                    <a:pt x="0" y="403860"/>
                  </a:moveTo>
                  <a:lnTo>
                    <a:pt x="60960" y="777240"/>
                  </a:lnTo>
                  <a:lnTo>
                    <a:pt x="571500" y="838200"/>
                  </a:lnTo>
                  <a:lnTo>
                    <a:pt x="609600" y="1356360"/>
                  </a:lnTo>
                  <a:lnTo>
                    <a:pt x="784860" y="1356360"/>
                  </a:lnTo>
                  <a:lnTo>
                    <a:pt x="739140" y="838200"/>
                  </a:lnTo>
                  <a:lnTo>
                    <a:pt x="1295400" y="792480"/>
                  </a:lnTo>
                  <a:lnTo>
                    <a:pt x="1363980" y="403860"/>
                  </a:lnTo>
                  <a:lnTo>
                    <a:pt x="1249680" y="411480"/>
                  </a:lnTo>
                  <a:lnTo>
                    <a:pt x="1196340" y="693420"/>
                  </a:lnTo>
                  <a:lnTo>
                    <a:pt x="762000" y="731520"/>
                  </a:lnTo>
                  <a:lnTo>
                    <a:pt x="746760" y="7620"/>
                  </a:lnTo>
                  <a:lnTo>
                    <a:pt x="647700" y="0"/>
                  </a:lnTo>
                  <a:lnTo>
                    <a:pt x="601980" y="731520"/>
                  </a:lnTo>
                  <a:lnTo>
                    <a:pt x="175260" y="693420"/>
                  </a:lnTo>
                  <a:lnTo>
                    <a:pt x="137160" y="403860"/>
                  </a:lnTo>
                  <a:lnTo>
                    <a:pt x="0" y="403860"/>
                  </a:ln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月 61"/>
            <p:cNvSpPr/>
            <p:nvPr/>
          </p:nvSpPr>
          <p:spPr>
            <a:xfrm rot="5400000">
              <a:off x="1042920" y="2371320"/>
              <a:ext cx="144000" cy="917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フリーフォーム 62"/>
            <p:cNvSpPr/>
            <p:nvPr/>
          </p:nvSpPr>
          <p:spPr>
            <a:xfrm>
              <a:off x="398520" y="628920"/>
              <a:ext cx="182880" cy="45036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c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フリーフォーム 63"/>
            <p:cNvSpPr/>
            <p:nvPr/>
          </p:nvSpPr>
          <p:spPr>
            <a:xfrm>
              <a:off x="436680" y="801720"/>
              <a:ext cx="106560" cy="26280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角丸四角形 64"/>
            <p:cNvSpPr/>
            <p:nvPr/>
          </p:nvSpPr>
          <p:spPr>
            <a:xfrm>
              <a:off x="407520" y="1111680"/>
              <a:ext cx="167400" cy="612720"/>
            </a:xfrm>
            <a:custGeom>
              <a:avLst/>
              <a:gdLst>
                <a:gd name="textAreaLeft" fmla="*/ 7920 w 167400"/>
                <a:gd name="textAreaRight" fmla="*/ 159480 w 167400"/>
                <a:gd name="textAreaTop" fmla="*/ 7920 h 612720"/>
                <a:gd name="textAreaBottom" fmla="*/ 604800 h 612720"/>
              </a:gdLst>
              <a:ahLst/>
              <a:rect l="textAreaLeft" t="textAreaTop" r="textAreaRight" b="textAreaBottom"/>
              <a:pathLst>
                <a:path w="21600" h="78937">
                  <a:moveTo>
                    <a:pt x="3600" y="0"/>
                  </a:moveTo>
                  <a:arcTo wR="3600" hR="3600" stAng="16200000" swAng="-5400000"/>
                  <a:lnTo>
                    <a:pt x="0" y="75337"/>
                  </a:lnTo>
                  <a:arcTo wR="3600" hR="3600" stAng="10800000" swAng="-5400000"/>
                  <a:lnTo>
                    <a:pt x="18000" y="789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角丸四角形 65"/>
            <p:cNvSpPr/>
            <p:nvPr/>
          </p:nvSpPr>
          <p:spPr>
            <a:xfrm>
              <a:off x="394920" y="1078200"/>
              <a:ext cx="192600" cy="146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角丸四角形 66"/>
            <p:cNvSpPr/>
            <p:nvPr/>
          </p:nvSpPr>
          <p:spPr>
            <a:xfrm>
              <a:off x="1017000" y="745920"/>
              <a:ext cx="167400" cy="612720"/>
            </a:xfrm>
            <a:custGeom>
              <a:avLst/>
              <a:gdLst>
                <a:gd name="textAreaLeft" fmla="*/ 7920 w 167400"/>
                <a:gd name="textAreaRight" fmla="*/ 159480 w 167400"/>
                <a:gd name="textAreaTop" fmla="*/ 7920 h 612720"/>
                <a:gd name="textAreaBottom" fmla="*/ 604800 h 612720"/>
              </a:gdLst>
              <a:ahLst/>
              <a:rect l="textAreaLeft" t="textAreaTop" r="textAreaRight" b="textAreaBottom"/>
              <a:pathLst>
                <a:path w="21600" h="78937">
                  <a:moveTo>
                    <a:pt x="3600" y="0"/>
                  </a:moveTo>
                  <a:arcTo wR="3600" hR="3600" stAng="16200000" swAng="-5400000"/>
                  <a:lnTo>
                    <a:pt x="0" y="75337"/>
                  </a:lnTo>
                  <a:arcTo wR="3600" hR="3600" stAng="10800000" swAng="-5400000"/>
                  <a:lnTo>
                    <a:pt x="18000" y="789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角丸四角形 67"/>
            <p:cNvSpPr/>
            <p:nvPr/>
          </p:nvSpPr>
          <p:spPr>
            <a:xfrm>
              <a:off x="1004400" y="712440"/>
              <a:ext cx="192600" cy="146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角丸四角形 68"/>
            <p:cNvSpPr/>
            <p:nvPr/>
          </p:nvSpPr>
          <p:spPr>
            <a:xfrm>
              <a:off x="1588320" y="1180080"/>
              <a:ext cx="167400" cy="612720"/>
            </a:xfrm>
            <a:custGeom>
              <a:avLst/>
              <a:gdLst>
                <a:gd name="textAreaLeft" fmla="*/ 7920 w 167400"/>
                <a:gd name="textAreaRight" fmla="*/ 159480 w 167400"/>
                <a:gd name="textAreaTop" fmla="*/ 7920 h 612720"/>
                <a:gd name="textAreaBottom" fmla="*/ 604800 h 612720"/>
              </a:gdLst>
              <a:ahLst/>
              <a:rect l="textAreaLeft" t="textAreaTop" r="textAreaRight" b="textAreaBottom"/>
              <a:pathLst>
                <a:path w="21600" h="78937">
                  <a:moveTo>
                    <a:pt x="3600" y="0"/>
                  </a:moveTo>
                  <a:arcTo wR="3600" hR="3600" stAng="16200000" swAng="-5400000"/>
                  <a:lnTo>
                    <a:pt x="0" y="75337"/>
                  </a:lnTo>
                  <a:arcTo wR="3600" hR="3600" stAng="10800000" swAng="-5400000"/>
                  <a:lnTo>
                    <a:pt x="18000" y="789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角丸四角形 69"/>
            <p:cNvSpPr/>
            <p:nvPr/>
          </p:nvSpPr>
          <p:spPr>
            <a:xfrm>
              <a:off x="1575720" y="1146960"/>
              <a:ext cx="192600" cy="1468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月 70"/>
            <p:cNvSpPr/>
            <p:nvPr/>
          </p:nvSpPr>
          <p:spPr>
            <a:xfrm rot="16200000">
              <a:off x="387360" y="1488240"/>
              <a:ext cx="288360" cy="593280"/>
            </a:xfrm>
            <a:custGeom>
              <a:avLst/>
              <a:gdLst>
                <a:gd name="textAreaLeft" fmla="*/ 17280 w 288360"/>
                <a:gd name="textAreaRight" fmla="*/ 214560 w 288360"/>
                <a:gd name="textAreaTop" fmla="*/ 194760 h 593280"/>
                <a:gd name="textAreaBottom" fmla="*/ 398520 h 59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月 71"/>
            <p:cNvSpPr/>
            <p:nvPr/>
          </p:nvSpPr>
          <p:spPr>
            <a:xfrm rot="16200000">
              <a:off x="1533960" y="1508040"/>
              <a:ext cx="288360" cy="593280"/>
            </a:xfrm>
            <a:custGeom>
              <a:avLst/>
              <a:gdLst>
                <a:gd name="textAreaLeft" fmla="*/ 17280 w 288360"/>
                <a:gd name="textAreaRight" fmla="*/ 214560 w 288360"/>
                <a:gd name="textAreaTop" fmla="*/ 194760 h 593280"/>
                <a:gd name="textAreaBottom" fmla="*/ 398520 h 59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月 72"/>
            <p:cNvSpPr/>
            <p:nvPr/>
          </p:nvSpPr>
          <p:spPr>
            <a:xfrm rot="16200000">
              <a:off x="970560" y="1092960"/>
              <a:ext cx="288360" cy="593280"/>
            </a:xfrm>
            <a:custGeom>
              <a:avLst/>
              <a:gdLst>
                <a:gd name="textAreaLeft" fmla="*/ 17280 w 288360"/>
                <a:gd name="textAreaRight" fmla="*/ 214560 w 288360"/>
                <a:gd name="textAreaTop" fmla="*/ 194760 h 593280"/>
                <a:gd name="textAreaBottom" fmla="*/ 398520 h 59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フリーフォーム 73"/>
            <p:cNvSpPr/>
            <p:nvPr/>
          </p:nvSpPr>
          <p:spPr>
            <a:xfrm>
              <a:off x="1015560" y="255600"/>
              <a:ext cx="182880" cy="45036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c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フリーフォーム 74"/>
            <p:cNvSpPr/>
            <p:nvPr/>
          </p:nvSpPr>
          <p:spPr>
            <a:xfrm>
              <a:off x="1053720" y="428400"/>
              <a:ext cx="106560" cy="26280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フリーフォーム 75"/>
            <p:cNvSpPr/>
            <p:nvPr/>
          </p:nvSpPr>
          <p:spPr>
            <a:xfrm>
              <a:off x="1594440" y="704880"/>
              <a:ext cx="182880" cy="45036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c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フリーフォーム 76"/>
            <p:cNvSpPr/>
            <p:nvPr/>
          </p:nvSpPr>
          <p:spPr>
            <a:xfrm>
              <a:off x="1632600" y="878040"/>
              <a:ext cx="106560" cy="26280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グループ化 8"/>
          <p:cNvGrpSpPr/>
          <p:nvPr/>
        </p:nvGrpSpPr>
        <p:grpSpPr>
          <a:xfrm>
            <a:off x="1676520" y="3102120"/>
            <a:ext cx="888840" cy="1436400"/>
            <a:chOff x="1676520" y="3102120"/>
            <a:chExt cx="888840" cy="1436400"/>
          </a:xfrm>
        </p:grpSpPr>
        <p:sp>
          <p:nvSpPr>
            <p:cNvPr id="228" name="フリーフォーム 1"/>
            <p:cNvSpPr/>
            <p:nvPr/>
          </p:nvSpPr>
          <p:spPr>
            <a:xfrm>
              <a:off x="1677600" y="3102120"/>
              <a:ext cx="784080" cy="1213560"/>
            </a:xfrm>
            <a:custGeom>
              <a:avLst/>
              <a:gdLst/>
              <a:ahLst/>
              <a:rect l="l" t="t" r="r" b="b"/>
              <a:pathLst>
                <a:path w="1364343" h="2046514">
                  <a:moveTo>
                    <a:pt x="551543" y="754743"/>
                  </a:moveTo>
                  <a:lnTo>
                    <a:pt x="537029" y="0"/>
                  </a:lnTo>
                  <a:lnTo>
                    <a:pt x="870857" y="0"/>
                  </a:lnTo>
                  <a:lnTo>
                    <a:pt x="870857" y="725714"/>
                  </a:lnTo>
                  <a:lnTo>
                    <a:pt x="1364343" y="696686"/>
                  </a:lnTo>
                  <a:lnTo>
                    <a:pt x="1364343" y="1045028"/>
                  </a:lnTo>
                  <a:lnTo>
                    <a:pt x="914400" y="1045028"/>
                  </a:lnTo>
                  <a:lnTo>
                    <a:pt x="928915" y="2017486"/>
                  </a:lnTo>
                  <a:lnTo>
                    <a:pt x="566057" y="2046514"/>
                  </a:lnTo>
                  <a:lnTo>
                    <a:pt x="624115" y="1074057"/>
                  </a:lnTo>
                  <a:lnTo>
                    <a:pt x="0" y="1117600"/>
                  </a:lnTo>
                  <a:lnTo>
                    <a:pt x="43543" y="711200"/>
                  </a:lnTo>
                  <a:lnTo>
                    <a:pt x="551543" y="754743"/>
                  </a:ln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フローチャート : 論理積ゲート 167"/>
            <p:cNvSpPr/>
            <p:nvPr/>
          </p:nvSpPr>
          <p:spPr>
            <a:xfrm rot="16200000">
              <a:off x="1926360" y="3899520"/>
              <a:ext cx="388800" cy="888840"/>
            </a:xfrm>
            <a:prstGeom prst="flowChartDelay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グループ化 9"/>
          <p:cNvGrpSpPr/>
          <p:nvPr/>
        </p:nvGrpSpPr>
        <p:grpSpPr>
          <a:xfrm>
            <a:off x="2614680" y="2928960"/>
            <a:ext cx="995400" cy="1622520"/>
            <a:chOff x="2614680" y="2928960"/>
            <a:chExt cx="995400" cy="1622520"/>
          </a:xfrm>
        </p:grpSpPr>
        <p:sp>
          <p:nvSpPr>
            <p:cNvPr id="231" name="フリーフォーム 176"/>
            <p:cNvSpPr/>
            <p:nvPr/>
          </p:nvSpPr>
          <p:spPr>
            <a:xfrm>
              <a:off x="2614680" y="2928960"/>
              <a:ext cx="995400" cy="1400040"/>
            </a:xfrm>
            <a:custGeom>
              <a:avLst/>
              <a:gdLst/>
              <a:ahLst/>
              <a:rect l="l" t="t" r="r" b="b"/>
              <a:pathLst>
                <a:path w="1295400" h="1821180">
                  <a:moveTo>
                    <a:pt x="495300" y="0"/>
                  </a:moveTo>
                  <a:lnTo>
                    <a:pt x="495300" y="594360"/>
                  </a:lnTo>
                  <a:lnTo>
                    <a:pt x="0" y="594360"/>
                  </a:lnTo>
                  <a:lnTo>
                    <a:pt x="0" y="899160"/>
                  </a:lnTo>
                  <a:lnTo>
                    <a:pt x="495300" y="899160"/>
                  </a:lnTo>
                  <a:lnTo>
                    <a:pt x="495300" y="1821180"/>
                  </a:lnTo>
                  <a:lnTo>
                    <a:pt x="792480" y="1821180"/>
                  </a:lnTo>
                  <a:lnTo>
                    <a:pt x="792480" y="922020"/>
                  </a:lnTo>
                  <a:lnTo>
                    <a:pt x="1295400" y="922020"/>
                  </a:lnTo>
                  <a:lnTo>
                    <a:pt x="1295400" y="586740"/>
                  </a:lnTo>
                  <a:lnTo>
                    <a:pt x="792480" y="586740"/>
                  </a:lnTo>
                  <a:lnTo>
                    <a:pt x="792480" y="15240"/>
                  </a:lnTo>
                  <a:lnTo>
                    <a:pt x="495300" y="0"/>
                  </a:ln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正方形/長方形 177"/>
            <p:cNvSpPr/>
            <p:nvPr/>
          </p:nvSpPr>
          <p:spPr>
            <a:xfrm>
              <a:off x="2747880" y="4295520"/>
              <a:ext cx="731880" cy="11340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正方形/長方形 178"/>
            <p:cNvSpPr/>
            <p:nvPr/>
          </p:nvSpPr>
          <p:spPr>
            <a:xfrm>
              <a:off x="2705760" y="4403880"/>
              <a:ext cx="816120" cy="14760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グループ化 5"/>
          <p:cNvGrpSpPr/>
          <p:nvPr/>
        </p:nvGrpSpPr>
        <p:grpSpPr>
          <a:xfrm>
            <a:off x="349200" y="3341160"/>
            <a:ext cx="1209600" cy="1197360"/>
            <a:chOff x="349200" y="3341160"/>
            <a:chExt cx="1209600" cy="1197360"/>
          </a:xfrm>
        </p:grpSpPr>
        <p:sp>
          <p:nvSpPr>
            <p:cNvPr id="235" name="フローチャート : 論理積ゲート 168"/>
            <p:cNvSpPr/>
            <p:nvPr/>
          </p:nvSpPr>
          <p:spPr>
            <a:xfrm rot="16200000">
              <a:off x="461880" y="3407400"/>
              <a:ext cx="1022760" cy="889920"/>
            </a:xfrm>
            <a:prstGeom prst="flowChartDelay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正方形/長方形 169"/>
            <p:cNvSpPr/>
            <p:nvPr/>
          </p:nvSpPr>
          <p:spPr>
            <a:xfrm>
              <a:off x="418680" y="4281120"/>
              <a:ext cx="1085400" cy="1144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正方形/長方形 170"/>
            <p:cNvSpPr/>
            <p:nvPr/>
          </p:nvSpPr>
          <p:spPr>
            <a:xfrm>
              <a:off x="349200" y="4389840"/>
              <a:ext cx="1209600" cy="14868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フリーフォーム 179"/>
            <p:cNvSpPr/>
            <p:nvPr/>
          </p:nvSpPr>
          <p:spPr>
            <a:xfrm>
              <a:off x="770040" y="3583080"/>
              <a:ext cx="396360" cy="557280"/>
            </a:xfrm>
            <a:custGeom>
              <a:avLst/>
              <a:gdLst/>
              <a:ahLst/>
              <a:rect l="l" t="t" r="r" b="b"/>
              <a:pathLst>
                <a:path w="1295400" h="1821180">
                  <a:moveTo>
                    <a:pt x="495300" y="0"/>
                  </a:moveTo>
                  <a:lnTo>
                    <a:pt x="495300" y="594360"/>
                  </a:lnTo>
                  <a:lnTo>
                    <a:pt x="0" y="594360"/>
                  </a:lnTo>
                  <a:lnTo>
                    <a:pt x="0" y="899160"/>
                  </a:lnTo>
                  <a:lnTo>
                    <a:pt x="495300" y="899160"/>
                  </a:lnTo>
                  <a:lnTo>
                    <a:pt x="495300" y="1821180"/>
                  </a:lnTo>
                  <a:lnTo>
                    <a:pt x="792480" y="1821180"/>
                  </a:lnTo>
                  <a:lnTo>
                    <a:pt x="792480" y="922020"/>
                  </a:lnTo>
                  <a:lnTo>
                    <a:pt x="1295400" y="922020"/>
                  </a:lnTo>
                  <a:lnTo>
                    <a:pt x="1295400" y="586740"/>
                  </a:lnTo>
                  <a:lnTo>
                    <a:pt x="792480" y="586740"/>
                  </a:lnTo>
                  <a:lnTo>
                    <a:pt x="792480" y="15240"/>
                  </a:lnTo>
                  <a:lnTo>
                    <a:pt x="495300" y="0"/>
                  </a:ln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グループ化 7"/>
          <p:cNvGrpSpPr/>
          <p:nvPr/>
        </p:nvGrpSpPr>
        <p:grpSpPr>
          <a:xfrm>
            <a:off x="1685880" y="4876920"/>
            <a:ext cx="889200" cy="1436400"/>
            <a:chOff x="1685880" y="4876920"/>
            <a:chExt cx="889200" cy="1436400"/>
          </a:xfrm>
        </p:grpSpPr>
        <p:sp>
          <p:nvSpPr>
            <p:cNvPr id="240" name="フリーフォーム 1"/>
            <p:cNvSpPr/>
            <p:nvPr/>
          </p:nvSpPr>
          <p:spPr>
            <a:xfrm>
              <a:off x="1686960" y="4876920"/>
              <a:ext cx="784440" cy="1213560"/>
            </a:xfrm>
            <a:custGeom>
              <a:avLst/>
              <a:gdLst/>
              <a:ahLst/>
              <a:rect l="l" t="t" r="r" b="b"/>
              <a:pathLst>
                <a:path w="1364343" h="2046514">
                  <a:moveTo>
                    <a:pt x="551543" y="754743"/>
                  </a:moveTo>
                  <a:lnTo>
                    <a:pt x="537029" y="0"/>
                  </a:lnTo>
                  <a:lnTo>
                    <a:pt x="870857" y="0"/>
                  </a:lnTo>
                  <a:lnTo>
                    <a:pt x="870857" y="725714"/>
                  </a:lnTo>
                  <a:lnTo>
                    <a:pt x="1364343" y="696686"/>
                  </a:lnTo>
                  <a:lnTo>
                    <a:pt x="1364343" y="1045028"/>
                  </a:lnTo>
                  <a:lnTo>
                    <a:pt x="914400" y="1045028"/>
                  </a:lnTo>
                  <a:lnTo>
                    <a:pt x="928915" y="2017486"/>
                  </a:lnTo>
                  <a:lnTo>
                    <a:pt x="566057" y="2046514"/>
                  </a:lnTo>
                  <a:lnTo>
                    <a:pt x="624115" y="1074057"/>
                  </a:lnTo>
                  <a:lnTo>
                    <a:pt x="0" y="1117600"/>
                  </a:lnTo>
                  <a:lnTo>
                    <a:pt x="43543" y="711200"/>
                  </a:lnTo>
                  <a:lnTo>
                    <a:pt x="551543" y="7547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フローチャート : 論理積ゲート 181"/>
            <p:cNvSpPr/>
            <p:nvPr/>
          </p:nvSpPr>
          <p:spPr>
            <a:xfrm rot="16200000">
              <a:off x="1936080" y="5674320"/>
              <a:ext cx="388800" cy="88920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グループ化 10"/>
          <p:cNvGrpSpPr/>
          <p:nvPr/>
        </p:nvGrpSpPr>
        <p:grpSpPr>
          <a:xfrm>
            <a:off x="2624040" y="4703760"/>
            <a:ext cx="995400" cy="1622520"/>
            <a:chOff x="2624040" y="4703760"/>
            <a:chExt cx="995400" cy="1622520"/>
          </a:xfrm>
        </p:grpSpPr>
        <p:sp>
          <p:nvSpPr>
            <p:cNvPr id="243" name="フリーフォーム 185"/>
            <p:cNvSpPr/>
            <p:nvPr/>
          </p:nvSpPr>
          <p:spPr>
            <a:xfrm>
              <a:off x="2624040" y="4703760"/>
              <a:ext cx="995400" cy="1400040"/>
            </a:xfrm>
            <a:custGeom>
              <a:avLst/>
              <a:gdLst/>
              <a:ahLst/>
              <a:rect l="l" t="t" r="r" b="b"/>
              <a:pathLst>
                <a:path w="1295400" h="1821180">
                  <a:moveTo>
                    <a:pt x="495300" y="0"/>
                  </a:moveTo>
                  <a:lnTo>
                    <a:pt x="495300" y="594360"/>
                  </a:lnTo>
                  <a:lnTo>
                    <a:pt x="0" y="594360"/>
                  </a:lnTo>
                  <a:lnTo>
                    <a:pt x="0" y="899160"/>
                  </a:lnTo>
                  <a:lnTo>
                    <a:pt x="495300" y="899160"/>
                  </a:lnTo>
                  <a:lnTo>
                    <a:pt x="495300" y="1821180"/>
                  </a:lnTo>
                  <a:lnTo>
                    <a:pt x="792480" y="1821180"/>
                  </a:lnTo>
                  <a:lnTo>
                    <a:pt x="792480" y="922020"/>
                  </a:lnTo>
                  <a:lnTo>
                    <a:pt x="1295400" y="922020"/>
                  </a:lnTo>
                  <a:lnTo>
                    <a:pt x="1295400" y="586740"/>
                  </a:lnTo>
                  <a:lnTo>
                    <a:pt x="792480" y="586740"/>
                  </a:lnTo>
                  <a:lnTo>
                    <a:pt x="792480" y="15240"/>
                  </a:lnTo>
                  <a:lnTo>
                    <a:pt x="495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正方形/長方形 186"/>
            <p:cNvSpPr/>
            <p:nvPr/>
          </p:nvSpPr>
          <p:spPr>
            <a:xfrm>
              <a:off x="2757240" y="6070320"/>
              <a:ext cx="731880" cy="113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正方形/長方形 187"/>
            <p:cNvSpPr/>
            <p:nvPr/>
          </p:nvSpPr>
          <p:spPr>
            <a:xfrm>
              <a:off x="2715120" y="6178680"/>
              <a:ext cx="816120" cy="14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グループ化 6"/>
          <p:cNvGrpSpPr/>
          <p:nvPr/>
        </p:nvGrpSpPr>
        <p:grpSpPr>
          <a:xfrm>
            <a:off x="358920" y="5116680"/>
            <a:ext cx="1207800" cy="1196640"/>
            <a:chOff x="358920" y="5116680"/>
            <a:chExt cx="1207800" cy="1196640"/>
          </a:xfrm>
        </p:grpSpPr>
        <p:sp>
          <p:nvSpPr>
            <p:cNvPr id="247" name="フローチャート : 論理積ゲート 182"/>
            <p:cNvSpPr/>
            <p:nvPr/>
          </p:nvSpPr>
          <p:spPr>
            <a:xfrm rot="16200000">
              <a:off x="470880" y="5183640"/>
              <a:ext cx="1022400" cy="88848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正方形/長方形 183"/>
            <p:cNvSpPr/>
            <p:nvPr/>
          </p:nvSpPr>
          <p:spPr>
            <a:xfrm>
              <a:off x="428400" y="6055920"/>
              <a:ext cx="1083600" cy="114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正方形/長方形 184"/>
            <p:cNvSpPr/>
            <p:nvPr/>
          </p:nvSpPr>
          <p:spPr>
            <a:xfrm>
              <a:off x="358920" y="6164640"/>
              <a:ext cx="1207800" cy="148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フリーフォーム 188"/>
            <p:cNvSpPr/>
            <p:nvPr/>
          </p:nvSpPr>
          <p:spPr>
            <a:xfrm>
              <a:off x="779040" y="5358240"/>
              <a:ext cx="396000" cy="557280"/>
            </a:xfrm>
            <a:custGeom>
              <a:avLst/>
              <a:gdLst/>
              <a:ahLst/>
              <a:rect l="l" t="t" r="r" b="b"/>
              <a:pathLst>
                <a:path w="1295400" h="1821180">
                  <a:moveTo>
                    <a:pt x="495300" y="0"/>
                  </a:moveTo>
                  <a:lnTo>
                    <a:pt x="495300" y="594360"/>
                  </a:lnTo>
                  <a:lnTo>
                    <a:pt x="0" y="594360"/>
                  </a:lnTo>
                  <a:lnTo>
                    <a:pt x="0" y="899160"/>
                  </a:lnTo>
                  <a:lnTo>
                    <a:pt x="495300" y="899160"/>
                  </a:lnTo>
                  <a:lnTo>
                    <a:pt x="495300" y="1821180"/>
                  </a:lnTo>
                  <a:lnTo>
                    <a:pt x="792480" y="1821180"/>
                  </a:lnTo>
                  <a:lnTo>
                    <a:pt x="792480" y="922020"/>
                  </a:lnTo>
                  <a:lnTo>
                    <a:pt x="1295400" y="922020"/>
                  </a:lnTo>
                  <a:lnTo>
                    <a:pt x="1295400" y="586740"/>
                  </a:lnTo>
                  <a:lnTo>
                    <a:pt x="792480" y="586740"/>
                  </a:lnTo>
                  <a:lnTo>
                    <a:pt x="792480" y="15240"/>
                  </a:lnTo>
                  <a:lnTo>
                    <a:pt x="4953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グループ化 12"/>
          <p:cNvGrpSpPr/>
          <p:nvPr/>
        </p:nvGrpSpPr>
        <p:grpSpPr>
          <a:xfrm>
            <a:off x="4138200" y="176040"/>
            <a:ext cx="1679400" cy="2479680"/>
            <a:chOff x="4138200" y="176040"/>
            <a:chExt cx="1679400" cy="2479680"/>
          </a:xfrm>
        </p:grpSpPr>
        <p:sp>
          <p:nvSpPr>
            <p:cNvPr id="252" name="月 195"/>
            <p:cNvSpPr/>
            <p:nvPr/>
          </p:nvSpPr>
          <p:spPr>
            <a:xfrm rot="11700000">
              <a:off x="4411800" y="283680"/>
              <a:ext cx="1131840" cy="2264040"/>
            </a:xfrm>
            <a:custGeom>
              <a:avLst/>
              <a:gdLst>
                <a:gd name="textAreaLeft" fmla="*/ 100440 w 1131840"/>
                <a:gd name="textAreaRight" fmla="*/ 831240 w 1131840"/>
                <a:gd name="textAreaTop" fmla="*/ 664920 h 2264040"/>
                <a:gd name="textAreaBottom" fmla="*/ 1599120 h 226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30" y="2845"/>
                    <a:pt x="15859" y="5080"/>
                    <a:pt x="15859" y="10800"/>
                  </a:cubicBezTo>
                  <a:cubicBezTo>
                    <a:pt x="15859" y="16520"/>
                    <a:pt x="18730" y="1875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二等辺三角形 11"/>
            <p:cNvSpPr/>
            <p:nvPr/>
          </p:nvSpPr>
          <p:spPr>
            <a:xfrm>
              <a:off x="4841280" y="1052280"/>
              <a:ext cx="288000" cy="24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二等辺三角形 197"/>
            <p:cNvSpPr/>
            <p:nvPr/>
          </p:nvSpPr>
          <p:spPr>
            <a:xfrm>
              <a:off x="5201280" y="1023480"/>
              <a:ext cx="288000" cy="24984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Freeform 10"/>
          <p:cNvSpPr/>
          <p:nvPr/>
        </p:nvSpPr>
        <p:spPr>
          <a:xfrm>
            <a:off x="3728880" y="5430960"/>
            <a:ext cx="936720" cy="892080"/>
          </a:xfrm>
          <a:custGeom>
            <a:avLst/>
            <a:gdLst/>
            <a:ahLst/>
            <a:rect l="l" t="t" r="r" b="b"/>
            <a:pathLst>
              <a:path w="952" h="907">
                <a:moveTo>
                  <a:pt x="589" y="544"/>
                </a:moveTo>
                <a:lnTo>
                  <a:pt x="589" y="771"/>
                </a:lnTo>
                <a:lnTo>
                  <a:pt x="363" y="771"/>
                </a:lnTo>
                <a:lnTo>
                  <a:pt x="363" y="907"/>
                </a:lnTo>
                <a:lnTo>
                  <a:pt x="771" y="907"/>
                </a:lnTo>
                <a:lnTo>
                  <a:pt x="771" y="453"/>
                </a:lnTo>
                <a:lnTo>
                  <a:pt x="952" y="453"/>
                </a:lnTo>
                <a:lnTo>
                  <a:pt x="771" y="272"/>
                </a:lnTo>
                <a:lnTo>
                  <a:pt x="771" y="0"/>
                </a:lnTo>
                <a:lnTo>
                  <a:pt x="635" y="0"/>
                </a:lnTo>
                <a:lnTo>
                  <a:pt x="635" y="181"/>
                </a:lnTo>
                <a:lnTo>
                  <a:pt x="453" y="0"/>
                </a:lnTo>
                <a:lnTo>
                  <a:pt x="0" y="453"/>
                </a:lnTo>
                <a:lnTo>
                  <a:pt x="181" y="453"/>
                </a:lnTo>
                <a:lnTo>
                  <a:pt x="181" y="907"/>
                </a:lnTo>
                <a:lnTo>
                  <a:pt x="363" y="907"/>
                </a:lnTo>
                <a:lnTo>
                  <a:pt x="363" y="544"/>
                </a:lnTo>
                <a:lnTo>
                  <a:pt x="589" y="5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83"/>
          <p:cNvGrpSpPr/>
          <p:nvPr/>
        </p:nvGrpSpPr>
        <p:grpSpPr>
          <a:xfrm>
            <a:off x="4967280" y="4145040"/>
            <a:ext cx="2087640" cy="2160000"/>
            <a:chOff x="4967280" y="4145040"/>
            <a:chExt cx="2087640" cy="2160000"/>
          </a:xfrm>
        </p:grpSpPr>
        <p:grpSp>
          <p:nvGrpSpPr>
            <p:cNvPr id="257" name="Group 41"/>
            <p:cNvGrpSpPr/>
            <p:nvPr/>
          </p:nvGrpSpPr>
          <p:grpSpPr>
            <a:xfrm>
              <a:off x="4967280" y="4145040"/>
              <a:ext cx="2087640" cy="2160000"/>
              <a:chOff x="4967280" y="4145040"/>
              <a:chExt cx="2087640" cy="2160000"/>
            </a:xfrm>
          </p:grpSpPr>
          <p:sp>
            <p:nvSpPr>
              <p:cNvPr id="258" name="Rectangle 11"/>
              <p:cNvSpPr/>
              <p:nvPr/>
            </p:nvSpPr>
            <p:spPr>
              <a:xfrm>
                <a:off x="5038920" y="5224320"/>
                <a:ext cx="217440" cy="64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2"/>
              <p:cNvSpPr/>
              <p:nvPr/>
            </p:nvSpPr>
            <p:spPr>
              <a:xfrm>
                <a:off x="5830920" y="4576320"/>
                <a:ext cx="362160" cy="1079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Rectangle 13"/>
              <p:cNvSpPr/>
              <p:nvPr/>
            </p:nvSpPr>
            <p:spPr>
              <a:xfrm>
                <a:off x="6767640" y="5224320"/>
                <a:ext cx="217440" cy="64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4"/>
              <p:cNvSpPr/>
              <p:nvPr/>
            </p:nvSpPr>
            <p:spPr>
              <a:xfrm>
                <a:off x="4967280" y="4936680"/>
                <a:ext cx="360360" cy="287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15"/>
              <p:cNvSpPr/>
              <p:nvPr/>
            </p:nvSpPr>
            <p:spPr>
              <a:xfrm>
                <a:off x="5759640" y="4145040"/>
                <a:ext cx="503280" cy="431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16"/>
              <p:cNvSpPr/>
              <p:nvPr/>
            </p:nvSpPr>
            <p:spPr>
              <a:xfrm>
                <a:off x="6694560" y="4936680"/>
                <a:ext cx="360360" cy="2872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7"/>
              <p:cNvSpPr/>
              <p:nvPr/>
            </p:nvSpPr>
            <p:spPr>
              <a:xfrm>
                <a:off x="4967280" y="5584680"/>
                <a:ext cx="2087640" cy="57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8"/>
              <p:cNvSpPr/>
              <p:nvPr/>
            </p:nvSpPr>
            <p:spPr>
              <a:xfrm>
                <a:off x="5038920" y="6089400"/>
                <a:ext cx="1944720" cy="215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31"/>
              <p:cNvSpPr/>
              <p:nvPr/>
            </p:nvSpPr>
            <p:spPr>
              <a:xfrm>
                <a:off x="5327640" y="5513040"/>
                <a:ext cx="71640" cy="14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32"/>
              <p:cNvSpPr/>
              <p:nvPr/>
            </p:nvSpPr>
            <p:spPr>
              <a:xfrm>
                <a:off x="5470560" y="5513040"/>
                <a:ext cx="71640" cy="14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33"/>
              <p:cNvSpPr/>
              <p:nvPr/>
            </p:nvSpPr>
            <p:spPr>
              <a:xfrm>
                <a:off x="5616720" y="5513040"/>
                <a:ext cx="71280" cy="14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Rectangle 34"/>
              <p:cNvSpPr/>
              <p:nvPr/>
            </p:nvSpPr>
            <p:spPr>
              <a:xfrm>
                <a:off x="6623280" y="5513040"/>
                <a:ext cx="71280" cy="14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Rectangle 35"/>
              <p:cNvSpPr/>
              <p:nvPr/>
            </p:nvSpPr>
            <p:spPr>
              <a:xfrm>
                <a:off x="6480360" y="5513040"/>
                <a:ext cx="71280" cy="14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Rectangle 36"/>
              <p:cNvSpPr/>
              <p:nvPr/>
            </p:nvSpPr>
            <p:spPr>
              <a:xfrm>
                <a:off x="6336000" y="5513040"/>
                <a:ext cx="71280" cy="14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Rectangle 37"/>
              <p:cNvSpPr/>
              <p:nvPr/>
            </p:nvSpPr>
            <p:spPr>
              <a:xfrm>
                <a:off x="6191280" y="5513040"/>
                <a:ext cx="71640" cy="14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38"/>
              <p:cNvSpPr/>
              <p:nvPr/>
            </p:nvSpPr>
            <p:spPr>
              <a:xfrm>
                <a:off x="5759640" y="5513040"/>
                <a:ext cx="71280" cy="142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40"/>
            <p:cNvGrpSpPr/>
            <p:nvPr/>
          </p:nvGrpSpPr>
          <p:grpSpPr>
            <a:xfrm>
              <a:off x="5112000" y="4721040"/>
              <a:ext cx="1798560" cy="1151640"/>
              <a:chOff x="5112000" y="4721040"/>
              <a:chExt cx="1798560" cy="1151640"/>
            </a:xfrm>
          </p:grpSpPr>
          <p:sp>
            <p:nvSpPr>
              <p:cNvPr id="275" name="AutoShape 20"/>
              <p:cNvSpPr/>
              <p:nvPr/>
            </p:nvSpPr>
            <p:spPr>
              <a:xfrm rot="16200000">
                <a:off x="5940720" y="4721040"/>
                <a:ext cx="142560" cy="1425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AutoShape 21"/>
              <p:cNvSpPr/>
              <p:nvPr/>
            </p:nvSpPr>
            <p:spPr>
              <a:xfrm rot="16200000">
                <a:off x="5112000" y="5223240"/>
                <a:ext cx="70920" cy="7128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22"/>
              <p:cNvSpPr/>
              <p:nvPr/>
            </p:nvSpPr>
            <p:spPr>
              <a:xfrm rot="16200000">
                <a:off x="6839280" y="5223240"/>
                <a:ext cx="70920" cy="7164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23"/>
              <p:cNvSpPr/>
              <p:nvPr/>
            </p:nvSpPr>
            <p:spPr>
              <a:xfrm rot="16200000">
                <a:off x="5183280" y="5728320"/>
                <a:ext cx="144000" cy="14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25"/>
              <p:cNvSpPr/>
              <p:nvPr/>
            </p:nvSpPr>
            <p:spPr>
              <a:xfrm rot="16200000">
                <a:off x="5484960" y="5728320"/>
                <a:ext cx="144000" cy="14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AutoShape 26"/>
              <p:cNvSpPr/>
              <p:nvPr/>
            </p:nvSpPr>
            <p:spPr>
              <a:xfrm rot="16200000">
                <a:off x="5786640" y="5728320"/>
                <a:ext cx="144000" cy="14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AutoShape 27"/>
              <p:cNvSpPr/>
              <p:nvPr/>
            </p:nvSpPr>
            <p:spPr>
              <a:xfrm rot="16200000">
                <a:off x="6089760" y="5728320"/>
                <a:ext cx="144000" cy="14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29"/>
              <p:cNvSpPr/>
              <p:nvPr/>
            </p:nvSpPr>
            <p:spPr>
              <a:xfrm rot="16200000">
                <a:off x="6391440" y="5728320"/>
                <a:ext cx="144000" cy="14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30"/>
              <p:cNvSpPr/>
              <p:nvPr/>
            </p:nvSpPr>
            <p:spPr>
              <a:xfrm rot="16200000">
                <a:off x="6694560" y="5728320"/>
                <a:ext cx="144000" cy="14436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"/>
          <p:cNvSpPr/>
          <p:nvPr/>
        </p:nvSpPr>
        <p:spPr>
          <a:xfrm rot="11700000">
            <a:off x="4952520" y="2997000"/>
            <a:ext cx="75564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819" y="724"/>
                  <a:pt x="4037" y="5080"/>
                  <a:pt x="4037" y="10800"/>
                </a:cubicBezTo>
                <a:cubicBezTo>
                  <a:pt x="4037" y="16520"/>
                  <a:pt x="12819" y="2087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1700000">
            <a:off x="4088880" y="2565000"/>
            <a:ext cx="755640" cy="1511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9513" y="3126"/>
                  <a:pt x="17426" y="5080"/>
                  <a:pt x="17426" y="10800"/>
                </a:cubicBezTo>
                <a:cubicBezTo>
                  <a:pt x="17426" y="16520"/>
                  <a:pt x="19513" y="1847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329600" y="4797360"/>
            <a:ext cx="1871640" cy="1514160"/>
            <a:chOff x="7329600" y="4797360"/>
            <a:chExt cx="1871640" cy="1514160"/>
          </a:xfrm>
        </p:grpSpPr>
        <p:sp>
          <p:nvSpPr>
            <p:cNvPr id="287" name=""/>
            <p:cNvSpPr/>
            <p:nvPr/>
          </p:nvSpPr>
          <p:spPr>
            <a:xfrm>
              <a:off x="7329600" y="4797360"/>
              <a:ext cx="1871640" cy="1512720"/>
            </a:xfrm>
            <a:custGeom>
              <a:avLst/>
              <a:gdLst/>
              <a:ahLst/>
              <a:rect l="l" t="t" r="r" b="b"/>
              <a:pathLst>
                <a:path w="1179" h="953">
                  <a:moveTo>
                    <a:pt x="1179" y="953"/>
                  </a:moveTo>
                  <a:lnTo>
                    <a:pt x="0" y="953"/>
                  </a:lnTo>
                  <a:lnTo>
                    <a:pt x="0" y="273"/>
                  </a:lnTo>
                  <a:lnTo>
                    <a:pt x="136" y="91"/>
                  </a:lnTo>
                  <a:lnTo>
                    <a:pt x="272" y="273"/>
                  </a:lnTo>
                  <a:lnTo>
                    <a:pt x="272" y="409"/>
                  </a:lnTo>
                  <a:lnTo>
                    <a:pt x="453" y="409"/>
                  </a:lnTo>
                  <a:lnTo>
                    <a:pt x="453" y="182"/>
                  </a:lnTo>
                  <a:lnTo>
                    <a:pt x="589" y="0"/>
                  </a:lnTo>
                  <a:lnTo>
                    <a:pt x="726" y="182"/>
                  </a:lnTo>
                  <a:lnTo>
                    <a:pt x="726" y="363"/>
                  </a:lnTo>
                  <a:lnTo>
                    <a:pt x="907" y="363"/>
                  </a:lnTo>
                  <a:lnTo>
                    <a:pt x="907" y="273"/>
                  </a:lnTo>
                  <a:lnTo>
                    <a:pt x="1043" y="91"/>
                  </a:lnTo>
                  <a:lnTo>
                    <a:pt x="1179" y="273"/>
                  </a:lnTo>
                  <a:lnTo>
                    <a:pt x="1179" y="9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200000">
              <a:off x="8156520" y="5987520"/>
              <a:ext cx="289080" cy="358920"/>
            </a:xfrm>
            <a:prstGeom prst="flowChartDelay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200000">
              <a:off x="7488360" y="5215680"/>
              <a:ext cx="115560" cy="144720"/>
            </a:xfrm>
            <a:prstGeom prst="flowChartDelay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16200000">
              <a:off x="8207640" y="5216040"/>
              <a:ext cx="115560" cy="144360"/>
            </a:xfrm>
            <a:prstGeom prst="flowChartDelay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6200000">
              <a:off x="8928360" y="5216040"/>
              <a:ext cx="115560" cy="144360"/>
            </a:xfrm>
            <a:prstGeom prst="flowChartDelay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16200000">
              <a:off x="7488360" y="5648040"/>
              <a:ext cx="115920" cy="144720"/>
            </a:xfrm>
            <a:prstGeom prst="flowChartDelay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6200000">
              <a:off x="7775640" y="5648040"/>
              <a:ext cx="115920" cy="144720"/>
            </a:xfrm>
            <a:prstGeom prst="flowChartDelay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rot="16200000">
              <a:off x="8064360" y="5648040"/>
              <a:ext cx="115920" cy="144360"/>
            </a:xfrm>
            <a:prstGeom prst="flowChartDelay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6200000">
              <a:off x="8351640" y="5648040"/>
              <a:ext cx="115920" cy="144360"/>
            </a:xfrm>
            <a:prstGeom prst="flowChartDelay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6200000">
              <a:off x="8640720" y="5648040"/>
              <a:ext cx="115920" cy="144360"/>
            </a:xfrm>
            <a:prstGeom prst="flowChartDelay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200000">
              <a:off x="8928000" y="5648040"/>
              <a:ext cx="115920" cy="144360"/>
            </a:xfrm>
            <a:prstGeom prst="flowChartDelay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6465960" y="-27000"/>
            <a:ext cx="3456000" cy="3311640"/>
            <a:chOff x="6465960" y="-27000"/>
            <a:chExt cx="3456000" cy="3311640"/>
          </a:xfrm>
        </p:grpSpPr>
        <p:grpSp>
          <p:nvGrpSpPr>
            <p:cNvPr id="299" name=""/>
            <p:cNvGrpSpPr/>
            <p:nvPr/>
          </p:nvGrpSpPr>
          <p:grpSpPr>
            <a:xfrm>
              <a:off x="7185600" y="222840"/>
              <a:ext cx="2079000" cy="2163600"/>
              <a:chOff x="7185600" y="222840"/>
              <a:chExt cx="2079000" cy="2163600"/>
            </a:xfrm>
          </p:grpSpPr>
          <p:sp>
            <p:nvSpPr>
              <p:cNvPr id="300" name=""/>
              <p:cNvSpPr/>
              <p:nvPr/>
            </p:nvSpPr>
            <p:spPr>
              <a:xfrm rot="2347800">
                <a:off x="7616880" y="404640"/>
                <a:ext cx="1216080" cy="1800000"/>
              </a:xfrm>
              <a:prstGeom prst="pentagon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2347800">
                <a:off x="7814880" y="758520"/>
                <a:ext cx="778320" cy="1152360"/>
              </a:xfrm>
              <a:prstGeom prst="pentagon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2347800">
                <a:off x="7977600" y="987120"/>
                <a:ext cx="484200" cy="718920"/>
              </a:xfrm>
              <a:prstGeom prst="pentagon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2347800">
                <a:off x="8113320" y="1133280"/>
                <a:ext cx="242640" cy="360360"/>
              </a:xfrm>
              <a:prstGeom prst="pentagon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8337600" y="-27000"/>
              <a:ext cx="936720" cy="1224000"/>
            </a:xfrm>
            <a:custGeom>
              <a:avLst/>
              <a:gdLst/>
              <a:ahLst/>
              <a:rect l="l" t="t" r="r" b="b"/>
              <a:pathLst>
                <a:path w="590" h="771">
                  <a:moveTo>
                    <a:pt x="0" y="771"/>
                  </a:moveTo>
                  <a:lnTo>
                    <a:pt x="317" y="408"/>
                  </a:lnTo>
                  <a:lnTo>
                    <a:pt x="590" y="0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4880" y="1557360"/>
              <a:ext cx="936720" cy="1727280"/>
            </a:xfrm>
            <a:custGeom>
              <a:avLst/>
              <a:gdLst/>
              <a:ahLst/>
              <a:rect l="l" t="t" r="r" b="b"/>
              <a:pathLst>
                <a:path w="590" h="1088">
                  <a:moveTo>
                    <a:pt x="590" y="0"/>
                  </a:moveTo>
                  <a:lnTo>
                    <a:pt x="499" y="408"/>
                  </a:lnTo>
                  <a:lnTo>
                    <a:pt x="318" y="816"/>
                  </a:lnTo>
                  <a:lnTo>
                    <a:pt x="0" y="1088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37600" y="1413000"/>
              <a:ext cx="1584360" cy="215640"/>
            </a:xfrm>
            <a:custGeom>
              <a:avLst/>
              <a:gdLst/>
              <a:ahLst/>
              <a:rect l="l" t="t" r="r" b="b"/>
              <a:pathLst>
                <a:path w="998" h="136">
                  <a:moveTo>
                    <a:pt x="0" y="0"/>
                  </a:moveTo>
                  <a:lnTo>
                    <a:pt x="181" y="45"/>
                  </a:lnTo>
                  <a:lnTo>
                    <a:pt x="544" y="136"/>
                  </a:lnTo>
                  <a:lnTo>
                    <a:pt x="998" y="45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832880" y="44280"/>
              <a:ext cx="360360" cy="1297080"/>
            </a:xfrm>
            <a:custGeom>
              <a:avLst/>
              <a:gdLst/>
              <a:ahLst/>
              <a:rect l="l" t="t" r="r" b="b"/>
              <a:pathLst>
                <a:path w="227" h="817">
                  <a:moveTo>
                    <a:pt x="0" y="0"/>
                  </a:moveTo>
                  <a:lnTo>
                    <a:pt x="0" y="408"/>
                  </a:lnTo>
                  <a:lnTo>
                    <a:pt x="136" y="681"/>
                  </a:lnTo>
                  <a:lnTo>
                    <a:pt x="227" y="817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465960" y="1341360"/>
              <a:ext cx="1727280" cy="358920"/>
            </a:xfrm>
            <a:custGeom>
              <a:avLst/>
              <a:gdLst/>
              <a:ahLst/>
              <a:rect l="l" t="t" r="r" b="b"/>
              <a:pathLst>
                <a:path w="1088" h="226">
                  <a:moveTo>
                    <a:pt x="0" y="226"/>
                  </a:moveTo>
                  <a:lnTo>
                    <a:pt x="544" y="226"/>
                  </a:lnTo>
                  <a:lnTo>
                    <a:pt x="952" y="90"/>
                  </a:lnTo>
                  <a:lnTo>
                    <a:pt x="1088" y="0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65960" y="1484280"/>
              <a:ext cx="1656000" cy="1152720"/>
            </a:xfrm>
            <a:custGeom>
              <a:avLst/>
              <a:gdLst/>
              <a:ahLst/>
              <a:rect l="l" t="t" r="r" b="b"/>
              <a:pathLst>
                <a:path w="1043" h="726">
                  <a:moveTo>
                    <a:pt x="0" y="0"/>
                  </a:moveTo>
                  <a:lnTo>
                    <a:pt x="181" y="318"/>
                  </a:lnTo>
                  <a:lnTo>
                    <a:pt x="544" y="499"/>
                  </a:lnTo>
                  <a:lnTo>
                    <a:pt x="1043" y="726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024160" y="404640"/>
            <a:ext cx="2808360" cy="3168360"/>
            <a:chOff x="5024160" y="404640"/>
            <a:chExt cx="2808360" cy="3168360"/>
          </a:xfrm>
        </p:grpSpPr>
        <p:grpSp>
          <p:nvGrpSpPr>
            <p:cNvPr id="311" name=""/>
            <p:cNvGrpSpPr/>
            <p:nvPr/>
          </p:nvGrpSpPr>
          <p:grpSpPr>
            <a:xfrm>
              <a:off x="5477040" y="699120"/>
              <a:ext cx="1853640" cy="1959840"/>
              <a:chOff x="5477040" y="699120"/>
              <a:chExt cx="1853640" cy="1959840"/>
            </a:xfrm>
          </p:grpSpPr>
          <p:sp>
            <p:nvSpPr>
              <p:cNvPr id="312" name=""/>
              <p:cNvSpPr/>
              <p:nvPr/>
            </p:nvSpPr>
            <p:spPr>
              <a:xfrm flipH="1" rot="19252200">
                <a:off x="5909400" y="817560"/>
                <a:ext cx="988200" cy="1722600"/>
              </a:xfrm>
              <a:prstGeom prst="pentagon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H="1" rot="19252200">
                <a:off x="6107040" y="1155600"/>
                <a:ext cx="632520" cy="1102680"/>
              </a:xfrm>
              <a:prstGeom prst="pentagon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rot="19252200">
                <a:off x="6213960" y="1372680"/>
                <a:ext cx="393480" cy="687960"/>
              </a:xfrm>
              <a:prstGeom prst="pentagon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rot="19252200">
                <a:off x="6296760" y="1513800"/>
                <a:ext cx="196920" cy="344880"/>
              </a:xfrm>
              <a:prstGeom prst="pentagon">
                <a:avLst/>
              </a:prstGeom>
              <a:noFill/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 flipH="1">
              <a:off x="5550840" y="404640"/>
              <a:ext cx="761040" cy="1171080"/>
            </a:xfrm>
            <a:custGeom>
              <a:avLst/>
              <a:gdLst/>
              <a:ahLst/>
              <a:rect l="l" t="t" r="r" b="b"/>
              <a:pathLst>
                <a:path w="590" h="771">
                  <a:moveTo>
                    <a:pt x="0" y="771"/>
                  </a:moveTo>
                  <a:lnTo>
                    <a:pt x="317" y="408"/>
                  </a:lnTo>
                  <a:lnTo>
                    <a:pt x="590" y="0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6487560" y="1920600"/>
              <a:ext cx="761040" cy="1652400"/>
            </a:xfrm>
            <a:custGeom>
              <a:avLst/>
              <a:gdLst/>
              <a:ahLst/>
              <a:rect l="l" t="t" r="r" b="b"/>
              <a:pathLst>
                <a:path w="590" h="1088">
                  <a:moveTo>
                    <a:pt x="590" y="0"/>
                  </a:moveTo>
                  <a:lnTo>
                    <a:pt x="499" y="408"/>
                  </a:lnTo>
                  <a:lnTo>
                    <a:pt x="318" y="816"/>
                  </a:lnTo>
                  <a:lnTo>
                    <a:pt x="0" y="1088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5024520" y="1782360"/>
              <a:ext cx="1287360" cy="206280"/>
            </a:xfrm>
            <a:custGeom>
              <a:avLst/>
              <a:gdLst/>
              <a:ahLst/>
              <a:rect l="l" t="t" r="r" b="b"/>
              <a:pathLst>
                <a:path w="998" h="136">
                  <a:moveTo>
                    <a:pt x="0" y="0"/>
                  </a:moveTo>
                  <a:lnTo>
                    <a:pt x="181" y="45"/>
                  </a:lnTo>
                  <a:lnTo>
                    <a:pt x="544" y="136"/>
                  </a:lnTo>
                  <a:lnTo>
                    <a:pt x="998" y="45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428880" y="472680"/>
              <a:ext cx="292680" cy="1240920"/>
            </a:xfrm>
            <a:custGeom>
              <a:avLst/>
              <a:gdLst/>
              <a:ahLst/>
              <a:rect l="l" t="t" r="r" b="b"/>
              <a:pathLst>
                <a:path w="227" h="817">
                  <a:moveTo>
                    <a:pt x="0" y="0"/>
                  </a:moveTo>
                  <a:lnTo>
                    <a:pt x="0" y="408"/>
                  </a:lnTo>
                  <a:lnTo>
                    <a:pt x="136" y="681"/>
                  </a:lnTo>
                  <a:lnTo>
                    <a:pt x="227" y="817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429240" y="1713600"/>
              <a:ext cx="1403280" cy="343080"/>
            </a:xfrm>
            <a:custGeom>
              <a:avLst/>
              <a:gdLst/>
              <a:ahLst/>
              <a:rect l="l" t="t" r="r" b="b"/>
              <a:pathLst>
                <a:path w="1088" h="226">
                  <a:moveTo>
                    <a:pt x="0" y="226"/>
                  </a:moveTo>
                  <a:lnTo>
                    <a:pt x="544" y="226"/>
                  </a:lnTo>
                  <a:lnTo>
                    <a:pt x="952" y="90"/>
                  </a:lnTo>
                  <a:lnTo>
                    <a:pt x="1088" y="0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024160" y="1850400"/>
              <a:ext cx="1345680" cy="1102680"/>
            </a:xfrm>
            <a:custGeom>
              <a:avLst/>
              <a:gdLst/>
              <a:ahLst/>
              <a:rect l="l" t="t" r="r" b="b"/>
              <a:pathLst>
                <a:path w="1043" h="726">
                  <a:moveTo>
                    <a:pt x="0" y="0"/>
                  </a:moveTo>
                  <a:lnTo>
                    <a:pt x="181" y="318"/>
                  </a:lnTo>
                  <a:lnTo>
                    <a:pt x="544" y="499"/>
                  </a:lnTo>
                  <a:lnTo>
                    <a:pt x="1043" y="726"/>
                  </a:lnTo>
                </a:path>
              </a:pathLst>
            </a:custGeom>
            <a:noFill/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7473960" y="759600"/>
            <a:ext cx="1168200" cy="1038600"/>
            <a:chOff x="7473960" y="759600"/>
            <a:chExt cx="1168200" cy="1038600"/>
          </a:xfrm>
        </p:grpSpPr>
        <p:sp>
          <p:nvSpPr>
            <p:cNvPr id="323" name=""/>
            <p:cNvSpPr/>
            <p:nvPr/>
          </p:nvSpPr>
          <p:spPr>
            <a:xfrm>
              <a:off x="8002440" y="1005120"/>
              <a:ext cx="191520" cy="191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906320" y="1149120"/>
              <a:ext cx="384120" cy="480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61960" y="765000"/>
              <a:ext cx="240120" cy="528480"/>
            </a:xfrm>
            <a:custGeom>
              <a:avLst/>
              <a:gdLst/>
              <a:ahLst/>
              <a:rect l="l" t="t" r="r" b="b"/>
              <a:pathLst>
                <a:path w="227" h="499">
                  <a:moveTo>
                    <a:pt x="227" y="454"/>
                  </a:moveTo>
                  <a:lnTo>
                    <a:pt x="45" y="318"/>
                  </a:lnTo>
                  <a:lnTo>
                    <a:pt x="91" y="0"/>
                  </a:lnTo>
                  <a:lnTo>
                    <a:pt x="0" y="318"/>
                  </a:lnTo>
                  <a:lnTo>
                    <a:pt x="182" y="499"/>
                  </a:lnTo>
                  <a:lnTo>
                    <a:pt x="227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rot="1520400">
              <a:off x="8242560" y="765000"/>
              <a:ext cx="144000" cy="528480"/>
            </a:xfrm>
            <a:custGeom>
              <a:avLst/>
              <a:gdLst/>
              <a:ahLst/>
              <a:rect l="l" t="t" r="r" b="b"/>
              <a:pathLst>
                <a:path w="227" h="499">
                  <a:moveTo>
                    <a:pt x="227" y="454"/>
                  </a:moveTo>
                  <a:lnTo>
                    <a:pt x="45" y="318"/>
                  </a:lnTo>
                  <a:lnTo>
                    <a:pt x="91" y="0"/>
                  </a:lnTo>
                  <a:lnTo>
                    <a:pt x="0" y="318"/>
                  </a:lnTo>
                  <a:lnTo>
                    <a:pt x="182" y="499"/>
                  </a:lnTo>
                  <a:lnTo>
                    <a:pt x="227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617960" y="1005120"/>
              <a:ext cx="384480" cy="38412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363" y="317"/>
                  </a:moveTo>
                  <a:lnTo>
                    <a:pt x="136" y="227"/>
                  </a:lnTo>
                  <a:lnTo>
                    <a:pt x="0" y="0"/>
                  </a:lnTo>
                  <a:lnTo>
                    <a:pt x="136" y="272"/>
                  </a:lnTo>
                  <a:lnTo>
                    <a:pt x="318" y="363"/>
                  </a:lnTo>
                  <a:lnTo>
                    <a:pt x="363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473960" y="1341000"/>
              <a:ext cx="528480" cy="19260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454" y="45"/>
                  </a:moveTo>
                  <a:lnTo>
                    <a:pt x="227" y="0"/>
                  </a:lnTo>
                  <a:lnTo>
                    <a:pt x="0" y="182"/>
                  </a:lnTo>
                  <a:lnTo>
                    <a:pt x="227" y="45"/>
                  </a:lnTo>
                  <a:lnTo>
                    <a:pt x="499" y="91"/>
                  </a:lnTo>
                  <a:lnTo>
                    <a:pt x="4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70440" y="1485000"/>
              <a:ext cx="479520" cy="288000"/>
            </a:xfrm>
            <a:custGeom>
              <a:avLst/>
              <a:gdLst/>
              <a:ahLst/>
              <a:rect l="l" t="t" r="r" b="b"/>
              <a:pathLst>
                <a:path w="453" h="272">
                  <a:moveTo>
                    <a:pt x="408" y="0"/>
                  </a:moveTo>
                  <a:lnTo>
                    <a:pt x="136" y="0"/>
                  </a:lnTo>
                  <a:lnTo>
                    <a:pt x="0" y="272"/>
                  </a:lnTo>
                  <a:lnTo>
                    <a:pt x="181" y="46"/>
                  </a:lnTo>
                  <a:lnTo>
                    <a:pt x="453" y="46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 rot="884400">
              <a:off x="8193960" y="1101600"/>
              <a:ext cx="384480" cy="25632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363" y="317"/>
                  </a:moveTo>
                  <a:lnTo>
                    <a:pt x="136" y="227"/>
                  </a:lnTo>
                  <a:lnTo>
                    <a:pt x="0" y="0"/>
                  </a:lnTo>
                  <a:lnTo>
                    <a:pt x="136" y="272"/>
                  </a:lnTo>
                  <a:lnTo>
                    <a:pt x="318" y="363"/>
                  </a:lnTo>
                  <a:lnTo>
                    <a:pt x="363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 rot="844800">
              <a:off x="8049240" y="1373760"/>
              <a:ext cx="528480" cy="12816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454" y="45"/>
                  </a:moveTo>
                  <a:lnTo>
                    <a:pt x="227" y="0"/>
                  </a:lnTo>
                  <a:lnTo>
                    <a:pt x="0" y="182"/>
                  </a:lnTo>
                  <a:lnTo>
                    <a:pt x="227" y="45"/>
                  </a:lnTo>
                  <a:lnTo>
                    <a:pt x="499" y="91"/>
                  </a:lnTo>
                  <a:lnTo>
                    <a:pt x="4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rot="871200">
              <a:off x="8146440" y="1549440"/>
              <a:ext cx="479520" cy="191520"/>
            </a:xfrm>
            <a:custGeom>
              <a:avLst/>
              <a:gdLst/>
              <a:ahLst/>
              <a:rect l="l" t="t" r="r" b="b"/>
              <a:pathLst>
                <a:path w="453" h="272">
                  <a:moveTo>
                    <a:pt x="408" y="0"/>
                  </a:moveTo>
                  <a:lnTo>
                    <a:pt x="136" y="0"/>
                  </a:lnTo>
                  <a:lnTo>
                    <a:pt x="0" y="272"/>
                  </a:lnTo>
                  <a:lnTo>
                    <a:pt x="181" y="46"/>
                  </a:lnTo>
                  <a:lnTo>
                    <a:pt x="453" y="46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"/>
          <p:cNvGrpSpPr/>
          <p:nvPr/>
        </p:nvGrpSpPr>
        <p:grpSpPr>
          <a:xfrm>
            <a:off x="200160" y="189000"/>
            <a:ext cx="1800000" cy="1584360"/>
            <a:chOff x="200160" y="189000"/>
            <a:chExt cx="1800000" cy="1584360"/>
          </a:xfrm>
        </p:grpSpPr>
        <p:sp>
          <p:nvSpPr>
            <p:cNvPr id="334" name="Oval 29"/>
            <p:cNvSpPr/>
            <p:nvPr/>
          </p:nvSpPr>
          <p:spPr>
            <a:xfrm>
              <a:off x="992160" y="189000"/>
              <a:ext cx="144360" cy="28872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28"/>
            <p:cNvSpPr/>
            <p:nvPr/>
          </p:nvSpPr>
          <p:spPr>
            <a:xfrm>
              <a:off x="849240" y="331920"/>
              <a:ext cx="432000" cy="28872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"/>
            <p:cNvSpPr/>
            <p:nvPr/>
          </p:nvSpPr>
          <p:spPr>
            <a:xfrm>
              <a:off x="1281240" y="549360"/>
              <a:ext cx="718920" cy="1079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7"/>
            <p:cNvSpPr/>
            <p:nvPr/>
          </p:nvSpPr>
          <p:spPr>
            <a:xfrm>
              <a:off x="200160" y="549360"/>
              <a:ext cx="718920" cy="1079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3"/>
            <p:cNvSpPr/>
            <p:nvPr/>
          </p:nvSpPr>
          <p:spPr>
            <a:xfrm>
              <a:off x="415800" y="476280"/>
              <a:ext cx="719280" cy="1225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5"/>
            <p:cNvSpPr/>
            <p:nvPr/>
          </p:nvSpPr>
          <p:spPr>
            <a:xfrm>
              <a:off x="1065240" y="476280"/>
              <a:ext cx="719280" cy="1225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6"/>
            <p:cNvSpPr/>
            <p:nvPr/>
          </p:nvSpPr>
          <p:spPr>
            <a:xfrm>
              <a:off x="704880" y="404640"/>
              <a:ext cx="720720" cy="136872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24"/>
            <p:cNvSpPr/>
            <p:nvPr/>
          </p:nvSpPr>
          <p:spPr>
            <a:xfrm>
              <a:off x="560520" y="765000"/>
              <a:ext cx="36036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25"/>
            <p:cNvSpPr/>
            <p:nvPr/>
          </p:nvSpPr>
          <p:spPr>
            <a:xfrm>
              <a:off x="1281240" y="765000"/>
              <a:ext cx="36036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30"/>
            <p:cNvSpPr/>
            <p:nvPr/>
          </p:nvSpPr>
          <p:spPr>
            <a:xfrm>
              <a:off x="776160" y="1052640"/>
              <a:ext cx="576360" cy="309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200160" y="1846440"/>
            <a:ext cx="1800000" cy="1584000"/>
            <a:chOff x="200160" y="1846440"/>
            <a:chExt cx="1800000" cy="1584000"/>
          </a:xfrm>
        </p:grpSpPr>
        <p:sp>
          <p:nvSpPr>
            <p:cNvPr id="345" name="Oval 31"/>
            <p:cNvSpPr/>
            <p:nvPr/>
          </p:nvSpPr>
          <p:spPr>
            <a:xfrm>
              <a:off x="992160" y="1846440"/>
              <a:ext cx="144360" cy="28872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32"/>
            <p:cNvSpPr/>
            <p:nvPr/>
          </p:nvSpPr>
          <p:spPr>
            <a:xfrm>
              <a:off x="849240" y="1989000"/>
              <a:ext cx="432000" cy="28908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>
              <a:off x="1281240" y="2206800"/>
              <a:ext cx="718920" cy="1079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>
              <a:off x="200160" y="2206800"/>
              <a:ext cx="718920" cy="1079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>
              <a:off x="415800" y="2133720"/>
              <a:ext cx="719280" cy="1225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>
              <a:off x="1065240" y="2133720"/>
              <a:ext cx="719280" cy="1225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>
              <a:off x="704880" y="2062080"/>
              <a:ext cx="720720" cy="1368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38"/>
            <p:cNvSpPr/>
            <p:nvPr/>
          </p:nvSpPr>
          <p:spPr>
            <a:xfrm>
              <a:off x="560520" y="2422440"/>
              <a:ext cx="360360" cy="358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39"/>
            <p:cNvSpPr/>
            <p:nvPr/>
          </p:nvSpPr>
          <p:spPr>
            <a:xfrm>
              <a:off x="1281240" y="2422440"/>
              <a:ext cx="360360" cy="3589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72"/>
            <p:cNvSpPr/>
            <p:nvPr/>
          </p:nvSpPr>
          <p:spPr>
            <a:xfrm>
              <a:off x="560520" y="2924280"/>
              <a:ext cx="1079280" cy="217440"/>
            </a:xfrm>
            <a:custGeom>
              <a:avLst/>
              <a:gdLst/>
              <a:ahLst/>
              <a:rect l="l" t="t" r="r" b="b"/>
              <a:pathLst>
                <a:path w="726" h="181">
                  <a:moveTo>
                    <a:pt x="0" y="0"/>
                  </a:moveTo>
                  <a:lnTo>
                    <a:pt x="91" y="181"/>
                  </a:lnTo>
                  <a:lnTo>
                    <a:pt x="318" y="181"/>
                  </a:lnTo>
                  <a:lnTo>
                    <a:pt x="318" y="91"/>
                  </a:lnTo>
                  <a:lnTo>
                    <a:pt x="409" y="91"/>
                  </a:lnTo>
                  <a:lnTo>
                    <a:pt x="409" y="181"/>
                  </a:lnTo>
                  <a:lnTo>
                    <a:pt x="635" y="181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545" y="91"/>
                  </a:lnTo>
                  <a:lnTo>
                    <a:pt x="454" y="91"/>
                  </a:lnTo>
                  <a:lnTo>
                    <a:pt x="454" y="0"/>
                  </a:lnTo>
                  <a:lnTo>
                    <a:pt x="273" y="0"/>
                  </a:lnTo>
                  <a:lnTo>
                    <a:pt x="273" y="91"/>
                  </a:lnTo>
                  <a:lnTo>
                    <a:pt x="182" y="91"/>
                  </a:lnTo>
                  <a:lnTo>
                    <a:pt x="1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200160" y="5157720"/>
            <a:ext cx="1800000" cy="1584360"/>
            <a:chOff x="200160" y="5157720"/>
            <a:chExt cx="1800000" cy="1584360"/>
          </a:xfrm>
        </p:grpSpPr>
        <p:sp>
          <p:nvSpPr>
            <p:cNvPr id="356" name="Oval 86"/>
            <p:cNvSpPr/>
            <p:nvPr/>
          </p:nvSpPr>
          <p:spPr>
            <a:xfrm>
              <a:off x="992160" y="5157720"/>
              <a:ext cx="144360" cy="28908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87"/>
            <p:cNvSpPr/>
            <p:nvPr/>
          </p:nvSpPr>
          <p:spPr>
            <a:xfrm>
              <a:off x="849240" y="5300640"/>
              <a:ext cx="432000" cy="28908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88"/>
            <p:cNvSpPr/>
            <p:nvPr/>
          </p:nvSpPr>
          <p:spPr>
            <a:xfrm>
              <a:off x="1281240" y="5518080"/>
              <a:ext cx="718920" cy="10796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89"/>
            <p:cNvSpPr/>
            <p:nvPr/>
          </p:nvSpPr>
          <p:spPr>
            <a:xfrm>
              <a:off x="200160" y="5518080"/>
              <a:ext cx="718920" cy="10796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90"/>
            <p:cNvSpPr/>
            <p:nvPr/>
          </p:nvSpPr>
          <p:spPr>
            <a:xfrm>
              <a:off x="415800" y="5445000"/>
              <a:ext cx="719280" cy="12258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91"/>
            <p:cNvSpPr/>
            <p:nvPr/>
          </p:nvSpPr>
          <p:spPr>
            <a:xfrm>
              <a:off x="1065240" y="5445000"/>
              <a:ext cx="719280" cy="12258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92"/>
            <p:cNvSpPr/>
            <p:nvPr/>
          </p:nvSpPr>
          <p:spPr>
            <a:xfrm>
              <a:off x="704880" y="5373720"/>
              <a:ext cx="720720" cy="1368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95"/>
            <p:cNvSpPr/>
            <p:nvPr/>
          </p:nvSpPr>
          <p:spPr>
            <a:xfrm>
              <a:off x="560520" y="6235560"/>
              <a:ext cx="1079280" cy="217800"/>
            </a:xfrm>
            <a:custGeom>
              <a:avLst/>
              <a:gdLst/>
              <a:ahLst/>
              <a:rect l="l" t="t" r="r" b="b"/>
              <a:pathLst>
                <a:path w="726" h="181">
                  <a:moveTo>
                    <a:pt x="0" y="0"/>
                  </a:moveTo>
                  <a:lnTo>
                    <a:pt x="91" y="181"/>
                  </a:lnTo>
                  <a:lnTo>
                    <a:pt x="318" y="181"/>
                  </a:lnTo>
                  <a:lnTo>
                    <a:pt x="318" y="91"/>
                  </a:lnTo>
                  <a:lnTo>
                    <a:pt x="409" y="91"/>
                  </a:lnTo>
                  <a:lnTo>
                    <a:pt x="409" y="181"/>
                  </a:lnTo>
                  <a:lnTo>
                    <a:pt x="635" y="181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545" y="91"/>
                  </a:lnTo>
                  <a:lnTo>
                    <a:pt x="454" y="91"/>
                  </a:lnTo>
                  <a:lnTo>
                    <a:pt x="454" y="0"/>
                  </a:lnTo>
                  <a:lnTo>
                    <a:pt x="273" y="0"/>
                  </a:lnTo>
                  <a:lnTo>
                    <a:pt x="273" y="91"/>
                  </a:lnTo>
                  <a:lnTo>
                    <a:pt x="182" y="91"/>
                  </a:lnTo>
                  <a:lnTo>
                    <a:pt x="1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97"/>
            <p:cNvSpPr/>
            <p:nvPr/>
          </p:nvSpPr>
          <p:spPr>
            <a:xfrm rot="10800000">
              <a:off x="488880" y="5733720"/>
              <a:ext cx="504720" cy="3589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98"/>
            <p:cNvSpPr/>
            <p:nvPr/>
          </p:nvSpPr>
          <p:spPr>
            <a:xfrm rot="10800000">
              <a:off x="1208160" y="5733720"/>
              <a:ext cx="504720" cy="3589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00160" y="3500280"/>
            <a:ext cx="1800000" cy="1584360"/>
            <a:chOff x="200160" y="3500280"/>
            <a:chExt cx="1800000" cy="1584360"/>
          </a:xfrm>
        </p:grpSpPr>
        <p:sp>
          <p:nvSpPr>
            <p:cNvPr id="367" name="Oval 75"/>
            <p:cNvSpPr/>
            <p:nvPr/>
          </p:nvSpPr>
          <p:spPr>
            <a:xfrm>
              <a:off x="992160" y="3500280"/>
              <a:ext cx="144360" cy="28908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76"/>
            <p:cNvSpPr/>
            <p:nvPr/>
          </p:nvSpPr>
          <p:spPr>
            <a:xfrm>
              <a:off x="849240" y="3643200"/>
              <a:ext cx="432000" cy="28908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77"/>
            <p:cNvSpPr/>
            <p:nvPr/>
          </p:nvSpPr>
          <p:spPr>
            <a:xfrm>
              <a:off x="1281240" y="3860640"/>
              <a:ext cx="718920" cy="10796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78"/>
            <p:cNvSpPr/>
            <p:nvPr/>
          </p:nvSpPr>
          <p:spPr>
            <a:xfrm>
              <a:off x="200160" y="3860640"/>
              <a:ext cx="718920" cy="10796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79"/>
            <p:cNvSpPr/>
            <p:nvPr/>
          </p:nvSpPr>
          <p:spPr>
            <a:xfrm>
              <a:off x="415800" y="3787920"/>
              <a:ext cx="719280" cy="1225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80"/>
            <p:cNvSpPr/>
            <p:nvPr/>
          </p:nvSpPr>
          <p:spPr>
            <a:xfrm>
              <a:off x="1065240" y="3787920"/>
              <a:ext cx="719280" cy="1225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81"/>
            <p:cNvSpPr/>
            <p:nvPr/>
          </p:nvSpPr>
          <p:spPr>
            <a:xfrm>
              <a:off x="704880" y="3716280"/>
              <a:ext cx="720720" cy="13683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84"/>
            <p:cNvSpPr/>
            <p:nvPr/>
          </p:nvSpPr>
          <p:spPr>
            <a:xfrm>
              <a:off x="560520" y="4437000"/>
              <a:ext cx="1079280" cy="432000"/>
            </a:xfrm>
            <a:custGeom>
              <a:avLst/>
              <a:gdLst/>
              <a:ahLst/>
              <a:rect l="l" t="t" r="r" b="b"/>
              <a:pathLst>
                <a:path w="726" h="181">
                  <a:moveTo>
                    <a:pt x="0" y="0"/>
                  </a:moveTo>
                  <a:lnTo>
                    <a:pt x="91" y="181"/>
                  </a:lnTo>
                  <a:lnTo>
                    <a:pt x="318" y="181"/>
                  </a:lnTo>
                  <a:lnTo>
                    <a:pt x="318" y="91"/>
                  </a:lnTo>
                  <a:lnTo>
                    <a:pt x="409" y="91"/>
                  </a:lnTo>
                  <a:lnTo>
                    <a:pt x="409" y="181"/>
                  </a:lnTo>
                  <a:lnTo>
                    <a:pt x="635" y="181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545" y="91"/>
                  </a:lnTo>
                  <a:lnTo>
                    <a:pt x="454" y="91"/>
                  </a:lnTo>
                  <a:lnTo>
                    <a:pt x="454" y="0"/>
                  </a:lnTo>
                  <a:lnTo>
                    <a:pt x="273" y="0"/>
                  </a:lnTo>
                  <a:lnTo>
                    <a:pt x="273" y="91"/>
                  </a:lnTo>
                  <a:lnTo>
                    <a:pt x="182" y="91"/>
                  </a:lnTo>
                  <a:lnTo>
                    <a:pt x="1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AutoShape 96"/>
            <p:cNvSpPr/>
            <p:nvPr/>
          </p:nvSpPr>
          <p:spPr>
            <a:xfrm>
              <a:off x="488880" y="3933720"/>
              <a:ext cx="504720" cy="3589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99"/>
            <p:cNvSpPr/>
            <p:nvPr/>
          </p:nvSpPr>
          <p:spPr>
            <a:xfrm>
              <a:off x="1208160" y="3933720"/>
              <a:ext cx="504720" cy="3589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457960" y="404640"/>
            <a:ext cx="1717200" cy="1728720"/>
            <a:chOff x="5457960" y="404640"/>
            <a:chExt cx="1717200" cy="1728720"/>
          </a:xfrm>
        </p:grpSpPr>
        <p:sp>
          <p:nvSpPr>
            <p:cNvPr id="378" name="Freeform 133"/>
            <p:cNvSpPr/>
            <p:nvPr/>
          </p:nvSpPr>
          <p:spPr>
            <a:xfrm>
              <a:off x="5648400" y="1022400"/>
              <a:ext cx="1526760" cy="111096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34"/>
            <p:cNvSpPr/>
            <p:nvPr/>
          </p:nvSpPr>
          <p:spPr>
            <a:xfrm>
              <a:off x="5751360" y="1282680"/>
              <a:ext cx="236160" cy="237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35"/>
            <p:cNvSpPr/>
            <p:nvPr/>
          </p:nvSpPr>
          <p:spPr>
            <a:xfrm>
              <a:off x="6083280" y="1282680"/>
              <a:ext cx="236160" cy="237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36"/>
            <p:cNvSpPr/>
            <p:nvPr/>
          </p:nvSpPr>
          <p:spPr>
            <a:xfrm>
              <a:off x="5457960" y="1022400"/>
              <a:ext cx="1139760" cy="333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37"/>
            <p:cNvSpPr/>
            <p:nvPr/>
          </p:nvSpPr>
          <p:spPr>
            <a:xfrm>
              <a:off x="5695920" y="404640"/>
              <a:ext cx="663120" cy="88596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360520" y="1844640"/>
            <a:ext cx="1800360" cy="1584360"/>
            <a:chOff x="2360520" y="1844640"/>
            <a:chExt cx="1800360" cy="1584360"/>
          </a:xfrm>
        </p:grpSpPr>
        <p:sp>
          <p:nvSpPr>
            <p:cNvPr id="384" name="Oval 31"/>
            <p:cNvSpPr/>
            <p:nvPr/>
          </p:nvSpPr>
          <p:spPr>
            <a:xfrm>
              <a:off x="3152880" y="1844640"/>
              <a:ext cx="144360" cy="2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32"/>
            <p:cNvSpPr/>
            <p:nvPr/>
          </p:nvSpPr>
          <p:spPr>
            <a:xfrm>
              <a:off x="3009960" y="1987560"/>
              <a:ext cx="431640" cy="2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33"/>
            <p:cNvSpPr/>
            <p:nvPr/>
          </p:nvSpPr>
          <p:spPr>
            <a:xfrm>
              <a:off x="3441600" y="2205000"/>
              <a:ext cx="719280" cy="107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34"/>
            <p:cNvSpPr/>
            <p:nvPr/>
          </p:nvSpPr>
          <p:spPr>
            <a:xfrm>
              <a:off x="2360520" y="2205000"/>
              <a:ext cx="719280" cy="107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35"/>
            <p:cNvSpPr/>
            <p:nvPr/>
          </p:nvSpPr>
          <p:spPr>
            <a:xfrm>
              <a:off x="2576520" y="2132280"/>
              <a:ext cx="719280" cy="122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36"/>
            <p:cNvSpPr/>
            <p:nvPr/>
          </p:nvSpPr>
          <p:spPr>
            <a:xfrm>
              <a:off x="3225960" y="2132280"/>
              <a:ext cx="718920" cy="122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37"/>
            <p:cNvSpPr/>
            <p:nvPr/>
          </p:nvSpPr>
          <p:spPr>
            <a:xfrm>
              <a:off x="2865600" y="2060640"/>
              <a:ext cx="720720" cy="136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38"/>
            <p:cNvSpPr/>
            <p:nvPr/>
          </p:nvSpPr>
          <p:spPr>
            <a:xfrm>
              <a:off x="2720880" y="2421000"/>
              <a:ext cx="360360" cy="35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39"/>
            <p:cNvSpPr/>
            <p:nvPr/>
          </p:nvSpPr>
          <p:spPr>
            <a:xfrm>
              <a:off x="3441600" y="2421000"/>
              <a:ext cx="360360" cy="358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72"/>
            <p:cNvSpPr/>
            <p:nvPr/>
          </p:nvSpPr>
          <p:spPr>
            <a:xfrm>
              <a:off x="2720880" y="2922840"/>
              <a:ext cx="1079640" cy="217440"/>
            </a:xfrm>
            <a:custGeom>
              <a:avLst/>
              <a:gdLst/>
              <a:ahLst/>
              <a:rect l="l" t="t" r="r" b="b"/>
              <a:pathLst>
                <a:path w="726" h="181">
                  <a:moveTo>
                    <a:pt x="0" y="0"/>
                  </a:moveTo>
                  <a:lnTo>
                    <a:pt x="91" y="181"/>
                  </a:lnTo>
                  <a:lnTo>
                    <a:pt x="318" y="181"/>
                  </a:lnTo>
                  <a:lnTo>
                    <a:pt x="318" y="91"/>
                  </a:lnTo>
                  <a:lnTo>
                    <a:pt x="409" y="91"/>
                  </a:lnTo>
                  <a:lnTo>
                    <a:pt x="409" y="181"/>
                  </a:lnTo>
                  <a:lnTo>
                    <a:pt x="635" y="181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545" y="91"/>
                  </a:lnTo>
                  <a:lnTo>
                    <a:pt x="454" y="91"/>
                  </a:lnTo>
                  <a:lnTo>
                    <a:pt x="454" y="0"/>
                  </a:lnTo>
                  <a:lnTo>
                    <a:pt x="273" y="0"/>
                  </a:lnTo>
                  <a:lnTo>
                    <a:pt x="273" y="91"/>
                  </a:lnTo>
                  <a:lnTo>
                    <a:pt x="182" y="91"/>
                  </a:lnTo>
                  <a:lnTo>
                    <a:pt x="1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2360520" y="3500280"/>
            <a:ext cx="1800360" cy="1584360"/>
            <a:chOff x="2360520" y="3500280"/>
            <a:chExt cx="1800360" cy="1584360"/>
          </a:xfrm>
        </p:grpSpPr>
        <p:sp>
          <p:nvSpPr>
            <p:cNvPr id="395" name="Oval 75"/>
            <p:cNvSpPr/>
            <p:nvPr/>
          </p:nvSpPr>
          <p:spPr>
            <a:xfrm>
              <a:off x="3152880" y="3500280"/>
              <a:ext cx="144360" cy="2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76"/>
            <p:cNvSpPr/>
            <p:nvPr/>
          </p:nvSpPr>
          <p:spPr>
            <a:xfrm>
              <a:off x="3009960" y="3643200"/>
              <a:ext cx="431640" cy="2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77"/>
            <p:cNvSpPr/>
            <p:nvPr/>
          </p:nvSpPr>
          <p:spPr>
            <a:xfrm>
              <a:off x="3441600" y="3860640"/>
              <a:ext cx="719280" cy="107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78"/>
            <p:cNvSpPr/>
            <p:nvPr/>
          </p:nvSpPr>
          <p:spPr>
            <a:xfrm>
              <a:off x="2360520" y="3860640"/>
              <a:ext cx="719280" cy="107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2576520" y="3787920"/>
              <a:ext cx="719280" cy="122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3225960" y="3787920"/>
              <a:ext cx="718920" cy="122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2865600" y="3716280"/>
              <a:ext cx="720720" cy="136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84"/>
            <p:cNvSpPr/>
            <p:nvPr/>
          </p:nvSpPr>
          <p:spPr>
            <a:xfrm>
              <a:off x="2720880" y="4437000"/>
              <a:ext cx="1079640" cy="432000"/>
            </a:xfrm>
            <a:custGeom>
              <a:avLst/>
              <a:gdLst/>
              <a:ahLst/>
              <a:rect l="l" t="t" r="r" b="b"/>
              <a:pathLst>
                <a:path w="726" h="181">
                  <a:moveTo>
                    <a:pt x="0" y="0"/>
                  </a:moveTo>
                  <a:lnTo>
                    <a:pt x="91" y="181"/>
                  </a:lnTo>
                  <a:lnTo>
                    <a:pt x="318" y="181"/>
                  </a:lnTo>
                  <a:lnTo>
                    <a:pt x="318" y="91"/>
                  </a:lnTo>
                  <a:lnTo>
                    <a:pt x="409" y="91"/>
                  </a:lnTo>
                  <a:lnTo>
                    <a:pt x="409" y="181"/>
                  </a:lnTo>
                  <a:lnTo>
                    <a:pt x="635" y="181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545" y="91"/>
                  </a:lnTo>
                  <a:lnTo>
                    <a:pt x="454" y="91"/>
                  </a:lnTo>
                  <a:lnTo>
                    <a:pt x="454" y="0"/>
                  </a:lnTo>
                  <a:lnTo>
                    <a:pt x="273" y="0"/>
                  </a:lnTo>
                  <a:lnTo>
                    <a:pt x="273" y="91"/>
                  </a:lnTo>
                  <a:lnTo>
                    <a:pt x="182" y="91"/>
                  </a:lnTo>
                  <a:lnTo>
                    <a:pt x="1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96"/>
            <p:cNvSpPr/>
            <p:nvPr/>
          </p:nvSpPr>
          <p:spPr>
            <a:xfrm>
              <a:off x="2649600" y="3933720"/>
              <a:ext cx="504720" cy="35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AutoShape 99"/>
            <p:cNvSpPr/>
            <p:nvPr/>
          </p:nvSpPr>
          <p:spPr>
            <a:xfrm>
              <a:off x="3368520" y="3933720"/>
              <a:ext cx="505080" cy="35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600880" y="4076640"/>
            <a:ext cx="1728720" cy="2520720"/>
            <a:chOff x="5600880" y="4076640"/>
            <a:chExt cx="1728720" cy="2520720"/>
          </a:xfrm>
        </p:grpSpPr>
        <p:sp>
          <p:nvSpPr>
            <p:cNvPr id="406" name="Oval 110"/>
            <p:cNvSpPr/>
            <p:nvPr/>
          </p:nvSpPr>
          <p:spPr>
            <a:xfrm>
              <a:off x="5816520" y="5084640"/>
              <a:ext cx="1368000" cy="151272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600880" y="5013000"/>
              <a:ext cx="1728720" cy="50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12"/>
            <p:cNvSpPr/>
            <p:nvPr/>
          </p:nvSpPr>
          <p:spPr>
            <a:xfrm>
              <a:off x="5960880" y="4076640"/>
              <a:ext cx="1006200" cy="134280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円/楕円 1"/>
            <p:cNvSpPr/>
            <p:nvPr/>
          </p:nvSpPr>
          <p:spPr>
            <a:xfrm>
              <a:off x="5888160" y="5518080"/>
              <a:ext cx="575640" cy="576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円/楕円 71"/>
            <p:cNvSpPr/>
            <p:nvPr/>
          </p:nvSpPr>
          <p:spPr>
            <a:xfrm>
              <a:off x="6531120" y="5518080"/>
              <a:ext cx="575640" cy="576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月 2"/>
            <p:cNvSpPr/>
            <p:nvPr/>
          </p:nvSpPr>
          <p:spPr>
            <a:xfrm rot="16200000">
              <a:off x="6333840" y="6022800"/>
              <a:ext cx="285840" cy="574560"/>
            </a:xfrm>
            <a:custGeom>
              <a:avLst/>
              <a:gdLst>
                <a:gd name="textAreaLeft" fmla="*/ 140760 w 285840"/>
                <a:gd name="textAreaRight" fmla="*/ 187920 w 285840"/>
                <a:gd name="textAreaTop" fmla="*/ 39600 h 574560"/>
                <a:gd name="textAreaBottom" fmla="*/ 53496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7900" y="2547"/>
                    <a:pt x="14199" y="5080"/>
                    <a:pt x="14199" y="10800"/>
                  </a:cubicBezTo>
                  <a:cubicBezTo>
                    <a:pt x="14199" y="16520"/>
                    <a:pt x="17900" y="1905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7400880" y="4076640"/>
            <a:ext cx="1728720" cy="2520720"/>
            <a:chOff x="7400880" y="4076640"/>
            <a:chExt cx="1728720" cy="2520720"/>
          </a:xfrm>
        </p:grpSpPr>
        <p:sp>
          <p:nvSpPr>
            <p:cNvPr id="413" name="Oval 113"/>
            <p:cNvSpPr/>
            <p:nvPr/>
          </p:nvSpPr>
          <p:spPr>
            <a:xfrm>
              <a:off x="7616880" y="5084640"/>
              <a:ext cx="1368360" cy="1512720"/>
            </a:xfrm>
            <a:prstGeom prst="ellipse">
              <a:avLst/>
            </a:prstGeom>
            <a:solidFill>
              <a:srgbClr val="ff99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14"/>
            <p:cNvSpPr/>
            <p:nvPr/>
          </p:nvSpPr>
          <p:spPr>
            <a:xfrm>
              <a:off x="7400880" y="5013000"/>
              <a:ext cx="1728720" cy="5050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5"/>
            <p:cNvSpPr/>
            <p:nvPr/>
          </p:nvSpPr>
          <p:spPr>
            <a:xfrm>
              <a:off x="7761240" y="4076640"/>
              <a:ext cx="1006560" cy="134280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円/楕円 72"/>
            <p:cNvSpPr/>
            <p:nvPr/>
          </p:nvSpPr>
          <p:spPr>
            <a:xfrm>
              <a:off x="7692840" y="5518080"/>
              <a:ext cx="576360" cy="576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円/楕円 73"/>
            <p:cNvSpPr/>
            <p:nvPr/>
          </p:nvSpPr>
          <p:spPr>
            <a:xfrm>
              <a:off x="8335800" y="5518080"/>
              <a:ext cx="576360" cy="5760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月 75"/>
            <p:cNvSpPr/>
            <p:nvPr/>
          </p:nvSpPr>
          <p:spPr>
            <a:xfrm rot="16200000">
              <a:off x="8129520" y="6022800"/>
              <a:ext cx="285840" cy="574560"/>
            </a:xfrm>
            <a:custGeom>
              <a:avLst/>
              <a:gdLst>
                <a:gd name="textAreaLeft" fmla="*/ 140760 w 285840"/>
                <a:gd name="textAreaRight" fmla="*/ 187920 w 285840"/>
                <a:gd name="textAreaTop" fmla="*/ 39600 h 574560"/>
                <a:gd name="textAreaBottom" fmla="*/ 534960 h 57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7900" y="2547"/>
                    <a:pt x="14199" y="5080"/>
                    <a:pt x="14199" y="10800"/>
                  </a:cubicBezTo>
                  <a:cubicBezTo>
                    <a:pt x="14199" y="16520"/>
                    <a:pt x="17900" y="19053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7473960" y="404640"/>
            <a:ext cx="1717200" cy="1728720"/>
            <a:chOff x="7473960" y="404640"/>
            <a:chExt cx="1717200" cy="1728720"/>
          </a:xfrm>
        </p:grpSpPr>
        <p:sp>
          <p:nvSpPr>
            <p:cNvPr id="420" name="Freeform 142"/>
            <p:cNvSpPr/>
            <p:nvPr/>
          </p:nvSpPr>
          <p:spPr>
            <a:xfrm>
              <a:off x="7664040" y="1022400"/>
              <a:ext cx="1527120" cy="111096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43"/>
            <p:cNvSpPr/>
            <p:nvPr/>
          </p:nvSpPr>
          <p:spPr>
            <a:xfrm>
              <a:off x="7767360" y="1282680"/>
              <a:ext cx="236160" cy="237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44"/>
            <p:cNvSpPr/>
            <p:nvPr/>
          </p:nvSpPr>
          <p:spPr>
            <a:xfrm>
              <a:off x="8099280" y="1282680"/>
              <a:ext cx="236160" cy="23796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45"/>
            <p:cNvSpPr/>
            <p:nvPr/>
          </p:nvSpPr>
          <p:spPr>
            <a:xfrm>
              <a:off x="7473960" y="1022400"/>
              <a:ext cx="1139400" cy="333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46"/>
            <p:cNvSpPr/>
            <p:nvPr/>
          </p:nvSpPr>
          <p:spPr>
            <a:xfrm>
              <a:off x="7711920" y="404640"/>
              <a:ext cx="663120" cy="88596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529240" y="2276640"/>
            <a:ext cx="1717200" cy="1728720"/>
            <a:chOff x="5529240" y="2276640"/>
            <a:chExt cx="1717200" cy="1728720"/>
          </a:xfrm>
        </p:grpSpPr>
        <p:sp>
          <p:nvSpPr>
            <p:cNvPr id="426" name="Freeform 133"/>
            <p:cNvSpPr/>
            <p:nvPr/>
          </p:nvSpPr>
          <p:spPr>
            <a:xfrm>
              <a:off x="5719680" y="2894400"/>
              <a:ext cx="1526760" cy="111096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34"/>
            <p:cNvSpPr/>
            <p:nvPr/>
          </p:nvSpPr>
          <p:spPr>
            <a:xfrm>
              <a:off x="5822640" y="3154680"/>
              <a:ext cx="236160" cy="23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35"/>
            <p:cNvSpPr/>
            <p:nvPr/>
          </p:nvSpPr>
          <p:spPr>
            <a:xfrm>
              <a:off x="6154560" y="3154680"/>
              <a:ext cx="236160" cy="23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36"/>
            <p:cNvSpPr/>
            <p:nvPr/>
          </p:nvSpPr>
          <p:spPr>
            <a:xfrm>
              <a:off x="5529240" y="2894400"/>
              <a:ext cx="1139760" cy="33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37"/>
            <p:cNvSpPr/>
            <p:nvPr/>
          </p:nvSpPr>
          <p:spPr>
            <a:xfrm>
              <a:off x="5767200" y="2276640"/>
              <a:ext cx="663120" cy="88596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7472520" y="2205000"/>
            <a:ext cx="1717200" cy="1728720"/>
            <a:chOff x="7472520" y="2205000"/>
            <a:chExt cx="1717200" cy="1728720"/>
          </a:xfrm>
        </p:grpSpPr>
        <p:sp>
          <p:nvSpPr>
            <p:cNvPr id="432" name="Freeform 142"/>
            <p:cNvSpPr/>
            <p:nvPr/>
          </p:nvSpPr>
          <p:spPr>
            <a:xfrm>
              <a:off x="7662600" y="2822760"/>
              <a:ext cx="1527120" cy="111096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43"/>
            <p:cNvSpPr/>
            <p:nvPr/>
          </p:nvSpPr>
          <p:spPr>
            <a:xfrm>
              <a:off x="7765920" y="3083040"/>
              <a:ext cx="236160" cy="23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44"/>
            <p:cNvSpPr/>
            <p:nvPr/>
          </p:nvSpPr>
          <p:spPr>
            <a:xfrm>
              <a:off x="8097840" y="3083040"/>
              <a:ext cx="236160" cy="23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45"/>
            <p:cNvSpPr/>
            <p:nvPr/>
          </p:nvSpPr>
          <p:spPr>
            <a:xfrm>
              <a:off x="7472520" y="2822760"/>
              <a:ext cx="1139400" cy="333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46"/>
            <p:cNvSpPr/>
            <p:nvPr/>
          </p:nvSpPr>
          <p:spPr>
            <a:xfrm>
              <a:off x="7710480" y="2205000"/>
              <a:ext cx="663120" cy="88596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360520" y="189000"/>
            <a:ext cx="1800360" cy="1584360"/>
            <a:chOff x="2360520" y="189000"/>
            <a:chExt cx="1800360" cy="1584360"/>
          </a:xfrm>
        </p:grpSpPr>
        <p:sp>
          <p:nvSpPr>
            <p:cNvPr id="438" name="Oval 29"/>
            <p:cNvSpPr/>
            <p:nvPr/>
          </p:nvSpPr>
          <p:spPr>
            <a:xfrm>
              <a:off x="3152880" y="189000"/>
              <a:ext cx="144360" cy="28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3009960" y="331920"/>
              <a:ext cx="431640" cy="28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8"/>
            <p:cNvSpPr/>
            <p:nvPr/>
          </p:nvSpPr>
          <p:spPr>
            <a:xfrm>
              <a:off x="3441600" y="549360"/>
              <a:ext cx="719280" cy="10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7"/>
            <p:cNvSpPr/>
            <p:nvPr/>
          </p:nvSpPr>
          <p:spPr>
            <a:xfrm>
              <a:off x="2360520" y="549360"/>
              <a:ext cx="719280" cy="1079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3"/>
            <p:cNvSpPr/>
            <p:nvPr/>
          </p:nvSpPr>
          <p:spPr>
            <a:xfrm>
              <a:off x="2576520" y="476280"/>
              <a:ext cx="719280" cy="122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5"/>
            <p:cNvSpPr/>
            <p:nvPr/>
          </p:nvSpPr>
          <p:spPr>
            <a:xfrm>
              <a:off x="3225960" y="476280"/>
              <a:ext cx="718920" cy="1225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6"/>
            <p:cNvSpPr/>
            <p:nvPr/>
          </p:nvSpPr>
          <p:spPr>
            <a:xfrm>
              <a:off x="2865600" y="404640"/>
              <a:ext cx="720720" cy="1368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24"/>
            <p:cNvSpPr/>
            <p:nvPr/>
          </p:nvSpPr>
          <p:spPr>
            <a:xfrm>
              <a:off x="2720880" y="765000"/>
              <a:ext cx="36036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25"/>
            <p:cNvSpPr/>
            <p:nvPr/>
          </p:nvSpPr>
          <p:spPr>
            <a:xfrm>
              <a:off x="3441600" y="765000"/>
              <a:ext cx="36036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AutoShape 30"/>
            <p:cNvSpPr/>
            <p:nvPr/>
          </p:nvSpPr>
          <p:spPr>
            <a:xfrm>
              <a:off x="2936880" y="1052640"/>
              <a:ext cx="576360" cy="309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2360520" y="5157720"/>
            <a:ext cx="1800360" cy="1584360"/>
            <a:chOff x="2360520" y="5157720"/>
            <a:chExt cx="1800360" cy="1584360"/>
          </a:xfrm>
        </p:grpSpPr>
        <p:sp>
          <p:nvSpPr>
            <p:cNvPr id="449" name="Oval 86"/>
            <p:cNvSpPr/>
            <p:nvPr/>
          </p:nvSpPr>
          <p:spPr>
            <a:xfrm>
              <a:off x="3152880" y="5157720"/>
              <a:ext cx="144360" cy="2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87"/>
            <p:cNvSpPr/>
            <p:nvPr/>
          </p:nvSpPr>
          <p:spPr>
            <a:xfrm>
              <a:off x="3009960" y="5300640"/>
              <a:ext cx="431640" cy="289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88"/>
            <p:cNvSpPr/>
            <p:nvPr/>
          </p:nvSpPr>
          <p:spPr>
            <a:xfrm>
              <a:off x="3441600" y="5518080"/>
              <a:ext cx="719280" cy="107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89"/>
            <p:cNvSpPr/>
            <p:nvPr/>
          </p:nvSpPr>
          <p:spPr>
            <a:xfrm>
              <a:off x="2360520" y="5518080"/>
              <a:ext cx="719280" cy="1079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90"/>
            <p:cNvSpPr/>
            <p:nvPr/>
          </p:nvSpPr>
          <p:spPr>
            <a:xfrm>
              <a:off x="2576520" y="5445000"/>
              <a:ext cx="719280" cy="122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91"/>
            <p:cNvSpPr/>
            <p:nvPr/>
          </p:nvSpPr>
          <p:spPr>
            <a:xfrm>
              <a:off x="3225960" y="5445000"/>
              <a:ext cx="718920" cy="122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92"/>
            <p:cNvSpPr/>
            <p:nvPr/>
          </p:nvSpPr>
          <p:spPr>
            <a:xfrm>
              <a:off x="2865600" y="5373720"/>
              <a:ext cx="720720" cy="136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95"/>
            <p:cNvSpPr/>
            <p:nvPr/>
          </p:nvSpPr>
          <p:spPr>
            <a:xfrm>
              <a:off x="2720880" y="6235560"/>
              <a:ext cx="1079640" cy="217800"/>
            </a:xfrm>
            <a:custGeom>
              <a:avLst/>
              <a:gdLst/>
              <a:ahLst/>
              <a:rect l="l" t="t" r="r" b="b"/>
              <a:pathLst>
                <a:path w="726" h="181">
                  <a:moveTo>
                    <a:pt x="0" y="0"/>
                  </a:moveTo>
                  <a:lnTo>
                    <a:pt x="91" y="181"/>
                  </a:lnTo>
                  <a:lnTo>
                    <a:pt x="318" y="181"/>
                  </a:lnTo>
                  <a:lnTo>
                    <a:pt x="318" y="91"/>
                  </a:lnTo>
                  <a:lnTo>
                    <a:pt x="409" y="91"/>
                  </a:lnTo>
                  <a:lnTo>
                    <a:pt x="409" y="181"/>
                  </a:lnTo>
                  <a:lnTo>
                    <a:pt x="635" y="181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545" y="91"/>
                  </a:lnTo>
                  <a:lnTo>
                    <a:pt x="454" y="91"/>
                  </a:lnTo>
                  <a:lnTo>
                    <a:pt x="454" y="0"/>
                  </a:lnTo>
                  <a:lnTo>
                    <a:pt x="273" y="0"/>
                  </a:lnTo>
                  <a:lnTo>
                    <a:pt x="273" y="91"/>
                  </a:lnTo>
                  <a:lnTo>
                    <a:pt x="182" y="91"/>
                  </a:lnTo>
                  <a:lnTo>
                    <a:pt x="1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AutoShape 97"/>
            <p:cNvSpPr/>
            <p:nvPr/>
          </p:nvSpPr>
          <p:spPr>
            <a:xfrm rot="10800000">
              <a:off x="2649600" y="5733720"/>
              <a:ext cx="504720" cy="35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AutoShape 98"/>
            <p:cNvSpPr/>
            <p:nvPr/>
          </p:nvSpPr>
          <p:spPr>
            <a:xfrm rot="10800000">
              <a:off x="3368160" y="5733720"/>
              <a:ext cx="505080" cy="3589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Freeform 48"/>
          <p:cNvSpPr/>
          <p:nvPr/>
        </p:nvSpPr>
        <p:spPr>
          <a:xfrm>
            <a:off x="2216160" y="5707080"/>
            <a:ext cx="858960" cy="1150920"/>
          </a:xfrm>
          <a:custGeom>
            <a:avLst/>
            <a:gdLst/>
            <a:ahLst/>
            <a:rect l="l" t="t" r="r" b="b"/>
            <a:pathLst>
              <a:path w="2268" h="3039">
                <a:moveTo>
                  <a:pt x="1270" y="3039"/>
                </a:moveTo>
                <a:lnTo>
                  <a:pt x="408" y="3039"/>
                </a:lnTo>
                <a:lnTo>
                  <a:pt x="680" y="2222"/>
                </a:lnTo>
                <a:lnTo>
                  <a:pt x="363" y="1905"/>
                </a:lnTo>
                <a:lnTo>
                  <a:pt x="0" y="1088"/>
                </a:lnTo>
                <a:lnTo>
                  <a:pt x="454" y="1769"/>
                </a:lnTo>
                <a:lnTo>
                  <a:pt x="771" y="2041"/>
                </a:lnTo>
                <a:lnTo>
                  <a:pt x="816" y="1859"/>
                </a:lnTo>
                <a:lnTo>
                  <a:pt x="907" y="1179"/>
                </a:lnTo>
                <a:lnTo>
                  <a:pt x="590" y="952"/>
                </a:lnTo>
                <a:lnTo>
                  <a:pt x="499" y="544"/>
                </a:lnTo>
                <a:lnTo>
                  <a:pt x="680" y="907"/>
                </a:lnTo>
                <a:lnTo>
                  <a:pt x="953" y="1043"/>
                </a:lnTo>
                <a:lnTo>
                  <a:pt x="998" y="725"/>
                </a:lnTo>
                <a:lnTo>
                  <a:pt x="907" y="0"/>
                </a:lnTo>
                <a:lnTo>
                  <a:pt x="1225" y="725"/>
                </a:lnTo>
                <a:lnTo>
                  <a:pt x="1315" y="1451"/>
                </a:lnTo>
                <a:lnTo>
                  <a:pt x="1633" y="1360"/>
                </a:lnTo>
                <a:lnTo>
                  <a:pt x="2041" y="1043"/>
                </a:lnTo>
                <a:lnTo>
                  <a:pt x="2132" y="771"/>
                </a:lnTo>
                <a:lnTo>
                  <a:pt x="2132" y="1088"/>
                </a:lnTo>
                <a:lnTo>
                  <a:pt x="1996" y="1224"/>
                </a:lnTo>
                <a:lnTo>
                  <a:pt x="2268" y="1224"/>
                </a:lnTo>
                <a:lnTo>
                  <a:pt x="1860" y="1315"/>
                </a:lnTo>
                <a:lnTo>
                  <a:pt x="1678" y="1496"/>
                </a:lnTo>
                <a:lnTo>
                  <a:pt x="1270" y="1678"/>
                </a:lnTo>
                <a:lnTo>
                  <a:pt x="1179" y="2358"/>
                </a:lnTo>
                <a:lnTo>
                  <a:pt x="1270" y="30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53"/>
          <p:cNvSpPr/>
          <p:nvPr/>
        </p:nvSpPr>
        <p:spPr>
          <a:xfrm>
            <a:off x="1208160" y="4770360"/>
            <a:ext cx="1222200" cy="2087640"/>
          </a:xfrm>
          <a:custGeom>
            <a:avLst/>
            <a:gdLst/>
            <a:ahLst/>
            <a:rect l="l" t="t" r="r" b="b"/>
            <a:pathLst>
              <a:path w="2177" h="3719">
                <a:moveTo>
                  <a:pt x="953" y="3719"/>
                </a:moveTo>
                <a:lnTo>
                  <a:pt x="1497" y="3719"/>
                </a:lnTo>
                <a:lnTo>
                  <a:pt x="1089" y="2903"/>
                </a:lnTo>
                <a:lnTo>
                  <a:pt x="953" y="2268"/>
                </a:lnTo>
                <a:lnTo>
                  <a:pt x="1769" y="1995"/>
                </a:lnTo>
                <a:lnTo>
                  <a:pt x="2177" y="1496"/>
                </a:lnTo>
                <a:lnTo>
                  <a:pt x="1814" y="1814"/>
                </a:lnTo>
                <a:lnTo>
                  <a:pt x="1769" y="1496"/>
                </a:lnTo>
                <a:lnTo>
                  <a:pt x="1724" y="1905"/>
                </a:lnTo>
                <a:lnTo>
                  <a:pt x="1542" y="1995"/>
                </a:lnTo>
                <a:lnTo>
                  <a:pt x="953" y="2131"/>
                </a:lnTo>
                <a:lnTo>
                  <a:pt x="907" y="1905"/>
                </a:lnTo>
                <a:lnTo>
                  <a:pt x="907" y="1088"/>
                </a:lnTo>
                <a:lnTo>
                  <a:pt x="1134" y="816"/>
                </a:lnTo>
                <a:lnTo>
                  <a:pt x="1270" y="317"/>
                </a:lnTo>
                <a:lnTo>
                  <a:pt x="1043" y="816"/>
                </a:lnTo>
                <a:lnTo>
                  <a:pt x="907" y="952"/>
                </a:lnTo>
                <a:lnTo>
                  <a:pt x="907" y="499"/>
                </a:lnTo>
                <a:lnTo>
                  <a:pt x="1043" y="0"/>
                </a:lnTo>
                <a:lnTo>
                  <a:pt x="817" y="453"/>
                </a:lnTo>
                <a:lnTo>
                  <a:pt x="726" y="1814"/>
                </a:lnTo>
                <a:lnTo>
                  <a:pt x="771" y="2630"/>
                </a:lnTo>
                <a:lnTo>
                  <a:pt x="499" y="2540"/>
                </a:lnTo>
                <a:lnTo>
                  <a:pt x="0" y="1995"/>
                </a:lnTo>
                <a:lnTo>
                  <a:pt x="363" y="2630"/>
                </a:lnTo>
                <a:lnTo>
                  <a:pt x="817" y="2993"/>
                </a:lnTo>
                <a:lnTo>
                  <a:pt x="953" y="37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88"/>
          <p:cNvSpPr/>
          <p:nvPr/>
        </p:nvSpPr>
        <p:spPr>
          <a:xfrm>
            <a:off x="2865600" y="4913280"/>
            <a:ext cx="904680" cy="1944720"/>
          </a:xfrm>
          <a:custGeom>
            <a:avLst/>
            <a:gdLst/>
            <a:ahLst/>
            <a:rect l="l" t="t" r="r" b="b"/>
            <a:pathLst>
              <a:path w="1814" h="3901">
                <a:moveTo>
                  <a:pt x="816" y="3901"/>
                </a:moveTo>
                <a:lnTo>
                  <a:pt x="227" y="3901"/>
                </a:lnTo>
                <a:lnTo>
                  <a:pt x="589" y="3130"/>
                </a:lnTo>
                <a:lnTo>
                  <a:pt x="181" y="2676"/>
                </a:lnTo>
                <a:lnTo>
                  <a:pt x="0" y="1951"/>
                </a:lnTo>
                <a:lnTo>
                  <a:pt x="272" y="2586"/>
                </a:lnTo>
                <a:lnTo>
                  <a:pt x="726" y="2858"/>
                </a:lnTo>
                <a:lnTo>
                  <a:pt x="862" y="2540"/>
                </a:lnTo>
                <a:lnTo>
                  <a:pt x="816" y="1951"/>
                </a:lnTo>
                <a:lnTo>
                  <a:pt x="635" y="1905"/>
                </a:lnTo>
                <a:lnTo>
                  <a:pt x="408" y="1724"/>
                </a:lnTo>
                <a:lnTo>
                  <a:pt x="136" y="1633"/>
                </a:lnTo>
                <a:lnTo>
                  <a:pt x="363" y="1633"/>
                </a:lnTo>
                <a:lnTo>
                  <a:pt x="181" y="1270"/>
                </a:lnTo>
                <a:lnTo>
                  <a:pt x="499" y="1679"/>
                </a:lnTo>
                <a:lnTo>
                  <a:pt x="680" y="1815"/>
                </a:lnTo>
                <a:lnTo>
                  <a:pt x="771" y="1815"/>
                </a:lnTo>
                <a:lnTo>
                  <a:pt x="771" y="1452"/>
                </a:lnTo>
                <a:lnTo>
                  <a:pt x="1270" y="0"/>
                </a:lnTo>
                <a:lnTo>
                  <a:pt x="1134" y="590"/>
                </a:lnTo>
                <a:lnTo>
                  <a:pt x="1361" y="499"/>
                </a:lnTo>
                <a:lnTo>
                  <a:pt x="1542" y="227"/>
                </a:lnTo>
                <a:lnTo>
                  <a:pt x="1406" y="590"/>
                </a:lnTo>
                <a:lnTo>
                  <a:pt x="1134" y="771"/>
                </a:lnTo>
                <a:lnTo>
                  <a:pt x="907" y="1452"/>
                </a:lnTo>
                <a:lnTo>
                  <a:pt x="1043" y="2404"/>
                </a:lnTo>
                <a:lnTo>
                  <a:pt x="1406" y="2223"/>
                </a:lnTo>
                <a:lnTo>
                  <a:pt x="1814" y="1860"/>
                </a:lnTo>
                <a:lnTo>
                  <a:pt x="1361" y="2450"/>
                </a:lnTo>
                <a:lnTo>
                  <a:pt x="1088" y="2586"/>
                </a:lnTo>
                <a:lnTo>
                  <a:pt x="816" y="39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94"/>
          <p:cNvSpPr/>
          <p:nvPr/>
        </p:nvSpPr>
        <p:spPr>
          <a:xfrm>
            <a:off x="0" y="5635800"/>
            <a:ext cx="728640" cy="1222200"/>
          </a:xfrm>
          <a:custGeom>
            <a:avLst/>
            <a:gdLst/>
            <a:ahLst/>
            <a:rect l="l" t="t" r="r" b="b"/>
            <a:pathLst>
              <a:path w="1543" h="2585">
                <a:moveTo>
                  <a:pt x="1134" y="2585"/>
                </a:moveTo>
                <a:lnTo>
                  <a:pt x="681" y="2585"/>
                </a:lnTo>
                <a:lnTo>
                  <a:pt x="590" y="1950"/>
                </a:lnTo>
                <a:lnTo>
                  <a:pt x="409" y="1905"/>
                </a:lnTo>
                <a:lnTo>
                  <a:pt x="0" y="1587"/>
                </a:lnTo>
                <a:lnTo>
                  <a:pt x="409" y="1769"/>
                </a:lnTo>
                <a:lnTo>
                  <a:pt x="590" y="1769"/>
                </a:lnTo>
                <a:lnTo>
                  <a:pt x="590" y="1587"/>
                </a:lnTo>
                <a:lnTo>
                  <a:pt x="817" y="1179"/>
                </a:lnTo>
                <a:lnTo>
                  <a:pt x="499" y="952"/>
                </a:lnTo>
                <a:lnTo>
                  <a:pt x="272" y="499"/>
                </a:lnTo>
                <a:lnTo>
                  <a:pt x="635" y="862"/>
                </a:lnTo>
                <a:lnTo>
                  <a:pt x="862" y="952"/>
                </a:lnTo>
                <a:lnTo>
                  <a:pt x="998" y="726"/>
                </a:lnTo>
                <a:lnTo>
                  <a:pt x="953" y="0"/>
                </a:lnTo>
                <a:lnTo>
                  <a:pt x="1180" y="771"/>
                </a:lnTo>
                <a:lnTo>
                  <a:pt x="1044" y="1315"/>
                </a:lnTo>
                <a:lnTo>
                  <a:pt x="1543" y="1043"/>
                </a:lnTo>
                <a:lnTo>
                  <a:pt x="908" y="1587"/>
                </a:lnTo>
                <a:lnTo>
                  <a:pt x="862" y="1769"/>
                </a:lnTo>
                <a:lnTo>
                  <a:pt x="1134" y="2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101"/>
          <p:cNvSpPr/>
          <p:nvPr/>
        </p:nvSpPr>
        <p:spPr>
          <a:xfrm>
            <a:off x="3657600" y="5273640"/>
            <a:ext cx="880920" cy="1584360"/>
          </a:xfrm>
          <a:custGeom>
            <a:avLst/>
            <a:gdLst/>
            <a:ahLst/>
            <a:rect l="l" t="t" r="r" b="b"/>
            <a:pathLst>
              <a:path w="1995" h="3584">
                <a:moveTo>
                  <a:pt x="1270" y="3584"/>
                </a:moveTo>
                <a:lnTo>
                  <a:pt x="1270" y="2677"/>
                </a:lnTo>
                <a:lnTo>
                  <a:pt x="1224" y="2495"/>
                </a:lnTo>
                <a:lnTo>
                  <a:pt x="1632" y="2359"/>
                </a:lnTo>
                <a:lnTo>
                  <a:pt x="1995" y="1951"/>
                </a:lnTo>
                <a:lnTo>
                  <a:pt x="1587" y="2268"/>
                </a:lnTo>
                <a:lnTo>
                  <a:pt x="1224" y="2314"/>
                </a:lnTo>
                <a:lnTo>
                  <a:pt x="1134" y="1951"/>
                </a:lnTo>
                <a:lnTo>
                  <a:pt x="1270" y="1180"/>
                </a:lnTo>
                <a:lnTo>
                  <a:pt x="1496" y="998"/>
                </a:lnTo>
                <a:lnTo>
                  <a:pt x="1632" y="590"/>
                </a:lnTo>
                <a:lnTo>
                  <a:pt x="1451" y="908"/>
                </a:lnTo>
                <a:lnTo>
                  <a:pt x="1224" y="1044"/>
                </a:lnTo>
                <a:lnTo>
                  <a:pt x="997" y="635"/>
                </a:lnTo>
                <a:lnTo>
                  <a:pt x="1088" y="0"/>
                </a:lnTo>
                <a:lnTo>
                  <a:pt x="907" y="681"/>
                </a:lnTo>
                <a:lnTo>
                  <a:pt x="1134" y="1180"/>
                </a:lnTo>
                <a:lnTo>
                  <a:pt x="952" y="1996"/>
                </a:lnTo>
                <a:lnTo>
                  <a:pt x="997" y="2631"/>
                </a:lnTo>
                <a:lnTo>
                  <a:pt x="635" y="2586"/>
                </a:lnTo>
                <a:lnTo>
                  <a:pt x="362" y="2268"/>
                </a:lnTo>
                <a:lnTo>
                  <a:pt x="317" y="1951"/>
                </a:lnTo>
                <a:lnTo>
                  <a:pt x="317" y="2268"/>
                </a:lnTo>
                <a:lnTo>
                  <a:pt x="0" y="2087"/>
                </a:lnTo>
                <a:lnTo>
                  <a:pt x="317" y="2359"/>
                </a:lnTo>
                <a:lnTo>
                  <a:pt x="635" y="2722"/>
                </a:lnTo>
                <a:lnTo>
                  <a:pt x="997" y="2858"/>
                </a:lnTo>
                <a:lnTo>
                  <a:pt x="861" y="3584"/>
                </a:lnTo>
                <a:lnTo>
                  <a:pt x="1270" y="35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106"/>
          <p:cNvSpPr/>
          <p:nvPr/>
        </p:nvSpPr>
        <p:spPr>
          <a:xfrm>
            <a:off x="776160" y="5634000"/>
            <a:ext cx="524160" cy="1224000"/>
          </a:xfrm>
          <a:custGeom>
            <a:avLst/>
            <a:gdLst/>
            <a:ahLst/>
            <a:rect l="l" t="t" r="r" b="b"/>
            <a:pathLst>
              <a:path w="1225" h="2858">
                <a:moveTo>
                  <a:pt x="182" y="2858"/>
                </a:moveTo>
                <a:lnTo>
                  <a:pt x="908" y="2858"/>
                </a:lnTo>
                <a:lnTo>
                  <a:pt x="772" y="2313"/>
                </a:lnTo>
                <a:lnTo>
                  <a:pt x="772" y="1678"/>
                </a:lnTo>
                <a:lnTo>
                  <a:pt x="1089" y="1406"/>
                </a:lnTo>
                <a:lnTo>
                  <a:pt x="1225" y="771"/>
                </a:lnTo>
                <a:lnTo>
                  <a:pt x="998" y="1225"/>
                </a:lnTo>
                <a:lnTo>
                  <a:pt x="681" y="1406"/>
                </a:lnTo>
                <a:lnTo>
                  <a:pt x="499" y="1043"/>
                </a:lnTo>
                <a:lnTo>
                  <a:pt x="363" y="0"/>
                </a:lnTo>
                <a:lnTo>
                  <a:pt x="318" y="680"/>
                </a:lnTo>
                <a:lnTo>
                  <a:pt x="136" y="544"/>
                </a:lnTo>
                <a:lnTo>
                  <a:pt x="0" y="272"/>
                </a:lnTo>
                <a:lnTo>
                  <a:pt x="91" y="680"/>
                </a:lnTo>
                <a:lnTo>
                  <a:pt x="273" y="862"/>
                </a:lnTo>
                <a:lnTo>
                  <a:pt x="273" y="1043"/>
                </a:lnTo>
                <a:lnTo>
                  <a:pt x="454" y="1588"/>
                </a:lnTo>
                <a:lnTo>
                  <a:pt x="409" y="1905"/>
                </a:lnTo>
                <a:lnTo>
                  <a:pt x="227" y="1769"/>
                </a:lnTo>
                <a:lnTo>
                  <a:pt x="46" y="1542"/>
                </a:lnTo>
                <a:lnTo>
                  <a:pt x="182" y="1905"/>
                </a:lnTo>
                <a:lnTo>
                  <a:pt x="363" y="2087"/>
                </a:lnTo>
                <a:lnTo>
                  <a:pt x="182" y="28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08"/>
          <p:cNvSpPr/>
          <p:nvPr/>
        </p:nvSpPr>
        <p:spPr>
          <a:xfrm>
            <a:off x="6824520" y="476280"/>
            <a:ext cx="3097440" cy="736560"/>
          </a:xfrm>
          <a:custGeom>
            <a:avLst/>
            <a:gdLst/>
            <a:ahLst/>
            <a:rect l="l" t="t" r="r" b="b"/>
            <a:pathLst>
              <a:path w="3810" h="907">
                <a:moveTo>
                  <a:pt x="3810" y="0"/>
                </a:moveTo>
                <a:lnTo>
                  <a:pt x="2903" y="227"/>
                </a:lnTo>
                <a:lnTo>
                  <a:pt x="1995" y="91"/>
                </a:lnTo>
                <a:lnTo>
                  <a:pt x="1270" y="181"/>
                </a:lnTo>
                <a:lnTo>
                  <a:pt x="771" y="45"/>
                </a:lnTo>
                <a:lnTo>
                  <a:pt x="0" y="91"/>
                </a:lnTo>
                <a:lnTo>
                  <a:pt x="725" y="136"/>
                </a:lnTo>
                <a:lnTo>
                  <a:pt x="1179" y="363"/>
                </a:lnTo>
                <a:lnTo>
                  <a:pt x="1859" y="363"/>
                </a:lnTo>
                <a:lnTo>
                  <a:pt x="1723" y="590"/>
                </a:lnTo>
                <a:lnTo>
                  <a:pt x="1360" y="771"/>
                </a:lnTo>
                <a:lnTo>
                  <a:pt x="1633" y="726"/>
                </a:lnTo>
                <a:lnTo>
                  <a:pt x="1678" y="907"/>
                </a:lnTo>
                <a:lnTo>
                  <a:pt x="1723" y="680"/>
                </a:lnTo>
                <a:lnTo>
                  <a:pt x="1905" y="590"/>
                </a:lnTo>
                <a:lnTo>
                  <a:pt x="2086" y="317"/>
                </a:lnTo>
                <a:lnTo>
                  <a:pt x="2948" y="499"/>
                </a:lnTo>
                <a:lnTo>
                  <a:pt x="3810" y="317"/>
                </a:lnTo>
                <a:lnTo>
                  <a:pt x="38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Freeform 109"/>
          <p:cNvSpPr/>
          <p:nvPr/>
        </p:nvSpPr>
        <p:spPr>
          <a:xfrm>
            <a:off x="6753240" y="1125360"/>
            <a:ext cx="3168720" cy="729000"/>
          </a:xfrm>
          <a:custGeom>
            <a:avLst/>
            <a:gdLst/>
            <a:ahLst/>
            <a:rect l="l" t="t" r="r" b="b"/>
            <a:pathLst>
              <a:path w="3946" h="907">
                <a:moveTo>
                  <a:pt x="3946" y="90"/>
                </a:moveTo>
                <a:lnTo>
                  <a:pt x="3129" y="317"/>
                </a:lnTo>
                <a:lnTo>
                  <a:pt x="2222" y="227"/>
                </a:lnTo>
                <a:lnTo>
                  <a:pt x="1496" y="408"/>
                </a:lnTo>
                <a:lnTo>
                  <a:pt x="907" y="272"/>
                </a:lnTo>
                <a:lnTo>
                  <a:pt x="635" y="0"/>
                </a:lnTo>
                <a:lnTo>
                  <a:pt x="816" y="272"/>
                </a:lnTo>
                <a:lnTo>
                  <a:pt x="362" y="181"/>
                </a:lnTo>
                <a:lnTo>
                  <a:pt x="0" y="317"/>
                </a:lnTo>
                <a:lnTo>
                  <a:pt x="362" y="272"/>
                </a:lnTo>
                <a:lnTo>
                  <a:pt x="544" y="317"/>
                </a:lnTo>
                <a:lnTo>
                  <a:pt x="317" y="453"/>
                </a:lnTo>
                <a:lnTo>
                  <a:pt x="680" y="363"/>
                </a:lnTo>
                <a:lnTo>
                  <a:pt x="1179" y="453"/>
                </a:lnTo>
                <a:lnTo>
                  <a:pt x="1496" y="589"/>
                </a:lnTo>
                <a:lnTo>
                  <a:pt x="1134" y="816"/>
                </a:lnTo>
                <a:lnTo>
                  <a:pt x="725" y="862"/>
                </a:lnTo>
                <a:lnTo>
                  <a:pt x="1224" y="907"/>
                </a:lnTo>
                <a:lnTo>
                  <a:pt x="1678" y="680"/>
                </a:lnTo>
                <a:lnTo>
                  <a:pt x="1769" y="499"/>
                </a:lnTo>
                <a:lnTo>
                  <a:pt x="2268" y="408"/>
                </a:lnTo>
                <a:lnTo>
                  <a:pt x="2676" y="499"/>
                </a:lnTo>
                <a:lnTo>
                  <a:pt x="2494" y="771"/>
                </a:lnTo>
                <a:lnTo>
                  <a:pt x="2177" y="907"/>
                </a:lnTo>
                <a:lnTo>
                  <a:pt x="2721" y="816"/>
                </a:lnTo>
                <a:lnTo>
                  <a:pt x="2948" y="544"/>
                </a:lnTo>
                <a:lnTo>
                  <a:pt x="3311" y="589"/>
                </a:lnTo>
                <a:lnTo>
                  <a:pt x="3946" y="499"/>
                </a:lnTo>
                <a:lnTo>
                  <a:pt x="3946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16"/>
          <p:cNvSpPr/>
          <p:nvPr/>
        </p:nvSpPr>
        <p:spPr>
          <a:xfrm>
            <a:off x="7113600" y="2060640"/>
            <a:ext cx="2808360" cy="728640"/>
          </a:xfrm>
          <a:custGeom>
            <a:avLst/>
            <a:gdLst/>
            <a:ahLst/>
            <a:rect l="l" t="t" r="r" b="b"/>
            <a:pathLst>
              <a:path w="3493" h="907">
                <a:moveTo>
                  <a:pt x="3493" y="272"/>
                </a:moveTo>
                <a:lnTo>
                  <a:pt x="2223" y="91"/>
                </a:lnTo>
                <a:lnTo>
                  <a:pt x="1452" y="272"/>
                </a:lnTo>
                <a:lnTo>
                  <a:pt x="1089" y="0"/>
                </a:lnTo>
                <a:lnTo>
                  <a:pt x="363" y="45"/>
                </a:lnTo>
                <a:lnTo>
                  <a:pt x="771" y="136"/>
                </a:lnTo>
                <a:lnTo>
                  <a:pt x="499" y="227"/>
                </a:lnTo>
                <a:lnTo>
                  <a:pt x="0" y="136"/>
                </a:lnTo>
                <a:lnTo>
                  <a:pt x="590" y="363"/>
                </a:lnTo>
                <a:lnTo>
                  <a:pt x="1043" y="181"/>
                </a:lnTo>
                <a:lnTo>
                  <a:pt x="1316" y="408"/>
                </a:lnTo>
                <a:lnTo>
                  <a:pt x="1724" y="499"/>
                </a:lnTo>
                <a:lnTo>
                  <a:pt x="2041" y="363"/>
                </a:lnTo>
                <a:lnTo>
                  <a:pt x="1951" y="680"/>
                </a:lnTo>
                <a:lnTo>
                  <a:pt x="2268" y="318"/>
                </a:lnTo>
                <a:lnTo>
                  <a:pt x="2722" y="408"/>
                </a:lnTo>
                <a:lnTo>
                  <a:pt x="2994" y="544"/>
                </a:lnTo>
                <a:lnTo>
                  <a:pt x="2676" y="771"/>
                </a:lnTo>
                <a:lnTo>
                  <a:pt x="2268" y="907"/>
                </a:lnTo>
                <a:lnTo>
                  <a:pt x="2812" y="862"/>
                </a:lnTo>
                <a:lnTo>
                  <a:pt x="3175" y="590"/>
                </a:lnTo>
                <a:lnTo>
                  <a:pt x="3493" y="680"/>
                </a:lnTo>
                <a:lnTo>
                  <a:pt x="3493" y="2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Freeform 117"/>
          <p:cNvSpPr/>
          <p:nvPr/>
        </p:nvSpPr>
        <p:spPr>
          <a:xfrm>
            <a:off x="-15840" y="476280"/>
            <a:ext cx="2592360" cy="571320"/>
          </a:xfrm>
          <a:custGeom>
            <a:avLst/>
            <a:gdLst/>
            <a:ahLst/>
            <a:rect l="l" t="t" r="r" b="b"/>
            <a:pathLst>
              <a:path w="2676" h="590">
                <a:moveTo>
                  <a:pt x="0" y="136"/>
                </a:moveTo>
                <a:lnTo>
                  <a:pt x="681" y="272"/>
                </a:lnTo>
                <a:lnTo>
                  <a:pt x="1225" y="136"/>
                </a:lnTo>
                <a:lnTo>
                  <a:pt x="1588" y="317"/>
                </a:lnTo>
                <a:lnTo>
                  <a:pt x="2087" y="136"/>
                </a:lnTo>
                <a:lnTo>
                  <a:pt x="2314" y="181"/>
                </a:lnTo>
                <a:lnTo>
                  <a:pt x="2676" y="0"/>
                </a:lnTo>
                <a:lnTo>
                  <a:pt x="2404" y="227"/>
                </a:lnTo>
                <a:lnTo>
                  <a:pt x="2631" y="227"/>
                </a:lnTo>
                <a:lnTo>
                  <a:pt x="2359" y="317"/>
                </a:lnTo>
                <a:lnTo>
                  <a:pt x="2087" y="227"/>
                </a:lnTo>
                <a:lnTo>
                  <a:pt x="1905" y="363"/>
                </a:lnTo>
                <a:lnTo>
                  <a:pt x="2177" y="499"/>
                </a:lnTo>
                <a:lnTo>
                  <a:pt x="2586" y="499"/>
                </a:lnTo>
                <a:lnTo>
                  <a:pt x="2132" y="590"/>
                </a:lnTo>
                <a:lnTo>
                  <a:pt x="1769" y="408"/>
                </a:lnTo>
                <a:lnTo>
                  <a:pt x="1497" y="453"/>
                </a:lnTo>
                <a:lnTo>
                  <a:pt x="1180" y="317"/>
                </a:lnTo>
                <a:lnTo>
                  <a:pt x="1043" y="363"/>
                </a:lnTo>
                <a:lnTo>
                  <a:pt x="1180" y="499"/>
                </a:lnTo>
                <a:lnTo>
                  <a:pt x="1497" y="590"/>
                </a:lnTo>
                <a:lnTo>
                  <a:pt x="1089" y="590"/>
                </a:lnTo>
                <a:lnTo>
                  <a:pt x="862" y="408"/>
                </a:lnTo>
                <a:lnTo>
                  <a:pt x="681" y="453"/>
                </a:lnTo>
                <a:lnTo>
                  <a:pt x="0" y="408"/>
                </a:lnTo>
                <a:lnTo>
                  <a:pt x="0" y="13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118"/>
          <p:cNvGrpSpPr/>
          <p:nvPr/>
        </p:nvGrpSpPr>
        <p:grpSpPr>
          <a:xfrm>
            <a:off x="3440160" y="1917720"/>
            <a:ext cx="3728880" cy="1541160"/>
            <a:chOff x="3440160" y="1917720"/>
            <a:chExt cx="3728880" cy="1541160"/>
          </a:xfrm>
        </p:grpSpPr>
        <p:sp>
          <p:nvSpPr>
            <p:cNvPr id="470" name="Freeform 119"/>
            <p:cNvSpPr/>
            <p:nvPr/>
          </p:nvSpPr>
          <p:spPr>
            <a:xfrm>
              <a:off x="4831920" y="3110400"/>
              <a:ext cx="397800" cy="34848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9999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20"/>
            <p:cNvSpPr/>
            <p:nvPr/>
          </p:nvSpPr>
          <p:spPr>
            <a:xfrm flipH="1">
              <a:off x="5379120" y="3110400"/>
              <a:ext cx="397440" cy="34848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ff9999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1"/>
            <p:cNvSpPr/>
            <p:nvPr/>
          </p:nvSpPr>
          <p:spPr>
            <a:xfrm flipH="1">
              <a:off x="5379120" y="2215800"/>
              <a:ext cx="1789920" cy="84492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22"/>
            <p:cNvSpPr/>
            <p:nvPr/>
          </p:nvSpPr>
          <p:spPr>
            <a:xfrm>
              <a:off x="3440160" y="2215800"/>
              <a:ext cx="1789920" cy="84492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Oval 123"/>
            <p:cNvSpPr/>
            <p:nvPr/>
          </p:nvSpPr>
          <p:spPr>
            <a:xfrm>
              <a:off x="5080680" y="2414520"/>
              <a:ext cx="447120" cy="845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AutoShape 124"/>
            <p:cNvSpPr/>
            <p:nvPr/>
          </p:nvSpPr>
          <p:spPr>
            <a:xfrm>
              <a:off x="5130360" y="1917720"/>
              <a:ext cx="148680" cy="298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AutoShape 125"/>
            <p:cNvSpPr/>
            <p:nvPr/>
          </p:nvSpPr>
          <p:spPr>
            <a:xfrm>
              <a:off x="5329440" y="1917720"/>
              <a:ext cx="149040" cy="298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126"/>
            <p:cNvSpPr/>
            <p:nvPr/>
          </p:nvSpPr>
          <p:spPr>
            <a:xfrm>
              <a:off x="5031720" y="2165400"/>
              <a:ext cx="545760" cy="3978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AutoShape 127"/>
            <p:cNvSpPr/>
            <p:nvPr/>
          </p:nvSpPr>
          <p:spPr>
            <a:xfrm rot="10800000">
              <a:off x="5080680" y="2315520"/>
              <a:ext cx="198000" cy="98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AutoShape 128"/>
            <p:cNvSpPr/>
            <p:nvPr/>
          </p:nvSpPr>
          <p:spPr>
            <a:xfrm rot="10800000">
              <a:off x="5329440" y="2315520"/>
              <a:ext cx="198000" cy="98640"/>
            </a:xfrm>
            <a:prstGeom prst="triangle">
              <a:avLst>
                <a:gd name="adj" fmla="val 50000"/>
              </a:avLst>
            </a:prstGeom>
            <a:solidFill>
              <a:srgbClr val="ffff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0" name="Group 129"/>
          <p:cNvGrpSpPr/>
          <p:nvPr/>
        </p:nvGrpSpPr>
        <p:grpSpPr>
          <a:xfrm>
            <a:off x="4232160" y="836640"/>
            <a:ext cx="2232000" cy="922320"/>
            <a:chOff x="4232160" y="836640"/>
            <a:chExt cx="2232000" cy="922320"/>
          </a:xfrm>
        </p:grpSpPr>
        <p:sp>
          <p:nvSpPr>
            <p:cNvPr id="481" name="Freeform 130"/>
            <p:cNvSpPr/>
            <p:nvPr/>
          </p:nvSpPr>
          <p:spPr>
            <a:xfrm>
              <a:off x="5065200" y="1550520"/>
              <a:ext cx="237960" cy="2084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131"/>
            <p:cNvSpPr/>
            <p:nvPr/>
          </p:nvSpPr>
          <p:spPr>
            <a:xfrm flipH="1">
              <a:off x="5392080" y="1550520"/>
              <a:ext cx="237960" cy="2084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132"/>
            <p:cNvSpPr/>
            <p:nvPr/>
          </p:nvSpPr>
          <p:spPr>
            <a:xfrm flipH="1">
              <a:off x="5392800" y="1014840"/>
              <a:ext cx="1071360" cy="50544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Freeform 133"/>
            <p:cNvSpPr/>
            <p:nvPr/>
          </p:nvSpPr>
          <p:spPr>
            <a:xfrm>
              <a:off x="4232160" y="1014840"/>
              <a:ext cx="1071360" cy="50544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134"/>
            <p:cNvSpPr/>
            <p:nvPr/>
          </p:nvSpPr>
          <p:spPr>
            <a:xfrm>
              <a:off x="5214240" y="1133640"/>
              <a:ext cx="267480" cy="50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AutoShape 135"/>
            <p:cNvSpPr/>
            <p:nvPr/>
          </p:nvSpPr>
          <p:spPr>
            <a:xfrm>
              <a:off x="5243760" y="836640"/>
              <a:ext cx="88920" cy="178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AutoShape 136"/>
            <p:cNvSpPr/>
            <p:nvPr/>
          </p:nvSpPr>
          <p:spPr>
            <a:xfrm>
              <a:off x="5363280" y="836640"/>
              <a:ext cx="88920" cy="178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Oval 137"/>
            <p:cNvSpPr/>
            <p:nvPr/>
          </p:nvSpPr>
          <p:spPr>
            <a:xfrm>
              <a:off x="5184720" y="984960"/>
              <a:ext cx="326520" cy="23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AutoShape 138"/>
            <p:cNvSpPr/>
            <p:nvPr/>
          </p:nvSpPr>
          <p:spPr>
            <a:xfrm rot="10800000">
              <a:off x="5213880" y="1074600"/>
              <a:ext cx="118440" cy="59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AutoShape 139"/>
            <p:cNvSpPr/>
            <p:nvPr/>
          </p:nvSpPr>
          <p:spPr>
            <a:xfrm rot="10800000">
              <a:off x="5362920" y="1074600"/>
              <a:ext cx="118440" cy="59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Freeform 108"/>
          <p:cNvSpPr/>
          <p:nvPr/>
        </p:nvSpPr>
        <p:spPr>
          <a:xfrm flipH="1">
            <a:off x="-720" y="1268280"/>
            <a:ext cx="3236760" cy="736560"/>
          </a:xfrm>
          <a:custGeom>
            <a:avLst/>
            <a:gdLst/>
            <a:ahLst/>
            <a:rect l="l" t="t" r="r" b="b"/>
            <a:pathLst>
              <a:path w="3810" h="907">
                <a:moveTo>
                  <a:pt x="3810" y="0"/>
                </a:moveTo>
                <a:lnTo>
                  <a:pt x="2903" y="227"/>
                </a:lnTo>
                <a:lnTo>
                  <a:pt x="1995" y="91"/>
                </a:lnTo>
                <a:lnTo>
                  <a:pt x="1270" y="181"/>
                </a:lnTo>
                <a:lnTo>
                  <a:pt x="771" y="45"/>
                </a:lnTo>
                <a:lnTo>
                  <a:pt x="0" y="91"/>
                </a:lnTo>
                <a:lnTo>
                  <a:pt x="725" y="136"/>
                </a:lnTo>
                <a:lnTo>
                  <a:pt x="1179" y="363"/>
                </a:lnTo>
                <a:lnTo>
                  <a:pt x="1859" y="363"/>
                </a:lnTo>
                <a:lnTo>
                  <a:pt x="1723" y="590"/>
                </a:lnTo>
                <a:lnTo>
                  <a:pt x="1360" y="771"/>
                </a:lnTo>
                <a:lnTo>
                  <a:pt x="1633" y="726"/>
                </a:lnTo>
                <a:lnTo>
                  <a:pt x="1678" y="907"/>
                </a:lnTo>
                <a:lnTo>
                  <a:pt x="1723" y="680"/>
                </a:lnTo>
                <a:lnTo>
                  <a:pt x="1905" y="590"/>
                </a:lnTo>
                <a:lnTo>
                  <a:pt x="2086" y="317"/>
                </a:lnTo>
                <a:lnTo>
                  <a:pt x="2948" y="499"/>
                </a:lnTo>
                <a:lnTo>
                  <a:pt x="3810" y="317"/>
                </a:lnTo>
                <a:lnTo>
                  <a:pt x="38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109"/>
          <p:cNvSpPr/>
          <p:nvPr/>
        </p:nvSpPr>
        <p:spPr>
          <a:xfrm flipH="1">
            <a:off x="-720" y="1846440"/>
            <a:ext cx="3311640" cy="728640"/>
          </a:xfrm>
          <a:custGeom>
            <a:avLst/>
            <a:gdLst/>
            <a:ahLst/>
            <a:rect l="l" t="t" r="r" b="b"/>
            <a:pathLst>
              <a:path w="3946" h="907">
                <a:moveTo>
                  <a:pt x="3946" y="90"/>
                </a:moveTo>
                <a:lnTo>
                  <a:pt x="3129" y="317"/>
                </a:lnTo>
                <a:lnTo>
                  <a:pt x="2222" y="227"/>
                </a:lnTo>
                <a:lnTo>
                  <a:pt x="1496" y="408"/>
                </a:lnTo>
                <a:lnTo>
                  <a:pt x="907" y="272"/>
                </a:lnTo>
                <a:lnTo>
                  <a:pt x="635" y="0"/>
                </a:lnTo>
                <a:lnTo>
                  <a:pt x="816" y="272"/>
                </a:lnTo>
                <a:lnTo>
                  <a:pt x="362" y="181"/>
                </a:lnTo>
                <a:lnTo>
                  <a:pt x="0" y="317"/>
                </a:lnTo>
                <a:lnTo>
                  <a:pt x="362" y="272"/>
                </a:lnTo>
                <a:lnTo>
                  <a:pt x="544" y="317"/>
                </a:lnTo>
                <a:lnTo>
                  <a:pt x="317" y="453"/>
                </a:lnTo>
                <a:lnTo>
                  <a:pt x="680" y="363"/>
                </a:lnTo>
                <a:lnTo>
                  <a:pt x="1179" y="453"/>
                </a:lnTo>
                <a:lnTo>
                  <a:pt x="1496" y="589"/>
                </a:lnTo>
                <a:lnTo>
                  <a:pt x="1134" y="816"/>
                </a:lnTo>
                <a:lnTo>
                  <a:pt x="725" y="862"/>
                </a:lnTo>
                <a:lnTo>
                  <a:pt x="1224" y="907"/>
                </a:lnTo>
                <a:lnTo>
                  <a:pt x="1678" y="680"/>
                </a:lnTo>
                <a:lnTo>
                  <a:pt x="1769" y="499"/>
                </a:lnTo>
                <a:lnTo>
                  <a:pt x="2268" y="408"/>
                </a:lnTo>
                <a:lnTo>
                  <a:pt x="2676" y="499"/>
                </a:lnTo>
                <a:lnTo>
                  <a:pt x="2494" y="771"/>
                </a:lnTo>
                <a:lnTo>
                  <a:pt x="2177" y="907"/>
                </a:lnTo>
                <a:lnTo>
                  <a:pt x="2721" y="816"/>
                </a:lnTo>
                <a:lnTo>
                  <a:pt x="2948" y="544"/>
                </a:lnTo>
                <a:lnTo>
                  <a:pt x="3311" y="589"/>
                </a:lnTo>
                <a:lnTo>
                  <a:pt x="3946" y="499"/>
                </a:lnTo>
                <a:lnTo>
                  <a:pt x="3946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16"/>
          <p:cNvSpPr/>
          <p:nvPr/>
        </p:nvSpPr>
        <p:spPr>
          <a:xfrm flipH="1">
            <a:off x="0" y="2708280"/>
            <a:ext cx="2935440" cy="728640"/>
          </a:xfrm>
          <a:custGeom>
            <a:avLst/>
            <a:gdLst/>
            <a:ahLst/>
            <a:rect l="l" t="t" r="r" b="b"/>
            <a:pathLst>
              <a:path w="3493" h="907">
                <a:moveTo>
                  <a:pt x="3493" y="272"/>
                </a:moveTo>
                <a:lnTo>
                  <a:pt x="2223" y="91"/>
                </a:lnTo>
                <a:lnTo>
                  <a:pt x="1452" y="272"/>
                </a:lnTo>
                <a:lnTo>
                  <a:pt x="1089" y="0"/>
                </a:lnTo>
                <a:lnTo>
                  <a:pt x="363" y="45"/>
                </a:lnTo>
                <a:lnTo>
                  <a:pt x="771" y="136"/>
                </a:lnTo>
                <a:lnTo>
                  <a:pt x="499" y="227"/>
                </a:lnTo>
                <a:lnTo>
                  <a:pt x="0" y="136"/>
                </a:lnTo>
                <a:lnTo>
                  <a:pt x="590" y="363"/>
                </a:lnTo>
                <a:lnTo>
                  <a:pt x="1043" y="181"/>
                </a:lnTo>
                <a:lnTo>
                  <a:pt x="1316" y="408"/>
                </a:lnTo>
                <a:lnTo>
                  <a:pt x="1724" y="499"/>
                </a:lnTo>
                <a:lnTo>
                  <a:pt x="2041" y="363"/>
                </a:lnTo>
                <a:lnTo>
                  <a:pt x="1951" y="680"/>
                </a:lnTo>
                <a:lnTo>
                  <a:pt x="2268" y="318"/>
                </a:lnTo>
                <a:lnTo>
                  <a:pt x="2722" y="408"/>
                </a:lnTo>
                <a:lnTo>
                  <a:pt x="2994" y="544"/>
                </a:lnTo>
                <a:lnTo>
                  <a:pt x="2676" y="771"/>
                </a:lnTo>
                <a:lnTo>
                  <a:pt x="2268" y="907"/>
                </a:lnTo>
                <a:lnTo>
                  <a:pt x="2812" y="862"/>
                </a:lnTo>
                <a:lnTo>
                  <a:pt x="3175" y="590"/>
                </a:lnTo>
                <a:lnTo>
                  <a:pt x="3493" y="680"/>
                </a:lnTo>
                <a:lnTo>
                  <a:pt x="3493" y="27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1496880" y="3500280"/>
            <a:ext cx="4896000" cy="1079640"/>
            <a:chOff x="1496880" y="3500280"/>
            <a:chExt cx="4896000" cy="1079640"/>
          </a:xfrm>
        </p:grpSpPr>
        <p:sp>
          <p:nvSpPr>
            <p:cNvPr id="495" name=""/>
            <p:cNvSpPr/>
            <p:nvPr/>
          </p:nvSpPr>
          <p:spPr>
            <a:xfrm>
              <a:off x="1496880" y="3500280"/>
              <a:ext cx="2521080" cy="936720"/>
            </a:xfrm>
            <a:custGeom>
              <a:avLst/>
              <a:gdLst/>
              <a:ahLst/>
              <a:rect l="l" t="t" r="r" b="b"/>
              <a:pathLst>
                <a:path w="1588" h="590">
                  <a:moveTo>
                    <a:pt x="1497" y="318"/>
                  </a:moveTo>
                  <a:lnTo>
                    <a:pt x="953" y="0"/>
                  </a:lnTo>
                  <a:lnTo>
                    <a:pt x="0" y="363"/>
                  </a:lnTo>
                  <a:lnTo>
                    <a:pt x="544" y="318"/>
                  </a:lnTo>
                  <a:lnTo>
                    <a:pt x="635" y="499"/>
                  </a:lnTo>
                  <a:lnTo>
                    <a:pt x="998" y="363"/>
                  </a:lnTo>
                  <a:lnTo>
                    <a:pt x="1134" y="590"/>
                  </a:lnTo>
                  <a:lnTo>
                    <a:pt x="1588" y="454"/>
                  </a:lnTo>
                  <a:lnTo>
                    <a:pt x="1497" y="31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60880" y="3643200"/>
              <a:ext cx="2232000" cy="936720"/>
            </a:xfrm>
            <a:custGeom>
              <a:avLst/>
              <a:gdLst/>
              <a:ahLst/>
              <a:rect l="l" t="t" r="r" b="b"/>
              <a:pathLst>
                <a:path w="1406" h="590">
                  <a:moveTo>
                    <a:pt x="0" y="318"/>
                  </a:moveTo>
                  <a:lnTo>
                    <a:pt x="544" y="0"/>
                  </a:lnTo>
                  <a:lnTo>
                    <a:pt x="1406" y="408"/>
                  </a:lnTo>
                  <a:lnTo>
                    <a:pt x="861" y="363"/>
                  </a:lnTo>
                  <a:lnTo>
                    <a:pt x="816" y="590"/>
                  </a:lnTo>
                  <a:lnTo>
                    <a:pt x="544" y="363"/>
                  </a:lnTo>
                  <a:lnTo>
                    <a:pt x="272" y="545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911400" y="3537000"/>
              <a:ext cx="144720" cy="503280"/>
            </a:xfrm>
            <a:custGeom>
              <a:avLst/>
              <a:gdLst/>
              <a:ahLst/>
              <a:rect l="l" t="t" r="r" b="b"/>
              <a:pathLst>
                <a:path w="91" h="317">
                  <a:moveTo>
                    <a:pt x="45" y="317"/>
                  </a:moveTo>
                  <a:lnTo>
                    <a:pt x="0" y="181"/>
                  </a:lnTo>
                  <a:lnTo>
                    <a:pt x="45" y="0"/>
                  </a:lnTo>
                  <a:lnTo>
                    <a:pt x="91" y="181"/>
                  </a:lnTo>
                  <a:lnTo>
                    <a:pt x="45" y="31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127400" y="3537000"/>
              <a:ext cx="144360" cy="503280"/>
            </a:xfrm>
            <a:custGeom>
              <a:avLst/>
              <a:gdLst/>
              <a:ahLst/>
              <a:rect l="l" t="t" r="r" b="b"/>
              <a:pathLst>
                <a:path w="91" h="317">
                  <a:moveTo>
                    <a:pt x="45" y="317"/>
                  </a:moveTo>
                  <a:lnTo>
                    <a:pt x="0" y="181"/>
                  </a:lnTo>
                  <a:lnTo>
                    <a:pt x="45" y="0"/>
                  </a:lnTo>
                  <a:lnTo>
                    <a:pt x="91" y="181"/>
                  </a:lnTo>
                  <a:lnTo>
                    <a:pt x="45" y="317"/>
                  </a:ln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873600" y="3932280"/>
              <a:ext cx="431640" cy="5032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914640" y="4052880"/>
              <a:ext cx="144360" cy="14436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97160" y="4052880"/>
              <a:ext cx="144720" cy="144360"/>
            </a:xfrm>
            <a:prstGeom prst="ellipse">
              <a:avLst/>
            </a:prstGeom>
            <a:solidFill>
              <a:srgbClr val="ffff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2720880" y="260280"/>
            <a:ext cx="2734920" cy="603000"/>
            <a:chOff x="2720880" y="260280"/>
            <a:chExt cx="2734920" cy="603000"/>
          </a:xfrm>
        </p:grpSpPr>
        <p:sp>
          <p:nvSpPr>
            <p:cNvPr id="503" name=""/>
            <p:cNvSpPr/>
            <p:nvPr/>
          </p:nvSpPr>
          <p:spPr>
            <a:xfrm>
              <a:off x="2720880" y="260280"/>
              <a:ext cx="1408320" cy="523440"/>
            </a:xfrm>
            <a:custGeom>
              <a:avLst/>
              <a:gdLst/>
              <a:ahLst/>
              <a:rect l="l" t="t" r="r" b="b"/>
              <a:pathLst>
                <a:path w="1588" h="590">
                  <a:moveTo>
                    <a:pt x="1497" y="318"/>
                  </a:moveTo>
                  <a:lnTo>
                    <a:pt x="953" y="0"/>
                  </a:lnTo>
                  <a:lnTo>
                    <a:pt x="0" y="363"/>
                  </a:lnTo>
                  <a:lnTo>
                    <a:pt x="544" y="318"/>
                  </a:lnTo>
                  <a:lnTo>
                    <a:pt x="635" y="499"/>
                  </a:lnTo>
                  <a:lnTo>
                    <a:pt x="998" y="363"/>
                  </a:lnTo>
                  <a:lnTo>
                    <a:pt x="1134" y="590"/>
                  </a:lnTo>
                  <a:lnTo>
                    <a:pt x="1588" y="454"/>
                  </a:lnTo>
                  <a:lnTo>
                    <a:pt x="1497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209120" y="339840"/>
              <a:ext cx="1246680" cy="523440"/>
            </a:xfrm>
            <a:custGeom>
              <a:avLst/>
              <a:gdLst/>
              <a:ahLst/>
              <a:rect l="l" t="t" r="r" b="b"/>
              <a:pathLst>
                <a:path w="1406" h="590">
                  <a:moveTo>
                    <a:pt x="0" y="318"/>
                  </a:moveTo>
                  <a:lnTo>
                    <a:pt x="544" y="0"/>
                  </a:lnTo>
                  <a:lnTo>
                    <a:pt x="1406" y="408"/>
                  </a:lnTo>
                  <a:lnTo>
                    <a:pt x="861" y="363"/>
                  </a:lnTo>
                  <a:lnTo>
                    <a:pt x="816" y="590"/>
                  </a:lnTo>
                  <a:lnTo>
                    <a:pt x="544" y="363"/>
                  </a:lnTo>
                  <a:lnTo>
                    <a:pt x="272" y="545"/>
                  </a:lnTo>
                  <a:lnTo>
                    <a:pt x="0" y="3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069800" y="280800"/>
              <a:ext cx="80640" cy="281160"/>
            </a:xfrm>
            <a:custGeom>
              <a:avLst/>
              <a:gdLst/>
              <a:ahLst/>
              <a:rect l="l" t="t" r="r" b="b"/>
              <a:pathLst>
                <a:path w="91" h="317">
                  <a:moveTo>
                    <a:pt x="45" y="317"/>
                  </a:moveTo>
                  <a:lnTo>
                    <a:pt x="0" y="181"/>
                  </a:lnTo>
                  <a:lnTo>
                    <a:pt x="45" y="0"/>
                  </a:lnTo>
                  <a:lnTo>
                    <a:pt x="91" y="181"/>
                  </a:lnTo>
                  <a:lnTo>
                    <a:pt x="45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190400" y="280800"/>
              <a:ext cx="80640" cy="281160"/>
            </a:xfrm>
            <a:custGeom>
              <a:avLst/>
              <a:gdLst/>
              <a:ahLst/>
              <a:rect l="l" t="t" r="r" b="b"/>
              <a:pathLst>
                <a:path w="91" h="317">
                  <a:moveTo>
                    <a:pt x="45" y="317"/>
                  </a:moveTo>
                  <a:lnTo>
                    <a:pt x="0" y="181"/>
                  </a:lnTo>
                  <a:lnTo>
                    <a:pt x="45" y="0"/>
                  </a:lnTo>
                  <a:lnTo>
                    <a:pt x="91" y="181"/>
                  </a:lnTo>
                  <a:lnTo>
                    <a:pt x="45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048560" y="501480"/>
              <a:ext cx="240840" cy="281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71600" y="569160"/>
              <a:ext cx="80640" cy="8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73480" y="569160"/>
              <a:ext cx="80640" cy="80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4416480" y="5300640"/>
            <a:ext cx="1252440" cy="1584360"/>
          </a:xfrm>
          <a:custGeom>
            <a:avLst/>
            <a:gdLst/>
            <a:ahLst/>
            <a:rect l="l" t="t" r="r" b="b"/>
            <a:pathLst>
              <a:path w="3265" h="4128">
                <a:moveTo>
                  <a:pt x="1859" y="4128"/>
                </a:moveTo>
                <a:lnTo>
                  <a:pt x="1224" y="4128"/>
                </a:lnTo>
                <a:lnTo>
                  <a:pt x="1496" y="3311"/>
                </a:lnTo>
                <a:lnTo>
                  <a:pt x="1360" y="2631"/>
                </a:lnTo>
                <a:lnTo>
                  <a:pt x="589" y="2314"/>
                </a:lnTo>
                <a:lnTo>
                  <a:pt x="0" y="1452"/>
                </a:lnTo>
                <a:lnTo>
                  <a:pt x="680" y="2132"/>
                </a:lnTo>
                <a:lnTo>
                  <a:pt x="997" y="2177"/>
                </a:lnTo>
                <a:lnTo>
                  <a:pt x="725" y="1769"/>
                </a:lnTo>
                <a:lnTo>
                  <a:pt x="1088" y="2177"/>
                </a:lnTo>
                <a:lnTo>
                  <a:pt x="1315" y="2268"/>
                </a:lnTo>
                <a:lnTo>
                  <a:pt x="1224" y="1769"/>
                </a:lnTo>
                <a:lnTo>
                  <a:pt x="680" y="862"/>
                </a:lnTo>
                <a:lnTo>
                  <a:pt x="1043" y="1180"/>
                </a:lnTo>
                <a:lnTo>
                  <a:pt x="952" y="499"/>
                </a:lnTo>
                <a:lnTo>
                  <a:pt x="1496" y="0"/>
                </a:lnTo>
                <a:lnTo>
                  <a:pt x="1179" y="590"/>
                </a:lnTo>
                <a:lnTo>
                  <a:pt x="1270" y="1134"/>
                </a:lnTo>
                <a:lnTo>
                  <a:pt x="1723" y="862"/>
                </a:lnTo>
                <a:lnTo>
                  <a:pt x="1632" y="1043"/>
                </a:lnTo>
                <a:lnTo>
                  <a:pt x="1769" y="1089"/>
                </a:lnTo>
                <a:lnTo>
                  <a:pt x="1587" y="1089"/>
                </a:lnTo>
                <a:lnTo>
                  <a:pt x="1360" y="1361"/>
                </a:lnTo>
                <a:lnTo>
                  <a:pt x="1632" y="2223"/>
                </a:lnTo>
                <a:lnTo>
                  <a:pt x="1905" y="2812"/>
                </a:lnTo>
                <a:lnTo>
                  <a:pt x="2540" y="2631"/>
                </a:lnTo>
                <a:lnTo>
                  <a:pt x="3265" y="2041"/>
                </a:lnTo>
                <a:lnTo>
                  <a:pt x="2676" y="2858"/>
                </a:lnTo>
                <a:lnTo>
                  <a:pt x="2041" y="3175"/>
                </a:lnTo>
                <a:lnTo>
                  <a:pt x="1859" y="412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384880" y="5084640"/>
            <a:ext cx="1549440" cy="1800360"/>
          </a:xfrm>
          <a:custGeom>
            <a:avLst/>
            <a:gdLst/>
            <a:ahLst/>
            <a:rect l="l" t="t" r="r" b="b"/>
            <a:pathLst>
              <a:path w="3084" h="3583">
                <a:moveTo>
                  <a:pt x="680" y="3583"/>
                </a:moveTo>
                <a:lnTo>
                  <a:pt x="1406" y="3583"/>
                </a:lnTo>
                <a:lnTo>
                  <a:pt x="1724" y="2540"/>
                </a:lnTo>
                <a:lnTo>
                  <a:pt x="2495" y="2358"/>
                </a:lnTo>
                <a:lnTo>
                  <a:pt x="3084" y="1678"/>
                </a:lnTo>
                <a:lnTo>
                  <a:pt x="2449" y="2177"/>
                </a:lnTo>
                <a:lnTo>
                  <a:pt x="1769" y="2222"/>
                </a:lnTo>
                <a:lnTo>
                  <a:pt x="2223" y="1270"/>
                </a:lnTo>
                <a:lnTo>
                  <a:pt x="2313" y="0"/>
                </a:lnTo>
                <a:lnTo>
                  <a:pt x="2041" y="1179"/>
                </a:lnTo>
                <a:lnTo>
                  <a:pt x="1588" y="997"/>
                </a:lnTo>
                <a:lnTo>
                  <a:pt x="1225" y="498"/>
                </a:lnTo>
                <a:lnTo>
                  <a:pt x="1361" y="861"/>
                </a:lnTo>
                <a:lnTo>
                  <a:pt x="1043" y="861"/>
                </a:lnTo>
                <a:lnTo>
                  <a:pt x="1406" y="952"/>
                </a:lnTo>
                <a:lnTo>
                  <a:pt x="1452" y="1088"/>
                </a:lnTo>
                <a:lnTo>
                  <a:pt x="1860" y="1360"/>
                </a:lnTo>
                <a:lnTo>
                  <a:pt x="1542" y="1905"/>
                </a:lnTo>
                <a:lnTo>
                  <a:pt x="998" y="1632"/>
                </a:lnTo>
                <a:lnTo>
                  <a:pt x="499" y="816"/>
                </a:lnTo>
                <a:lnTo>
                  <a:pt x="544" y="498"/>
                </a:lnTo>
                <a:lnTo>
                  <a:pt x="408" y="725"/>
                </a:lnTo>
                <a:lnTo>
                  <a:pt x="136" y="408"/>
                </a:lnTo>
                <a:lnTo>
                  <a:pt x="318" y="816"/>
                </a:lnTo>
                <a:lnTo>
                  <a:pt x="0" y="907"/>
                </a:lnTo>
                <a:lnTo>
                  <a:pt x="408" y="952"/>
                </a:lnTo>
                <a:lnTo>
                  <a:pt x="726" y="1587"/>
                </a:lnTo>
                <a:lnTo>
                  <a:pt x="0" y="1451"/>
                </a:lnTo>
                <a:lnTo>
                  <a:pt x="816" y="1769"/>
                </a:lnTo>
                <a:lnTo>
                  <a:pt x="1406" y="2222"/>
                </a:lnTo>
                <a:lnTo>
                  <a:pt x="680" y="35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40520" y="2997360"/>
            <a:ext cx="2879640" cy="865080"/>
          </a:xfrm>
          <a:custGeom>
            <a:avLst/>
            <a:gdLst/>
            <a:ahLst/>
            <a:rect l="l" t="t" r="r" b="b"/>
            <a:pathLst>
              <a:path w="1814" h="545">
                <a:moveTo>
                  <a:pt x="1814" y="46"/>
                </a:moveTo>
                <a:lnTo>
                  <a:pt x="1406" y="136"/>
                </a:lnTo>
                <a:lnTo>
                  <a:pt x="771" y="0"/>
                </a:lnTo>
                <a:lnTo>
                  <a:pt x="499" y="91"/>
                </a:lnTo>
                <a:lnTo>
                  <a:pt x="0" y="46"/>
                </a:lnTo>
                <a:lnTo>
                  <a:pt x="318" y="136"/>
                </a:lnTo>
                <a:lnTo>
                  <a:pt x="91" y="272"/>
                </a:lnTo>
                <a:lnTo>
                  <a:pt x="408" y="182"/>
                </a:lnTo>
                <a:lnTo>
                  <a:pt x="590" y="227"/>
                </a:lnTo>
                <a:lnTo>
                  <a:pt x="771" y="136"/>
                </a:lnTo>
                <a:lnTo>
                  <a:pt x="953" y="182"/>
                </a:lnTo>
                <a:lnTo>
                  <a:pt x="1270" y="272"/>
                </a:lnTo>
                <a:lnTo>
                  <a:pt x="998" y="545"/>
                </a:lnTo>
                <a:lnTo>
                  <a:pt x="1452" y="272"/>
                </a:lnTo>
                <a:lnTo>
                  <a:pt x="1724" y="227"/>
                </a:lnTo>
                <a:lnTo>
                  <a:pt x="1814" y="272"/>
                </a:lnTo>
                <a:lnTo>
                  <a:pt x="1814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aa55a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42"/>
          <p:cNvGrpSpPr/>
          <p:nvPr/>
        </p:nvGrpSpPr>
        <p:grpSpPr>
          <a:xfrm>
            <a:off x="200160" y="4697280"/>
            <a:ext cx="2087280" cy="2160720"/>
            <a:chOff x="200160" y="4697280"/>
            <a:chExt cx="2087280" cy="2160720"/>
          </a:xfrm>
        </p:grpSpPr>
        <p:grpSp>
          <p:nvGrpSpPr>
            <p:cNvPr id="515" name="Group 43"/>
            <p:cNvGrpSpPr/>
            <p:nvPr/>
          </p:nvGrpSpPr>
          <p:grpSpPr>
            <a:xfrm>
              <a:off x="200160" y="4697280"/>
              <a:ext cx="2087280" cy="2160720"/>
              <a:chOff x="200160" y="4697280"/>
              <a:chExt cx="2087280" cy="2160720"/>
            </a:xfrm>
          </p:grpSpPr>
          <p:sp>
            <p:nvSpPr>
              <p:cNvPr id="516" name="Rectangle 44"/>
              <p:cNvSpPr/>
              <p:nvPr/>
            </p:nvSpPr>
            <p:spPr>
              <a:xfrm>
                <a:off x="271440" y="5776920"/>
                <a:ext cx="217080" cy="64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Rectangle 45"/>
              <p:cNvSpPr/>
              <p:nvPr/>
            </p:nvSpPr>
            <p:spPr>
              <a:xfrm>
                <a:off x="1063440" y="5128920"/>
                <a:ext cx="361800" cy="10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Rectangle 46"/>
              <p:cNvSpPr/>
              <p:nvPr/>
            </p:nvSpPr>
            <p:spPr>
              <a:xfrm>
                <a:off x="2000160" y="5776920"/>
                <a:ext cx="217080" cy="64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utoShape 47"/>
              <p:cNvSpPr/>
              <p:nvPr/>
            </p:nvSpPr>
            <p:spPr>
              <a:xfrm>
                <a:off x="200160" y="5489280"/>
                <a:ext cx="360000" cy="287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AutoShape 48"/>
              <p:cNvSpPr/>
              <p:nvPr/>
            </p:nvSpPr>
            <p:spPr>
              <a:xfrm>
                <a:off x="992160" y="4697280"/>
                <a:ext cx="502920" cy="431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AutoShape 49"/>
              <p:cNvSpPr/>
              <p:nvPr/>
            </p:nvSpPr>
            <p:spPr>
              <a:xfrm>
                <a:off x="1927080" y="5489280"/>
                <a:ext cx="360000" cy="287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Rectangle 50"/>
              <p:cNvSpPr/>
              <p:nvPr/>
            </p:nvSpPr>
            <p:spPr>
              <a:xfrm>
                <a:off x="200160" y="6137280"/>
                <a:ext cx="2087280" cy="57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Rectangle 51"/>
              <p:cNvSpPr/>
              <p:nvPr/>
            </p:nvSpPr>
            <p:spPr>
              <a:xfrm>
                <a:off x="271440" y="6642000"/>
                <a:ext cx="1944360" cy="216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Rectangle 52"/>
              <p:cNvSpPr/>
              <p:nvPr/>
            </p:nvSpPr>
            <p:spPr>
              <a:xfrm>
                <a:off x="560160" y="6065640"/>
                <a:ext cx="71280" cy="14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Rectangle 53"/>
              <p:cNvSpPr/>
              <p:nvPr/>
            </p:nvSpPr>
            <p:spPr>
              <a:xfrm>
                <a:off x="703080" y="6065640"/>
                <a:ext cx="71280" cy="14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Rectangle 54"/>
              <p:cNvSpPr/>
              <p:nvPr/>
            </p:nvSpPr>
            <p:spPr>
              <a:xfrm>
                <a:off x="849240" y="6065640"/>
                <a:ext cx="70920" cy="14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Rectangle 55"/>
              <p:cNvSpPr/>
              <p:nvPr/>
            </p:nvSpPr>
            <p:spPr>
              <a:xfrm>
                <a:off x="1855800" y="6065640"/>
                <a:ext cx="70920" cy="14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Rectangle 56"/>
              <p:cNvSpPr/>
              <p:nvPr/>
            </p:nvSpPr>
            <p:spPr>
              <a:xfrm>
                <a:off x="1712880" y="6065640"/>
                <a:ext cx="70920" cy="14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Rectangle 57"/>
              <p:cNvSpPr/>
              <p:nvPr/>
            </p:nvSpPr>
            <p:spPr>
              <a:xfrm>
                <a:off x="1568520" y="6065640"/>
                <a:ext cx="70920" cy="14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Rectangle 58"/>
              <p:cNvSpPr/>
              <p:nvPr/>
            </p:nvSpPr>
            <p:spPr>
              <a:xfrm>
                <a:off x="1423800" y="6065640"/>
                <a:ext cx="71280" cy="14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Rectangle 59"/>
              <p:cNvSpPr/>
              <p:nvPr/>
            </p:nvSpPr>
            <p:spPr>
              <a:xfrm>
                <a:off x="992160" y="6065640"/>
                <a:ext cx="70920" cy="142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2" name="Group 60"/>
            <p:cNvGrpSpPr/>
            <p:nvPr/>
          </p:nvGrpSpPr>
          <p:grpSpPr>
            <a:xfrm>
              <a:off x="344520" y="5273280"/>
              <a:ext cx="1797840" cy="1152360"/>
              <a:chOff x="344520" y="5273280"/>
              <a:chExt cx="1797840" cy="1152360"/>
            </a:xfrm>
          </p:grpSpPr>
          <p:sp>
            <p:nvSpPr>
              <p:cNvPr id="533" name="AutoShape 61"/>
              <p:cNvSpPr/>
              <p:nvPr/>
            </p:nvSpPr>
            <p:spPr>
              <a:xfrm rot="16200000">
                <a:off x="1172520" y="5273640"/>
                <a:ext cx="142920" cy="14220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AutoShape 62"/>
              <p:cNvSpPr/>
              <p:nvPr/>
            </p:nvSpPr>
            <p:spPr>
              <a:xfrm rot="16200000">
                <a:off x="344160" y="5776920"/>
                <a:ext cx="71280" cy="7092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AutoShape 63"/>
              <p:cNvSpPr/>
              <p:nvPr/>
            </p:nvSpPr>
            <p:spPr>
              <a:xfrm rot="16200000">
                <a:off x="2071080" y="5776920"/>
                <a:ext cx="71280" cy="7128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" bIns="4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AutoShape 64"/>
              <p:cNvSpPr/>
              <p:nvPr/>
            </p:nvSpPr>
            <p:spPr>
              <a:xfrm rot="16200000">
                <a:off x="415080" y="6281280"/>
                <a:ext cx="144360" cy="14400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65"/>
              <p:cNvSpPr/>
              <p:nvPr/>
            </p:nvSpPr>
            <p:spPr>
              <a:xfrm rot="16200000">
                <a:off x="716760" y="6281280"/>
                <a:ext cx="144360" cy="14400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AutoShape 66"/>
              <p:cNvSpPr/>
              <p:nvPr/>
            </p:nvSpPr>
            <p:spPr>
              <a:xfrm rot="16200000">
                <a:off x="1018440" y="6281280"/>
                <a:ext cx="144360" cy="14400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AutoShape 67"/>
              <p:cNvSpPr/>
              <p:nvPr/>
            </p:nvSpPr>
            <p:spPr>
              <a:xfrm rot="16200000">
                <a:off x="1321560" y="6281280"/>
                <a:ext cx="144360" cy="14400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utoShape 68"/>
              <p:cNvSpPr/>
              <p:nvPr/>
            </p:nvSpPr>
            <p:spPr>
              <a:xfrm rot="16200000">
                <a:off x="1623240" y="6281280"/>
                <a:ext cx="144360" cy="14400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69"/>
              <p:cNvSpPr/>
              <p:nvPr/>
            </p:nvSpPr>
            <p:spPr>
              <a:xfrm rot="16200000">
                <a:off x="1926360" y="6281280"/>
                <a:ext cx="144360" cy="144000"/>
              </a:xfrm>
              <a:prstGeom prst="flowChartDelay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2" name="Freeform 70"/>
          <p:cNvSpPr/>
          <p:nvPr/>
        </p:nvSpPr>
        <p:spPr>
          <a:xfrm>
            <a:off x="4592520" y="5707080"/>
            <a:ext cx="858960" cy="1150920"/>
          </a:xfrm>
          <a:custGeom>
            <a:avLst/>
            <a:gdLst/>
            <a:ahLst/>
            <a:rect l="l" t="t" r="r" b="b"/>
            <a:pathLst>
              <a:path w="2268" h="3039">
                <a:moveTo>
                  <a:pt x="1270" y="3039"/>
                </a:moveTo>
                <a:lnTo>
                  <a:pt x="408" y="3039"/>
                </a:lnTo>
                <a:lnTo>
                  <a:pt x="680" y="2222"/>
                </a:lnTo>
                <a:lnTo>
                  <a:pt x="363" y="1905"/>
                </a:lnTo>
                <a:lnTo>
                  <a:pt x="0" y="1088"/>
                </a:lnTo>
                <a:lnTo>
                  <a:pt x="454" y="1769"/>
                </a:lnTo>
                <a:lnTo>
                  <a:pt x="771" y="2041"/>
                </a:lnTo>
                <a:lnTo>
                  <a:pt x="816" y="1859"/>
                </a:lnTo>
                <a:lnTo>
                  <a:pt x="907" y="1179"/>
                </a:lnTo>
                <a:lnTo>
                  <a:pt x="590" y="952"/>
                </a:lnTo>
                <a:lnTo>
                  <a:pt x="499" y="544"/>
                </a:lnTo>
                <a:lnTo>
                  <a:pt x="680" y="907"/>
                </a:lnTo>
                <a:lnTo>
                  <a:pt x="953" y="1043"/>
                </a:lnTo>
                <a:lnTo>
                  <a:pt x="998" y="725"/>
                </a:lnTo>
                <a:lnTo>
                  <a:pt x="907" y="0"/>
                </a:lnTo>
                <a:lnTo>
                  <a:pt x="1225" y="725"/>
                </a:lnTo>
                <a:lnTo>
                  <a:pt x="1315" y="1451"/>
                </a:lnTo>
                <a:lnTo>
                  <a:pt x="1633" y="1360"/>
                </a:lnTo>
                <a:lnTo>
                  <a:pt x="2041" y="1043"/>
                </a:lnTo>
                <a:lnTo>
                  <a:pt x="2132" y="771"/>
                </a:lnTo>
                <a:lnTo>
                  <a:pt x="2132" y="1088"/>
                </a:lnTo>
                <a:lnTo>
                  <a:pt x="1996" y="1224"/>
                </a:lnTo>
                <a:lnTo>
                  <a:pt x="2268" y="1224"/>
                </a:lnTo>
                <a:lnTo>
                  <a:pt x="1860" y="1315"/>
                </a:lnTo>
                <a:lnTo>
                  <a:pt x="1678" y="1496"/>
                </a:lnTo>
                <a:lnTo>
                  <a:pt x="1270" y="1678"/>
                </a:lnTo>
                <a:lnTo>
                  <a:pt x="1179" y="2358"/>
                </a:lnTo>
                <a:lnTo>
                  <a:pt x="1270" y="30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Freeform 71"/>
          <p:cNvSpPr/>
          <p:nvPr/>
        </p:nvSpPr>
        <p:spPr>
          <a:xfrm>
            <a:off x="3224160" y="4770360"/>
            <a:ext cx="1222560" cy="2087640"/>
          </a:xfrm>
          <a:custGeom>
            <a:avLst/>
            <a:gdLst/>
            <a:ahLst/>
            <a:rect l="l" t="t" r="r" b="b"/>
            <a:pathLst>
              <a:path w="2177" h="3719">
                <a:moveTo>
                  <a:pt x="953" y="3719"/>
                </a:moveTo>
                <a:lnTo>
                  <a:pt x="1497" y="3719"/>
                </a:lnTo>
                <a:lnTo>
                  <a:pt x="1089" y="2903"/>
                </a:lnTo>
                <a:lnTo>
                  <a:pt x="953" y="2268"/>
                </a:lnTo>
                <a:lnTo>
                  <a:pt x="1769" y="1995"/>
                </a:lnTo>
                <a:lnTo>
                  <a:pt x="2177" y="1496"/>
                </a:lnTo>
                <a:lnTo>
                  <a:pt x="1814" y="1814"/>
                </a:lnTo>
                <a:lnTo>
                  <a:pt x="1769" y="1496"/>
                </a:lnTo>
                <a:lnTo>
                  <a:pt x="1724" y="1905"/>
                </a:lnTo>
                <a:lnTo>
                  <a:pt x="1542" y="1995"/>
                </a:lnTo>
                <a:lnTo>
                  <a:pt x="953" y="2131"/>
                </a:lnTo>
                <a:lnTo>
                  <a:pt x="907" y="1905"/>
                </a:lnTo>
                <a:lnTo>
                  <a:pt x="907" y="1088"/>
                </a:lnTo>
                <a:lnTo>
                  <a:pt x="1134" y="816"/>
                </a:lnTo>
                <a:lnTo>
                  <a:pt x="1270" y="317"/>
                </a:lnTo>
                <a:lnTo>
                  <a:pt x="1043" y="816"/>
                </a:lnTo>
                <a:lnTo>
                  <a:pt x="907" y="952"/>
                </a:lnTo>
                <a:lnTo>
                  <a:pt x="907" y="499"/>
                </a:lnTo>
                <a:lnTo>
                  <a:pt x="1043" y="0"/>
                </a:lnTo>
                <a:lnTo>
                  <a:pt x="817" y="453"/>
                </a:lnTo>
                <a:lnTo>
                  <a:pt x="726" y="1814"/>
                </a:lnTo>
                <a:lnTo>
                  <a:pt x="771" y="2630"/>
                </a:lnTo>
                <a:lnTo>
                  <a:pt x="499" y="2540"/>
                </a:lnTo>
                <a:lnTo>
                  <a:pt x="0" y="1995"/>
                </a:lnTo>
                <a:lnTo>
                  <a:pt x="363" y="2630"/>
                </a:lnTo>
                <a:lnTo>
                  <a:pt x="817" y="2993"/>
                </a:lnTo>
                <a:lnTo>
                  <a:pt x="953" y="37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Freeform 72"/>
          <p:cNvSpPr/>
          <p:nvPr/>
        </p:nvSpPr>
        <p:spPr>
          <a:xfrm>
            <a:off x="5529240" y="4941720"/>
            <a:ext cx="905040" cy="1944720"/>
          </a:xfrm>
          <a:custGeom>
            <a:avLst/>
            <a:gdLst/>
            <a:ahLst/>
            <a:rect l="l" t="t" r="r" b="b"/>
            <a:pathLst>
              <a:path w="1814" h="3901">
                <a:moveTo>
                  <a:pt x="816" y="3901"/>
                </a:moveTo>
                <a:lnTo>
                  <a:pt x="227" y="3901"/>
                </a:lnTo>
                <a:lnTo>
                  <a:pt x="589" y="3130"/>
                </a:lnTo>
                <a:lnTo>
                  <a:pt x="181" y="2676"/>
                </a:lnTo>
                <a:lnTo>
                  <a:pt x="0" y="1951"/>
                </a:lnTo>
                <a:lnTo>
                  <a:pt x="272" y="2586"/>
                </a:lnTo>
                <a:lnTo>
                  <a:pt x="726" y="2858"/>
                </a:lnTo>
                <a:lnTo>
                  <a:pt x="862" y="2540"/>
                </a:lnTo>
                <a:lnTo>
                  <a:pt x="816" y="1951"/>
                </a:lnTo>
                <a:lnTo>
                  <a:pt x="635" y="1905"/>
                </a:lnTo>
                <a:lnTo>
                  <a:pt x="408" y="1724"/>
                </a:lnTo>
                <a:lnTo>
                  <a:pt x="136" y="1633"/>
                </a:lnTo>
                <a:lnTo>
                  <a:pt x="363" y="1633"/>
                </a:lnTo>
                <a:lnTo>
                  <a:pt x="181" y="1270"/>
                </a:lnTo>
                <a:lnTo>
                  <a:pt x="499" y="1679"/>
                </a:lnTo>
                <a:lnTo>
                  <a:pt x="680" y="1815"/>
                </a:lnTo>
                <a:lnTo>
                  <a:pt x="771" y="1815"/>
                </a:lnTo>
                <a:lnTo>
                  <a:pt x="771" y="1452"/>
                </a:lnTo>
                <a:lnTo>
                  <a:pt x="1270" y="0"/>
                </a:lnTo>
                <a:lnTo>
                  <a:pt x="1134" y="590"/>
                </a:lnTo>
                <a:lnTo>
                  <a:pt x="1361" y="499"/>
                </a:lnTo>
                <a:lnTo>
                  <a:pt x="1542" y="227"/>
                </a:lnTo>
                <a:lnTo>
                  <a:pt x="1406" y="590"/>
                </a:lnTo>
                <a:lnTo>
                  <a:pt x="1134" y="771"/>
                </a:lnTo>
                <a:lnTo>
                  <a:pt x="907" y="1452"/>
                </a:lnTo>
                <a:lnTo>
                  <a:pt x="1043" y="2404"/>
                </a:lnTo>
                <a:lnTo>
                  <a:pt x="1406" y="2223"/>
                </a:lnTo>
                <a:lnTo>
                  <a:pt x="1814" y="1860"/>
                </a:lnTo>
                <a:lnTo>
                  <a:pt x="1361" y="2450"/>
                </a:lnTo>
                <a:lnTo>
                  <a:pt x="1088" y="2586"/>
                </a:lnTo>
                <a:lnTo>
                  <a:pt x="816" y="39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Freeform 73"/>
          <p:cNvSpPr/>
          <p:nvPr/>
        </p:nvSpPr>
        <p:spPr>
          <a:xfrm>
            <a:off x="6537240" y="5661000"/>
            <a:ext cx="728640" cy="1222560"/>
          </a:xfrm>
          <a:custGeom>
            <a:avLst/>
            <a:gdLst/>
            <a:ahLst/>
            <a:rect l="l" t="t" r="r" b="b"/>
            <a:pathLst>
              <a:path w="1543" h="2585">
                <a:moveTo>
                  <a:pt x="1134" y="2585"/>
                </a:moveTo>
                <a:lnTo>
                  <a:pt x="681" y="2585"/>
                </a:lnTo>
                <a:lnTo>
                  <a:pt x="590" y="1950"/>
                </a:lnTo>
                <a:lnTo>
                  <a:pt x="409" y="1905"/>
                </a:lnTo>
                <a:lnTo>
                  <a:pt x="0" y="1587"/>
                </a:lnTo>
                <a:lnTo>
                  <a:pt x="409" y="1769"/>
                </a:lnTo>
                <a:lnTo>
                  <a:pt x="590" y="1769"/>
                </a:lnTo>
                <a:lnTo>
                  <a:pt x="590" y="1587"/>
                </a:lnTo>
                <a:lnTo>
                  <a:pt x="817" y="1179"/>
                </a:lnTo>
                <a:lnTo>
                  <a:pt x="499" y="952"/>
                </a:lnTo>
                <a:lnTo>
                  <a:pt x="272" y="499"/>
                </a:lnTo>
                <a:lnTo>
                  <a:pt x="635" y="862"/>
                </a:lnTo>
                <a:lnTo>
                  <a:pt x="862" y="952"/>
                </a:lnTo>
                <a:lnTo>
                  <a:pt x="998" y="726"/>
                </a:lnTo>
                <a:lnTo>
                  <a:pt x="953" y="0"/>
                </a:lnTo>
                <a:lnTo>
                  <a:pt x="1180" y="771"/>
                </a:lnTo>
                <a:lnTo>
                  <a:pt x="1044" y="1315"/>
                </a:lnTo>
                <a:lnTo>
                  <a:pt x="1543" y="1043"/>
                </a:lnTo>
                <a:lnTo>
                  <a:pt x="908" y="1587"/>
                </a:lnTo>
                <a:lnTo>
                  <a:pt x="862" y="1769"/>
                </a:lnTo>
                <a:lnTo>
                  <a:pt x="1134" y="2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74"/>
          <p:cNvGrpSpPr/>
          <p:nvPr/>
        </p:nvGrpSpPr>
        <p:grpSpPr>
          <a:xfrm>
            <a:off x="1294560" y="288360"/>
            <a:ext cx="3229560" cy="2637000"/>
            <a:chOff x="1294560" y="288360"/>
            <a:chExt cx="3229560" cy="2637000"/>
          </a:xfrm>
        </p:grpSpPr>
        <p:sp>
          <p:nvSpPr>
            <p:cNvPr id="547" name="Oval 75"/>
            <p:cNvSpPr/>
            <p:nvPr/>
          </p:nvSpPr>
          <p:spPr>
            <a:xfrm rot="20700000">
              <a:off x="2425320" y="310320"/>
              <a:ext cx="230760" cy="46188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76"/>
            <p:cNvSpPr/>
            <p:nvPr/>
          </p:nvSpPr>
          <p:spPr>
            <a:xfrm rot="20700000">
              <a:off x="2255400" y="529920"/>
              <a:ext cx="691200" cy="46260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77"/>
            <p:cNvSpPr/>
            <p:nvPr/>
          </p:nvSpPr>
          <p:spPr>
            <a:xfrm rot="20700000">
              <a:off x="3169440" y="606960"/>
              <a:ext cx="1150560" cy="1727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78"/>
            <p:cNvSpPr/>
            <p:nvPr/>
          </p:nvSpPr>
          <p:spPr>
            <a:xfrm rot="20700000">
              <a:off x="1498320" y="1054800"/>
              <a:ext cx="1150560" cy="1727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79"/>
            <p:cNvSpPr/>
            <p:nvPr/>
          </p:nvSpPr>
          <p:spPr>
            <a:xfrm rot="20700000">
              <a:off x="1831320" y="848520"/>
              <a:ext cx="1150920" cy="1961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80"/>
            <p:cNvSpPr/>
            <p:nvPr/>
          </p:nvSpPr>
          <p:spPr>
            <a:xfrm rot="20700000">
              <a:off x="2835360" y="579600"/>
              <a:ext cx="1150920" cy="1961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81"/>
            <p:cNvSpPr/>
            <p:nvPr/>
          </p:nvSpPr>
          <p:spPr>
            <a:xfrm rot="20700000">
              <a:off x="2278080" y="613440"/>
              <a:ext cx="1153440" cy="21898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82"/>
            <p:cNvSpPr/>
            <p:nvPr/>
          </p:nvSpPr>
          <p:spPr>
            <a:xfrm rot="20700000">
              <a:off x="2005200" y="1332720"/>
              <a:ext cx="576720" cy="5742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83"/>
            <p:cNvSpPr/>
            <p:nvPr/>
          </p:nvSpPr>
          <p:spPr>
            <a:xfrm rot="20700000">
              <a:off x="3119400" y="1033920"/>
              <a:ext cx="576720" cy="5742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84"/>
            <p:cNvSpPr/>
            <p:nvPr/>
          </p:nvSpPr>
          <p:spPr>
            <a:xfrm rot="20700000">
              <a:off x="2164320" y="1963800"/>
              <a:ext cx="1727280" cy="347760"/>
            </a:xfrm>
            <a:custGeom>
              <a:avLst/>
              <a:gdLst/>
              <a:ahLst/>
              <a:rect l="l" t="t" r="r" b="b"/>
              <a:pathLst>
                <a:path w="726" h="181">
                  <a:moveTo>
                    <a:pt x="0" y="0"/>
                  </a:moveTo>
                  <a:lnTo>
                    <a:pt x="91" y="181"/>
                  </a:lnTo>
                  <a:lnTo>
                    <a:pt x="318" y="181"/>
                  </a:lnTo>
                  <a:lnTo>
                    <a:pt x="318" y="91"/>
                  </a:lnTo>
                  <a:lnTo>
                    <a:pt x="409" y="91"/>
                  </a:lnTo>
                  <a:lnTo>
                    <a:pt x="409" y="181"/>
                  </a:lnTo>
                  <a:lnTo>
                    <a:pt x="635" y="181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545" y="91"/>
                  </a:lnTo>
                  <a:lnTo>
                    <a:pt x="454" y="91"/>
                  </a:lnTo>
                  <a:lnTo>
                    <a:pt x="454" y="0"/>
                  </a:lnTo>
                  <a:lnTo>
                    <a:pt x="273" y="0"/>
                  </a:lnTo>
                  <a:lnTo>
                    <a:pt x="273" y="91"/>
                  </a:lnTo>
                  <a:lnTo>
                    <a:pt x="182" y="91"/>
                  </a:lnTo>
                  <a:lnTo>
                    <a:pt x="1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Freeform 85"/>
          <p:cNvSpPr/>
          <p:nvPr/>
        </p:nvSpPr>
        <p:spPr>
          <a:xfrm>
            <a:off x="8913960" y="5300640"/>
            <a:ext cx="880920" cy="1584360"/>
          </a:xfrm>
          <a:custGeom>
            <a:avLst/>
            <a:gdLst/>
            <a:ahLst/>
            <a:rect l="l" t="t" r="r" b="b"/>
            <a:pathLst>
              <a:path w="1995" h="3584">
                <a:moveTo>
                  <a:pt x="1270" y="3584"/>
                </a:moveTo>
                <a:lnTo>
                  <a:pt x="1270" y="2677"/>
                </a:lnTo>
                <a:lnTo>
                  <a:pt x="1224" y="2495"/>
                </a:lnTo>
                <a:lnTo>
                  <a:pt x="1632" y="2359"/>
                </a:lnTo>
                <a:lnTo>
                  <a:pt x="1995" y="1951"/>
                </a:lnTo>
                <a:lnTo>
                  <a:pt x="1587" y="2268"/>
                </a:lnTo>
                <a:lnTo>
                  <a:pt x="1224" y="2314"/>
                </a:lnTo>
                <a:lnTo>
                  <a:pt x="1134" y="1951"/>
                </a:lnTo>
                <a:lnTo>
                  <a:pt x="1270" y="1180"/>
                </a:lnTo>
                <a:lnTo>
                  <a:pt x="1496" y="998"/>
                </a:lnTo>
                <a:lnTo>
                  <a:pt x="1632" y="590"/>
                </a:lnTo>
                <a:lnTo>
                  <a:pt x="1451" y="908"/>
                </a:lnTo>
                <a:lnTo>
                  <a:pt x="1224" y="1044"/>
                </a:lnTo>
                <a:lnTo>
                  <a:pt x="997" y="635"/>
                </a:lnTo>
                <a:lnTo>
                  <a:pt x="1088" y="0"/>
                </a:lnTo>
                <a:lnTo>
                  <a:pt x="907" y="681"/>
                </a:lnTo>
                <a:lnTo>
                  <a:pt x="1134" y="1180"/>
                </a:lnTo>
                <a:lnTo>
                  <a:pt x="952" y="1996"/>
                </a:lnTo>
                <a:lnTo>
                  <a:pt x="997" y="2631"/>
                </a:lnTo>
                <a:lnTo>
                  <a:pt x="635" y="2586"/>
                </a:lnTo>
                <a:lnTo>
                  <a:pt x="362" y="2268"/>
                </a:lnTo>
                <a:lnTo>
                  <a:pt x="317" y="1951"/>
                </a:lnTo>
                <a:lnTo>
                  <a:pt x="317" y="2268"/>
                </a:lnTo>
                <a:lnTo>
                  <a:pt x="0" y="2087"/>
                </a:lnTo>
                <a:lnTo>
                  <a:pt x="317" y="2359"/>
                </a:lnTo>
                <a:lnTo>
                  <a:pt x="635" y="2722"/>
                </a:lnTo>
                <a:lnTo>
                  <a:pt x="997" y="2858"/>
                </a:lnTo>
                <a:lnTo>
                  <a:pt x="861" y="3584"/>
                </a:lnTo>
                <a:lnTo>
                  <a:pt x="1270" y="358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86"/>
          <p:cNvSpPr/>
          <p:nvPr/>
        </p:nvSpPr>
        <p:spPr>
          <a:xfrm>
            <a:off x="7689960" y="5661000"/>
            <a:ext cx="523800" cy="1224000"/>
          </a:xfrm>
          <a:custGeom>
            <a:avLst/>
            <a:gdLst/>
            <a:ahLst/>
            <a:rect l="l" t="t" r="r" b="b"/>
            <a:pathLst>
              <a:path w="1225" h="2858">
                <a:moveTo>
                  <a:pt x="182" y="2858"/>
                </a:moveTo>
                <a:lnTo>
                  <a:pt x="908" y="2858"/>
                </a:lnTo>
                <a:lnTo>
                  <a:pt x="772" y="2313"/>
                </a:lnTo>
                <a:lnTo>
                  <a:pt x="772" y="1678"/>
                </a:lnTo>
                <a:lnTo>
                  <a:pt x="1089" y="1406"/>
                </a:lnTo>
                <a:lnTo>
                  <a:pt x="1225" y="771"/>
                </a:lnTo>
                <a:lnTo>
                  <a:pt x="998" y="1225"/>
                </a:lnTo>
                <a:lnTo>
                  <a:pt x="681" y="1406"/>
                </a:lnTo>
                <a:lnTo>
                  <a:pt x="499" y="1043"/>
                </a:lnTo>
                <a:lnTo>
                  <a:pt x="363" y="0"/>
                </a:lnTo>
                <a:lnTo>
                  <a:pt x="318" y="680"/>
                </a:lnTo>
                <a:lnTo>
                  <a:pt x="136" y="544"/>
                </a:lnTo>
                <a:lnTo>
                  <a:pt x="0" y="272"/>
                </a:lnTo>
                <a:lnTo>
                  <a:pt x="91" y="680"/>
                </a:lnTo>
                <a:lnTo>
                  <a:pt x="273" y="862"/>
                </a:lnTo>
                <a:lnTo>
                  <a:pt x="273" y="1043"/>
                </a:lnTo>
                <a:lnTo>
                  <a:pt x="454" y="1588"/>
                </a:lnTo>
                <a:lnTo>
                  <a:pt x="409" y="1905"/>
                </a:lnTo>
                <a:lnTo>
                  <a:pt x="227" y="1769"/>
                </a:lnTo>
                <a:lnTo>
                  <a:pt x="46" y="1542"/>
                </a:lnTo>
                <a:lnTo>
                  <a:pt x="182" y="1905"/>
                </a:lnTo>
                <a:lnTo>
                  <a:pt x="363" y="2087"/>
                </a:lnTo>
                <a:lnTo>
                  <a:pt x="182" y="285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reeform 87"/>
          <p:cNvSpPr/>
          <p:nvPr/>
        </p:nvSpPr>
        <p:spPr>
          <a:xfrm>
            <a:off x="8048520" y="4797360"/>
            <a:ext cx="1222560" cy="2087640"/>
          </a:xfrm>
          <a:custGeom>
            <a:avLst/>
            <a:gdLst/>
            <a:ahLst/>
            <a:rect l="l" t="t" r="r" b="b"/>
            <a:pathLst>
              <a:path w="2177" h="3719">
                <a:moveTo>
                  <a:pt x="953" y="3719"/>
                </a:moveTo>
                <a:lnTo>
                  <a:pt x="1497" y="3719"/>
                </a:lnTo>
                <a:lnTo>
                  <a:pt x="1089" y="2903"/>
                </a:lnTo>
                <a:lnTo>
                  <a:pt x="953" y="2268"/>
                </a:lnTo>
                <a:lnTo>
                  <a:pt x="1769" y="1995"/>
                </a:lnTo>
                <a:lnTo>
                  <a:pt x="2177" y="1496"/>
                </a:lnTo>
                <a:lnTo>
                  <a:pt x="1814" y="1814"/>
                </a:lnTo>
                <a:lnTo>
                  <a:pt x="1769" y="1496"/>
                </a:lnTo>
                <a:lnTo>
                  <a:pt x="1724" y="1905"/>
                </a:lnTo>
                <a:lnTo>
                  <a:pt x="1542" y="1995"/>
                </a:lnTo>
                <a:lnTo>
                  <a:pt x="953" y="2131"/>
                </a:lnTo>
                <a:lnTo>
                  <a:pt x="907" y="1905"/>
                </a:lnTo>
                <a:lnTo>
                  <a:pt x="907" y="1088"/>
                </a:lnTo>
                <a:lnTo>
                  <a:pt x="1134" y="816"/>
                </a:lnTo>
                <a:lnTo>
                  <a:pt x="1270" y="317"/>
                </a:lnTo>
                <a:lnTo>
                  <a:pt x="1043" y="816"/>
                </a:lnTo>
                <a:lnTo>
                  <a:pt x="907" y="952"/>
                </a:lnTo>
                <a:lnTo>
                  <a:pt x="907" y="499"/>
                </a:lnTo>
                <a:lnTo>
                  <a:pt x="1043" y="0"/>
                </a:lnTo>
                <a:lnTo>
                  <a:pt x="817" y="453"/>
                </a:lnTo>
                <a:lnTo>
                  <a:pt x="726" y="1814"/>
                </a:lnTo>
                <a:lnTo>
                  <a:pt x="771" y="2630"/>
                </a:lnTo>
                <a:lnTo>
                  <a:pt x="499" y="2540"/>
                </a:lnTo>
                <a:lnTo>
                  <a:pt x="0" y="1995"/>
                </a:lnTo>
                <a:lnTo>
                  <a:pt x="363" y="2630"/>
                </a:lnTo>
                <a:lnTo>
                  <a:pt x="817" y="2993"/>
                </a:lnTo>
                <a:lnTo>
                  <a:pt x="953" y="37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Group 100"/>
          <p:cNvGrpSpPr/>
          <p:nvPr/>
        </p:nvGrpSpPr>
        <p:grpSpPr>
          <a:xfrm>
            <a:off x="6681960" y="4653000"/>
            <a:ext cx="929880" cy="936720"/>
            <a:chOff x="6681960" y="4653000"/>
            <a:chExt cx="929880" cy="936720"/>
          </a:xfrm>
        </p:grpSpPr>
        <p:sp>
          <p:nvSpPr>
            <p:cNvPr id="561" name="Freeform 101"/>
            <p:cNvSpPr/>
            <p:nvPr/>
          </p:nvSpPr>
          <p:spPr>
            <a:xfrm>
              <a:off x="6784920" y="4987800"/>
              <a:ext cx="826920" cy="60192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Oval 102"/>
            <p:cNvSpPr/>
            <p:nvPr/>
          </p:nvSpPr>
          <p:spPr>
            <a:xfrm>
              <a:off x="6840720" y="5128920"/>
              <a:ext cx="128520" cy="128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Oval 103"/>
            <p:cNvSpPr/>
            <p:nvPr/>
          </p:nvSpPr>
          <p:spPr>
            <a:xfrm>
              <a:off x="7020360" y="5128920"/>
              <a:ext cx="128520" cy="128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04"/>
            <p:cNvSpPr/>
            <p:nvPr/>
          </p:nvSpPr>
          <p:spPr>
            <a:xfrm>
              <a:off x="6681960" y="4987800"/>
              <a:ext cx="617400" cy="180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105"/>
            <p:cNvSpPr/>
            <p:nvPr/>
          </p:nvSpPr>
          <p:spPr>
            <a:xfrm>
              <a:off x="6810480" y="4653000"/>
              <a:ext cx="359280" cy="47988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Group 123"/>
          <p:cNvGrpSpPr/>
          <p:nvPr/>
        </p:nvGrpSpPr>
        <p:grpSpPr>
          <a:xfrm>
            <a:off x="1533600" y="4152960"/>
            <a:ext cx="1099080" cy="915840"/>
            <a:chOff x="1533600" y="4152960"/>
            <a:chExt cx="1099080" cy="915840"/>
          </a:xfrm>
        </p:grpSpPr>
        <p:sp>
          <p:nvSpPr>
            <p:cNvPr id="567" name="Oval 124"/>
            <p:cNvSpPr/>
            <p:nvPr/>
          </p:nvSpPr>
          <p:spPr>
            <a:xfrm rot="20988600">
              <a:off x="1947600" y="4158720"/>
              <a:ext cx="80640" cy="16164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Oval 125"/>
            <p:cNvSpPr/>
            <p:nvPr/>
          </p:nvSpPr>
          <p:spPr>
            <a:xfrm rot="20988600">
              <a:off x="1881720" y="4236840"/>
              <a:ext cx="241920" cy="16164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Oval 126"/>
            <p:cNvSpPr/>
            <p:nvPr/>
          </p:nvSpPr>
          <p:spPr>
            <a:xfrm rot="20988600">
              <a:off x="2179440" y="4296600"/>
              <a:ext cx="402480" cy="604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Oval 127"/>
            <p:cNvSpPr/>
            <p:nvPr/>
          </p:nvSpPr>
          <p:spPr>
            <a:xfrm rot="20988600">
              <a:off x="1583640" y="4403880"/>
              <a:ext cx="402480" cy="604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Oval 128"/>
            <p:cNvSpPr/>
            <p:nvPr/>
          </p:nvSpPr>
          <p:spPr>
            <a:xfrm rot="20988600">
              <a:off x="1702800" y="4341600"/>
              <a:ext cx="402840" cy="68652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Oval 129"/>
            <p:cNvSpPr/>
            <p:nvPr/>
          </p:nvSpPr>
          <p:spPr>
            <a:xfrm rot="20988600">
              <a:off x="2060640" y="4277160"/>
              <a:ext cx="402840" cy="68652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30"/>
            <p:cNvSpPr/>
            <p:nvPr/>
          </p:nvSpPr>
          <p:spPr>
            <a:xfrm rot="20988600">
              <a:off x="1861920" y="4272480"/>
              <a:ext cx="403560" cy="766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Oval 131"/>
            <p:cNvSpPr/>
            <p:nvPr/>
          </p:nvSpPr>
          <p:spPr>
            <a:xfrm rot="20988600">
              <a:off x="1769400" y="4508280"/>
              <a:ext cx="201600" cy="2008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Oval 132"/>
            <p:cNvSpPr/>
            <p:nvPr/>
          </p:nvSpPr>
          <p:spPr>
            <a:xfrm rot="20988600">
              <a:off x="2166480" y="4437000"/>
              <a:ext cx="201600" cy="20088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133"/>
            <p:cNvSpPr/>
            <p:nvPr/>
          </p:nvSpPr>
          <p:spPr>
            <a:xfrm rot="20988600">
              <a:off x="1809000" y="4749840"/>
              <a:ext cx="604440" cy="121680"/>
            </a:xfrm>
            <a:custGeom>
              <a:avLst/>
              <a:gdLst/>
              <a:ahLst/>
              <a:rect l="l" t="t" r="r" b="b"/>
              <a:pathLst>
                <a:path w="726" h="181">
                  <a:moveTo>
                    <a:pt x="0" y="0"/>
                  </a:moveTo>
                  <a:lnTo>
                    <a:pt x="91" y="181"/>
                  </a:lnTo>
                  <a:lnTo>
                    <a:pt x="318" y="181"/>
                  </a:lnTo>
                  <a:lnTo>
                    <a:pt x="318" y="91"/>
                  </a:lnTo>
                  <a:lnTo>
                    <a:pt x="409" y="91"/>
                  </a:lnTo>
                  <a:lnTo>
                    <a:pt x="409" y="181"/>
                  </a:lnTo>
                  <a:lnTo>
                    <a:pt x="635" y="181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545" y="91"/>
                  </a:lnTo>
                  <a:lnTo>
                    <a:pt x="454" y="91"/>
                  </a:lnTo>
                  <a:lnTo>
                    <a:pt x="454" y="0"/>
                  </a:lnTo>
                  <a:lnTo>
                    <a:pt x="273" y="0"/>
                  </a:lnTo>
                  <a:lnTo>
                    <a:pt x="273" y="91"/>
                  </a:lnTo>
                  <a:lnTo>
                    <a:pt x="182" y="91"/>
                  </a:lnTo>
                  <a:lnTo>
                    <a:pt x="1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7" name="Group 134"/>
          <p:cNvGrpSpPr/>
          <p:nvPr/>
        </p:nvGrpSpPr>
        <p:grpSpPr>
          <a:xfrm>
            <a:off x="8214120" y="3800880"/>
            <a:ext cx="1292040" cy="1055160"/>
            <a:chOff x="8214120" y="3800880"/>
            <a:chExt cx="1292040" cy="1055160"/>
          </a:xfrm>
        </p:grpSpPr>
        <p:sp>
          <p:nvSpPr>
            <p:cNvPr id="578" name="Oval 135"/>
            <p:cNvSpPr/>
            <p:nvPr/>
          </p:nvSpPr>
          <p:spPr>
            <a:xfrm rot="20700000">
              <a:off x="8666640" y="3809520"/>
              <a:ext cx="92160" cy="18504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36"/>
            <p:cNvSpPr/>
            <p:nvPr/>
          </p:nvSpPr>
          <p:spPr>
            <a:xfrm rot="20700000">
              <a:off x="8598240" y="3897360"/>
              <a:ext cx="276480" cy="18504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Oval 137"/>
            <p:cNvSpPr/>
            <p:nvPr/>
          </p:nvSpPr>
          <p:spPr>
            <a:xfrm rot="20700000">
              <a:off x="8964000" y="3927960"/>
              <a:ext cx="460440" cy="6912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Oval 138"/>
            <p:cNvSpPr/>
            <p:nvPr/>
          </p:nvSpPr>
          <p:spPr>
            <a:xfrm rot="20700000">
              <a:off x="8295480" y="4107240"/>
              <a:ext cx="460440" cy="6912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Oval 139"/>
            <p:cNvSpPr/>
            <p:nvPr/>
          </p:nvSpPr>
          <p:spPr>
            <a:xfrm rot="20700000">
              <a:off x="8428680" y="4024800"/>
              <a:ext cx="460440" cy="7848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Oval 140"/>
            <p:cNvSpPr/>
            <p:nvPr/>
          </p:nvSpPr>
          <p:spPr>
            <a:xfrm rot="20700000">
              <a:off x="8830800" y="3917160"/>
              <a:ext cx="460440" cy="7848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Oval 141"/>
            <p:cNvSpPr/>
            <p:nvPr/>
          </p:nvSpPr>
          <p:spPr>
            <a:xfrm rot="20700000">
              <a:off x="8607600" y="3930840"/>
              <a:ext cx="461520" cy="8762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142"/>
            <p:cNvSpPr/>
            <p:nvPr/>
          </p:nvSpPr>
          <p:spPr>
            <a:xfrm rot="20700000">
              <a:off x="8561880" y="4470480"/>
              <a:ext cx="691200" cy="139320"/>
            </a:xfrm>
            <a:custGeom>
              <a:avLst/>
              <a:gdLst/>
              <a:ahLst/>
              <a:rect l="l" t="t" r="r" b="b"/>
              <a:pathLst>
                <a:path w="726" h="181">
                  <a:moveTo>
                    <a:pt x="0" y="0"/>
                  </a:moveTo>
                  <a:lnTo>
                    <a:pt x="91" y="181"/>
                  </a:lnTo>
                  <a:lnTo>
                    <a:pt x="318" y="181"/>
                  </a:lnTo>
                  <a:lnTo>
                    <a:pt x="318" y="91"/>
                  </a:lnTo>
                  <a:lnTo>
                    <a:pt x="409" y="91"/>
                  </a:lnTo>
                  <a:lnTo>
                    <a:pt x="409" y="181"/>
                  </a:lnTo>
                  <a:lnTo>
                    <a:pt x="635" y="181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545" y="91"/>
                  </a:lnTo>
                  <a:lnTo>
                    <a:pt x="454" y="91"/>
                  </a:lnTo>
                  <a:lnTo>
                    <a:pt x="454" y="0"/>
                  </a:lnTo>
                  <a:lnTo>
                    <a:pt x="273" y="0"/>
                  </a:lnTo>
                  <a:lnTo>
                    <a:pt x="273" y="91"/>
                  </a:lnTo>
                  <a:lnTo>
                    <a:pt x="182" y="91"/>
                  </a:lnTo>
                  <a:lnTo>
                    <a:pt x="1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AutoShape 143"/>
            <p:cNvSpPr/>
            <p:nvPr/>
          </p:nvSpPr>
          <p:spPr>
            <a:xfrm rot="9900000">
              <a:off x="8451720" y="4218480"/>
              <a:ext cx="322920" cy="229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AutoShape 144"/>
            <p:cNvSpPr/>
            <p:nvPr/>
          </p:nvSpPr>
          <p:spPr>
            <a:xfrm rot="9900000">
              <a:off x="8897040" y="4099320"/>
              <a:ext cx="322920" cy="229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" name="Group 156"/>
          <p:cNvGrpSpPr/>
          <p:nvPr/>
        </p:nvGrpSpPr>
        <p:grpSpPr>
          <a:xfrm>
            <a:off x="2576520" y="5229360"/>
            <a:ext cx="929880" cy="936000"/>
            <a:chOff x="2576520" y="5229360"/>
            <a:chExt cx="929880" cy="936000"/>
          </a:xfrm>
        </p:grpSpPr>
        <p:sp>
          <p:nvSpPr>
            <p:cNvPr id="589" name="Freeform 157"/>
            <p:cNvSpPr/>
            <p:nvPr/>
          </p:nvSpPr>
          <p:spPr>
            <a:xfrm>
              <a:off x="2679480" y="5563800"/>
              <a:ext cx="826920" cy="60156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Oval 158"/>
            <p:cNvSpPr/>
            <p:nvPr/>
          </p:nvSpPr>
          <p:spPr>
            <a:xfrm>
              <a:off x="2735280" y="5705280"/>
              <a:ext cx="128520" cy="128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Oval 159"/>
            <p:cNvSpPr/>
            <p:nvPr/>
          </p:nvSpPr>
          <p:spPr>
            <a:xfrm>
              <a:off x="2914920" y="5705280"/>
              <a:ext cx="128520" cy="128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Oval 160"/>
            <p:cNvSpPr/>
            <p:nvPr/>
          </p:nvSpPr>
          <p:spPr>
            <a:xfrm>
              <a:off x="2576520" y="5563800"/>
              <a:ext cx="617400" cy="180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61"/>
            <p:cNvSpPr/>
            <p:nvPr/>
          </p:nvSpPr>
          <p:spPr>
            <a:xfrm>
              <a:off x="2705040" y="5229360"/>
              <a:ext cx="359280" cy="47988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162"/>
          <p:cNvGrpSpPr/>
          <p:nvPr/>
        </p:nvGrpSpPr>
        <p:grpSpPr>
          <a:xfrm>
            <a:off x="4305240" y="5734080"/>
            <a:ext cx="573120" cy="576360"/>
            <a:chOff x="4305240" y="5734080"/>
            <a:chExt cx="573120" cy="576360"/>
          </a:xfrm>
        </p:grpSpPr>
        <p:sp>
          <p:nvSpPr>
            <p:cNvPr id="595" name="Freeform 163"/>
            <p:cNvSpPr/>
            <p:nvPr/>
          </p:nvSpPr>
          <p:spPr>
            <a:xfrm>
              <a:off x="4368600" y="5940000"/>
              <a:ext cx="509760" cy="37044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Oval 164"/>
            <p:cNvSpPr/>
            <p:nvPr/>
          </p:nvSpPr>
          <p:spPr>
            <a:xfrm>
              <a:off x="4402800" y="6027120"/>
              <a:ext cx="79200" cy="792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Oval 165"/>
            <p:cNvSpPr/>
            <p:nvPr/>
          </p:nvSpPr>
          <p:spPr>
            <a:xfrm>
              <a:off x="4513680" y="6027120"/>
              <a:ext cx="79200" cy="792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Oval 166"/>
            <p:cNvSpPr/>
            <p:nvPr/>
          </p:nvSpPr>
          <p:spPr>
            <a:xfrm>
              <a:off x="4305240" y="5940000"/>
              <a:ext cx="380520" cy="11088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167"/>
            <p:cNvSpPr/>
            <p:nvPr/>
          </p:nvSpPr>
          <p:spPr>
            <a:xfrm>
              <a:off x="4384440" y="5734080"/>
              <a:ext cx="221400" cy="29520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Group 168"/>
          <p:cNvGrpSpPr/>
          <p:nvPr/>
        </p:nvGrpSpPr>
        <p:grpSpPr>
          <a:xfrm>
            <a:off x="8121960" y="5805360"/>
            <a:ext cx="1007640" cy="863280"/>
            <a:chOff x="8121960" y="5805360"/>
            <a:chExt cx="1007640" cy="863280"/>
          </a:xfrm>
        </p:grpSpPr>
        <p:sp>
          <p:nvSpPr>
            <p:cNvPr id="601" name="Freeform 169"/>
            <p:cNvSpPr/>
            <p:nvPr/>
          </p:nvSpPr>
          <p:spPr>
            <a:xfrm flipH="1">
              <a:off x="8121600" y="6113880"/>
              <a:ext cx="896040" cy="55476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Oval 170"/>
            <p:cNvSpPr/>
            <p:nvPr/>
          </p:nvSpPr>
          <p:spPr>
            <a:xfrm flipH="1">
              <a:off x="8818200" y="6244200"/>
              <a:ext cx="139320" cy="118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Oval 171"/>
            <p:cNvSpPr/>
            <p:nvPr/>
          </p:nvSpPr>
          <p:spPr>
            <a:xfrm flipH="1">
              <a:off x="8623080" y="6244200"/>
              <a:ext cx="139320" cy="118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72"/>
            <p:cNvSpPr/>
            <p:nvPr/>
          </p:nvSpPr>
          <p:spPr>
            <a:xfrm flipH="1">
              <a:off x="8460720" y="6113880"/>
              <a:ext cx="668880" cy="1663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73"/>
            <p:cNvSpPr/>
            <p:nvPr/>
          </p:nvSpPr>
          <p:spPr>
            <a:xfrm flipH="1">
              <a:off x="8600760" y="5805360"/>
              <a:ext cx="389520" cy="44244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6" name="WordArt 174"/>
          <p:cNvSpPr txBox="1"/>
          <p:nvPr/>
        </p:nvSpPr>
        <p:spPr>
          <a:xfrm rot="20950800">
            <a:off x="2360160" y="1125360"/>
            <a:ext cx="6762960" cy="33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メイリオ"/>
              </a:rPr>
              <a:t>Trick or Tre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メイリオ"/>
              <a:ea typeface="メイリオ"/>
            </a:endParaRPr>
          </a:p>
        </p:txBody>
      </p:sp>
      <p:grpSp>
        <p:nvGrpSpPr>
          <p:cNvPr id="607" name="Group 175"/>
          <p:cNvGrpSpPr/>
          <p:nvPr/>
        </p:nvGrpSpPr>
        <p:grpSpPr>
          <a:xfrm>
            <a:off x="4929120" y="328680"/>
            <a:ext cx="1666080" cy="1380960"/>
            <a:chOff x="4929120" y="328680"/>
            <a:chExt cx="1666080" cy="1380960"/>
          </a:xfrm>
        </p:grpSpPr>
        <p:sp>
          <p:nvSpPr>
            <p:cNvPr id="608" name="Oval 176"/>
            <p:cNvSpPr/>
            <p:nvPr/>
          </p:nvSpPr>
          <p:spPr>
            <a:xfrm rot="707400">
              <a:off x="5801400" y="338400"/>
              <a:ext cx="121320" cy="24300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77"/>
            <p:cNvSpPr/>
            <p:nvPr/>
          </p:nvSpPr>
          <p:spPr>
            <a:xfrm rot="707400">
              <a:off x="5657040" y="455760"/>
              <a:ext cx="362880" cy="24300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8"/>
            <p:cNvSpPr/>
            <p:nvPr/>
          </p:nvSpPr>
          <p:spPr>
            <a:xfrm rot="707400">
              <a:off x="5904360" y="726840"/>
              <a:ext cx="604080" cy="9075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79"/>
            <p:cNvSpPr/>
            <p:nvPr/>
          </p:nvSpPr>
          <p:spPr>
            <a:xfrm rot="707400">
              <a:off x="5015160" y="541080"/>
              <a:ext cx="604080" cy="9075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80"/>
            <p:cNvSpPr/>
            <p:nvPr/>
          </p:nvSpPr>
          <p:spPr>
            <a:xfrm rot="707400">
              <a:off x="5193000" y="516960"/>
              <a:ext cx="604440" cy="10299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81"/>
            <p:cNvSpPr/>
            <p:nvPr/>
          </p:nvSpPr>
          <p:spPr>
            <a:xfrm rot="707400">
              <a:off x="5727240" y="628560"/>
              <a:ext cx="604440" cy="10299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182"/>
            <p:cNvSpPr/>
            <p:nvPr/>
          </p:nvSpPr>
          <p:spPr>
            <a:xfrm rot="707400">
              <a:off x="5430240" y="506880"/>
              <a:ext cx="605520" cy="11502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83"/>
            <p:cNvSpPr/>
            <p:nvPr/>
          </p:nvSpPr>
          <p:spPr>
            <a:xfrm rot="707400">
              <a:off x="5265360" y="1113840"/>
              <a:ext cx="906840" cy="362880"/>
            </a:xfrm>
            <a:custGeom>
              <a:avLst/>
              <a:gdLst/>
              <a:ahLst/>
              <a:rect l="l" t="t" r="r" b="b"/>
              <a:pathLst>
                <a:path w="726" h="181">
                  <a:moveTo>
                    <a:pt x="0" y="0"/>
                  </a:moveTo>
                  <a:lnTo>
                    <a:pt x="91" y="181"/>
                  </a:lnTo>
                  <a:lnTo>
                    <a:pt x="318" y="181"/>
                  </a:lnTo>
                  <a:lnTo>
                    <a:pt x="318" y="91"/>
                  </a:lnTo>
                  <a:lnTo>
                    <a:pt x="409" y="91"/>
                  </a:lnTo>
                  <a:lnTo>
                    <a:pt x="409" y="181"/>
                  </a:lnTo>
                  <a:lnTo>
                    <a:pt x="635" y="181"/>
                  </a:lnTo>
                  <a:lnTo>
                    <a:pt x="726" y="0"/>
                  </a:lnTo>
                  <a:lnTo>
                    <a:pt x="545" y="0"/>
                  </a:lnTo>
                  <a:lnTo>
                    <a:pt x="545" y="91"/>
                  </a:lnTo>
                  <a:lnTo>
                    <a:pt x="454" y="91"/>
                  </a:lnTo>
                  <a:lnTo>
                    <a:pt x="454" y="0"/>
                  </a:lnTo>
                  <a:lnTo>
                    <a:pt x="273" y="0"/>
                  </a:lnTo>
                  <a:lnTo>
                    <a:pt x="273" y="91"/>
                  </a:lnTo>
                  <a:lnTo>
                    <a:pt x="182" y="91"/>
                  </a:lnTo>
                  <a:lnTo>
                    <a:pt x="18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AutoShape 184"/>
            <p:cNvSpPr/>
            <p:nvPr/>
          </p:nvSpPr>
          <p:spPr>
            <a:xfrm rot="707400">
              <a:off x="5303880" y="639000"/>
              <a:ext cx="424080" cy="301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AutoShape 185"/>
            <p:cNvSpPr/>
            <p:nvPr/>
          </p:nvSpPr>
          <p:spPr>
            <a:xfrm rot="707400">
              <a:off x="5895720" y="762480"/>
              <a:ext cx="424080" cy="301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Group 186"/>
          <p:cNvGrpSpPr/>
          <p:nvPr/>
        </p:nvGrpSpPr>
        <p:grpSpPr>
          <a:xfrm>
            <a:off x="142560" y="2687760"/>
            <a:ext cx="1344240" cy="1174680"/>
            <a:chOff x="142560" y="2687760"/>
            <a:chExt cx="1344240" cy="1174680"/>
          </a:xfrm>
        </p:grpSpPr>
        <p:sp>
          <p:nvSpPr>
            <p:cNvPr id="619" name="Oval 187"/>
            <p:cNvSpPr/>
            <p:nvPr/>
          </p:nvSpPr>
          <p:spPr>
            <a:xfrm rot="1800000">
              <a:off x="990360" y="2752200"/>
              <a:ext cx="92160" cy="18468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188"/>
            <p:cNvSpPr/>
            <p:nvPr/>
          </p:nvSpPr>
          <p:spPr>
            <a:xfrm rot="1800000">
              <a:off x="852840" y="2831400"/>
              <a:ext cx="276480" cy="18468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Oval 189"/>
            <p:cNvSpPr/>
            <p:nvPr/>
          </p:nvSpPr>
          <p:spPr>
            <a:xfrm rot="1800000">
              <a:off x="884160" y="3102840"/>
              <a:ext cx="460440" cy="6908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Oval 190"/>
            <p:cNvSpPr/>
            <p:nvPr/>
          </p:nvSpPr>
          <p:spPr>
            <a:xfrm rot="1800000">
              <a:off x="284400" y="2756520"/>
              <a:ext cx="460440" cy="6908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Oval 191"/>
            <p:cNvSpPr/>
            <p:nvPr/>
          </p:nvSpPr>
          <p:spPr>
            <a:xfrm rot="1800000">
              <a:off x="403920" y="2778480"/>
              <a:ext cx="460440" cy="784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Oval 192"/>
            <p:cNvSpPr/>
            <p:nvPr/>
          </p:nvSpPr>
          <p:spPr>
            <a:xfrm rot="1800000">
              <a:off x="764280" y="2986560"/>
              <a:ext cx="460440" cy="7844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Oval 193"/>
            <p:cNvSpPr/>
            <p:nvPr/>
          </p:nvSpPr>
          <p:spPr>
            <a:xfrm rot="1800000">
              <a:off x="564120" y="2825280"/>
              <a:ext cx="461520" cy="87624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Oval 194"/>
            <p:cNvSpPr/>
            <p:nvPr/>
          </p:nvSpPr>
          <p:spPr>
            <a:xfrm rot="1800000">
              <a:off x="569160" y="2971080"/>
              <a:ext cx="230760" cy="138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Oval 195"/>
            <p:cNvSpPr/>
            <p:nvPr/>
          </p:nvSpPr>
          <p:spPr>
            <a:xfrm rot="1800000">
              <a:off x="968760" y="3201840"/>
              <a:ext cx="230760" cy="1382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AutoShape 196"/>
            <p:cNvSpPr/>
            <p:nvPr/>
          </p:nvSpPr>
          <p:spPr>
            <a:xfrm rot="1800000">
              <a:off x="572040" y="3229920"/>
              <a:ext cx="369000" cy="1980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Group 208"/>
          <p:cNvGrpSpPr/>
          <p:nvPr/>
        </p:nvGrpSpPr>
        <p:grpSpPr>
          <a:xfrm>
            <a:off x="4235400" y="5014800"/>
            <a:ext cx="917280" cy="651960"/>
            <a:chOff x="4235400" y="5014800"/>
            <a:chExt cx="917280" cy="651960"/>
          </a:xfrm>
        </p:grpSpPr>
        <p:sp>
          <p:nvSpPr>
            <p:cNvPr id="630" name="Freeform 209"/>
            <p:cNvSpPr/>
            <p:nvPr/>
          </p:nvSpPr>
          <p:spPr>
            <a:xfrm rot="19800000">
              <a:off x="4665960" y="5471640"/>
              <a:ext cx="99720" cy="8748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210"/>
            <p:cNvSpPr/>
            <p:nvPr/>
          </p:nvSpPr>
          <p:spPr>
            <a:xfrm flipH="1" rot="19800000">
              <a:off x="4784040" y="5403240"/>
              <a:ext cx="99720" cy="8748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211"/>
            <p:cNvSpPr/>
            <p:nvPr/>
          </p:nvSpPr>
          <p:spPr>
            <a:xfrm flipH="1" rot="19800000">
              <a:off x="4679280" y="5112720"/>
              <a:ext cx="449640" cy="21240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212"/>
            <p:cNvSpPr/>
            <p:nvPr/>
          </p:nvSpPr>
          <p:spPr>
            <a:xfrm rot="19800000">
              <a:off x="4258080" y="5356080"/>
              <a:ext cx="449640" cy="21240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Oval 213"/>
            <p:cNvSpPr/>
            <p:nvPr/>
          </p:nvSpPr>
          <p:spPr>
            <a:xfrm rot="19800000">
              <a:off x="4662720" y="5277600"/>
              <a:ext cx="112320" cy="2124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AutoShape 214"/>
            <p:cNvSpPr/>
            <p:nvPr/>
          </p:nvSpPr>
          <p:spPr>
            <a:xfrm rot="19800000">
              <a:off x="4581720" y="5191200"/>
              <a:ext cx="37080" cy="74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AutoShape 215"/>
            <p:cNvSpPr/>
            <p:nvPr/>
          </p:nvSpPr>
          <p:spPr>
            <a:xfrm rot="19800000">
              <a:off x="4625280" y="5166360"/>
              <a:ext cx="37440" cy="748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Oval 216"/>
            <p:cNvSpPr/>
            <p:nvPr/>
          </p:nvSpPr>
          <p:spPr>
            <a:xfrm rot="19800000">
              <a:off x="4590720" y="5230800"/>
              <a:ext cx="137160" cy="99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217"/>
            <p:cNvSpPr/>
            <p:nvPr/>
          </p:nvSpPr>
          <p:spPr>
            <a:xfrm rot="9000000">
              <a:off x="4607640" y="5284440"/>
              <a:ext cx="49680" cy="24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AutoShape 218"/>
            <p:cNvSpPr/>
            <p:nvPr/>
          </p:nvSpPr>
          <p:spPr>
            <a:xfrm rot="9000000">
              <a:off x="4661640" y="5253120"/>
              <a:ext cx="49680" cy="24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520" bIns="-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Group 219"/>
          <p:cNvGrpSpPr/>
          <p:nvPr/>
        </p:nvGrpSpPr>
        <p:grpSpPr>
          <a:xfrm>
            <a:off x="7081920" y="5824440"/>
            <a:ext cx="623520" cy="437040"/>
            <a:chOff x="7081920" y="5824440"/>
            <a:chExt cx="623520" cy="437040"/>
          </a:xfrm>
        </p:grpSpPr>
        <p:sp>
          <p:nvSpPr>
            <p:cNvPr id="641" name="Freeform 220"/>
            <p:cNvSpPr/>
            <p:nvPr/>
          </p:nvSpPr>
          <p:spPr>
            <a:xfrm rot="1765800">
              <a:off x="7265160" y="6086160"/>
              <a:ext cx="67680" cy="590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21"/>
            <p:cNvSpPr/>
            <p:nvPr/>
          </p:nvSpPr>
          <p:spPr>
            <a:xfrm flipH="1" rot="1765800">
              <a:off x="7345800" y="6131880"/>
              <a:ext cx="67680" cy="590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22"/>
            <p:cNvSpPr/>
            <p:nvPr/>
          </p:nvSpPr>
          <p:spPr>
            <a:xfrm flipH="1" rot="1765800">
              <a:off x="7384680" y="6051960"/>
              <a:ext cx="304920" cy="14364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23"/>
            <p:cNvSpPr/>
            <p:nvPr/>
          </p:nvSpPr>
          <p:spPr>
            <a:xfrm rot="1765800">
              <a:off x="7097400" y="5889960"/>
              <a:ext cx="304920" cy="14364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Oval 224"/>
            <p:cNvSpPr/>
            <p:nvPr/>
          </p:nvSpPr>
          <p:spPr>
            <a:xfrm rot="1765800">
              <a:off x="7338960" y="6000840"/>
              <a:ext cx="75960" cy="143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AutoShape 225"/>
            <p:cNvSpPr/>
            <p:nvPr/>
          </p:nvSpPr>
          <p:spPr>
            <a:xfrm rot="1765800">
              <a:off x="7413840" y="5924880"/>
              <a:ext cx="25200" cy="504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AutoShape 226"/>
            <p:cNvSpPr/>
            <p:nvPr/>
          </p:nvSpPr>
          <p:spPr>
            <a:xfrm rot="1765800">
              <a:off x="7443720" y="5941800"/>
              <a:ext cx="25200" cy="504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Oval 227"/>
            <p:cNvSpPr/>
            <p:nvPr/>
          </p:nvSpPr>
          <p:spPr>
            <a:xfrm rot="1765800">
              <a:off x="7370280" y="5968800"/>
              <a:ext cx="92880" cy="67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" bIns="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AutoShape 228"/>
            <p:cNvSpPr/>
            <p:nvPr/>
          </p:nvSpPr>
          <p:spPr>
            <a:xfrm rot="12565800">
              <a:off x="7381080" y="5983560"/>
              <a:ext cx="33480" cy="1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AutoShape 229"/>
            <p:cNvSpPr/>
            <p:nvPr/>
          </p:nvSpPr>
          <p:spPr>
            <a:xfrm rot="12565800">
              <a:off x="7417800" y="6004440"/>
              <a:ext cx="33480" cy="1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1" name="Group 230"/>
          <p:cNvGrpSpPr/>
          <p:nvPr/>
        </p:nvGrpSpPr>
        <p:grpSpPr>
          <a:xfrm>
            <a:off x="7339320" y="4054680"/>
            <a:ext cx="623520" cy="437040"/>
            <a:chOff x="7339320" y="4054680"/>
            <a:chExt cx="623520" cy="437040"/>
          </a:xfrm>
        </p:grpSpPr>
        <p:sp>
          <p:nvSpPr>
            <p:cNvPr id="652" name="Freeform 231"/>
            <p:cNvSpPr/>
            <p:nvPr/>
          </p:nvSpPr>
          <p:spPr>
            <a:xfrm rot="1765800">
              <a:off x="7522560" y="4316400"/>
              <a:ext cx="67680" cy="590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232"/>
            <p:cNvSpPr/>
            <p:nvPr/>
          </p:nvSpPr>
          <p:spPr>
            <a:xfrm flipH="1" rot="1765800">
              <a:off x="7603200" y="4362120"/>
              <a:ext cx="67680" cy="590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233"/>
            <p:cNvSpPr/>
            <p:nvPr/>
          </p:nvSpPr>
          <p:spPr>
            <a:xfrm flipH="1" rot="1765800">
              <a:off x="7642080" y="4282200"/>
              <a:ext cx="304920" cy="14364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234"/>
            <p:cNvSpPr/>
            <p:nvPr/>
          </p:nvSpPr>
          <p:spPr>
            <a:xfrm rot="1765800">
              <a:off x="7354800" y="4120200"/>
              <a:ext cx="304920" cy="14364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Oval 235"/>
            <p:cNvSpPr/>
            <p:nvPr/>
          </p:nvSpPr>
          <p:spPr>
            <a:xfrm rot="1765800">
              <a:off x="7596720" y="4230720"/>
              <a:ext cx="75960" cy="143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AutoShape 236"/>
            <p:cNvSpPr/>
            <p:nvPr/>
          </p:nvSpPr>
          <p:spPr>
            <a:xfrm rot="1765800">
              <a:off x="7671240" y="4154760"/>
              <a:ext cx="25200" cy="50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AutoShape 237"/>
            <p:cNvSpPr/>
            <p:nvPr/>
          </p:nvSpPr>
          <p:spPr>
            <a:xfrm rot="1765800">
              <a:off x="7700760" y="4171680"/>
              <a:ext cx="25200" cy="50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Oval 238"/>
            <p:cNvSpPr/>
            <p:nvPr/>
          </p:nvSpPr>
          <p:spPr>
            <a:xfrm rot="1765800">
              <a:off x="7627680" y="4198680"/>
              <a:ext cx="92880" cy="67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" bIns="1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AutoShape 239"/>
            <p:cNvSpPr/>
            <p:nvPr/>
          </p:nvSpPr>
          <p:spPr>
            <a:xfrm rot="12565800">
              <a:off x="7638480" y="4213800"/>
              <a:ext cx="33480" cy="1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AutoShape 240"/>
            <p:cNvSpPr/>
            <p:nvPr/>
          </p:nvSpPr>
          <p:spPr>
            <a:xfrm rot="12565800">
              <a:off x="7675200" y="4234680"/>
              <a:ext cx="33480" cy="165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グループ化 150"/>
          <p:cNvGrpSpPr/>
          <p:nvPr/>
        </p:nvGrpSpPr>
        <p:grpSpPr>
          <a:xfrm>
            <a:off x="2800440" y="6303960"/>
            <a:ext cx="352440" cy="569880"/>
            <a:chOff x="2800440" y="6303960"/>
            <a:chExt cx="352440" cy="569880"/>
          </a:xfrm>
        </p:grpSpPr>
        <p:sp>
          <p:nvSpPr>
            <p:cNvPr id="663" name="フリーフォーム 1"/>
            <p:cNvSpPr/>
            <p:nvPr/>
          </p:nvSpPr>
          <p:spPr>
            <a:xfrm>
              <a:off x="2800800" y="6303960"/>
              <a:ext cx="311040" cy="481320"/>
            </a:xfrm>
            <a:custGeom>
              <a:avLst/>
              <a:gdLst/>
              <a:ahLst/>
              <a:rect l="l" t="t" r="r" b="b"/>
              <a:pathLst>
                <a:path w="1364343" h="2046514">
                  <a:moveTo>
                    <a:pt x="551543" y="754743"/>
                  </a:moveTo>
                  <a:lnTo>
                    <a:pt x="537029" y="0"/>
                  </a:lnTo>
                  <a:lnTo>
                    <a:pt x="870857" y="0"/>
                  </a:lnTo>
                  <a:lnTo>
                    <a:pt x="870857" y="725714"/>
                  </a:lnTo>
                  <a:lnTo>
                    <a:pt x="1364343" y="696686"/>
                  </a:lnTo>
                  <a:lnTo>
                    <a:pt x="1364343" y="1045028"/>
                  </a:lnTo>
                  <a:lnTo>
                    <a:pt x="914400" y="1045028"/>
                  </a:lnTo>
                  <a:lnTo>
                    <a:pt x="928915" y="2017486"/>
                  </a:lnTo>
                  <a:lnTo>
                    <a:pt x="566057" y="2046514"/>
                  </a:lnTo>
                  <a:lnTo>
                    <a:pt x="624115" y="1074057"/>
                  </a:lnTo>
                  <a:lnTo>
                    <a:pt x="0" y="1117600"/>
                  </a:lnTo>
                  <a:lnTo>
                    <a:pt x="43543" y="711200"/>
                  </a:lnTo>
                  <a:lnTo>
                    <a:pt x="551543" y="7547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フローチャート : 論理積ゲート 152"/>
            <p:cNvSpPr/>
            <p:nvPr/>
          </p:nvSpPr>
          <p:spPr>
            <a:xfrm rot="16200000">
              <a:off x="2899440" y="6620400"/>
              <a:ext cx="154080" cy="35244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5" name="グループ化 153"/>
          <p:cNvGrpSpPr/>
          <p:nvPr/>
        </p:nvGrpSpPr>
        <p:grpSpPr>
          <a:xfrm>
            <a:off x="6191280" y="6303960"/>
            <a:ext cx="352440" cy="569880"/>
            <a:chOff x="6191280" y="6303960"/>
            <a:chExt cx="352440" cy="569880"/>
          </a:xfrm>
        </p:grpSpPr>
        <p:sp>
          <p:nvSpPr>
            <p:cNvPr id="666" name="フリーフォーム 1"/>
            <p:cNvSpPr/>
            <p:nvPr/>
          </p:nvSpPr>
          <p:spPr>
            <a:xfrm>
              <a:off x="6191640" y="6303960"/>
              <a:ext cx="311040" cy="481320"/>
            </a:xfrm>
            <a:custGeom>
              <a:avLst/>
              <a:gdLst/>
              <a:ahLst/>
              <a:rect l="l" t="t" r="r" b="b"/>
              <a:pathLst>
                <a:path w="1364343" h="2046514">
                  <a:moveTo>
                    <a:pt x="551543" y="754743"/>
                  </a:moveTo>
                  <a:lnTo>
                    <a:pt x="537029" y="0"/>
                  </a:lnTo>
                  <a:lnTo>
                    <a:pt x="870857" y="0"/>
                  </a:lnTo>
                  <a:lnTo>
                    <a:pt x="870857" y="725714"/>
                  </a:lnTo>
                  <a:lnTo>
                    <a:pt x="1364343" y="696686"/>
                  </a:lnTo>
                  <a:lnTo>
                    <a:pt x="1364343" y="1045028"/>
                  </a:lnTo>
                  <a:lnTo>
                    <a:pt x="914400" y="1045028"/>
                  </a:lnTo>
                  <a:lnTo>
                    <a:pt x="928915" y="2017486"/>
                  </a:lnTo>
                  <a:lnTo>
                    <a:pt x="566057" y="2046514"/>
                  </a:lnTo>
                  <a:lnTo>
                    <a:pt x="624115" y="1074057"/>
                  </a:lnTo>
                  <a:lnTo>
                    <a:pt x="0" y="1117600"/>
                  </a:lnTo>
                  <a:lnTo>
                    <a:pt x="43543" y="711200"/>
                  </a:lnTo>
                  <a:lnTo>
                    <a:pt x="551543" y="7547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フローチャート : 論理積ゲート 155"/>
            <p:cNvSpPr/>
            <p:nvPr/>
          </p:nvSpPr>
          <p:spPr>
            <a:xfrm rot="16200000">
              <a:off x="6290280" y="6620400"/>
              <a:ext cx="154080" cy="35244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グループ化 156"/>
          <p:cNvGrpSpPr/>
          <p:nvPr/>
        </p:nvGrpSpPr>
        <p:grpSpPr>
          <a:xfrm>
            <a:off x="7556040" y="191880"/>
            <a:ext cx="734400" cy="1083600"/>
            <a:chOff x="7556040" y="191880"/>
            <a:chExt cx="734400" cy="1083600"/>
          </a:xfrm>
        </p:grpSpPr>
        <p:sp>
          <p:nvSpPr>
            <p:cNvPr id="669" name="月 157"/>
            <p:cNvSpPr/>
            <p:nvPr/>
          </p:nvSpPr>
          <p:spPr>
            <a:xfrm rot="11700000">
              <a:off x="7675200" y="239040"/>
              <a:ext cx="495360" cy="988920"/>
            </a:xfrm>
            <a:custGeom>
              <a:avLst/>
              <a:gdLst>
                <a:gd name="textAreaLeft" fmla="*/ 43920 w 495360"/>
                <a:gd name="textAreaRight" fmla="*/ 363960 w 495360"/>
                <a:gd name="textAreaTop" fmla="*/ 290520 h 988920"/>
                <a:gd name="textAreaBottom" fmla="*/ 698400 h 98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730" y="2845"/>
                    <a:pt x="15859" y="5080"/>
                    <a:pt x="15859" y="10800"/>
                  </a:cubicBezTo>
                  <a:cubicBezTo>
                    <a:pt x="15859" y="16520"/>
                    <a:pt x="18730" y="18755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二等辺三角形 158"/>
            <p:cNvSpPr/>
            <p:nvPr/>
          </p:nvSpPr>
          <p:spPr>
            <a:xfrm>
              <a:off x="7863480" y="575280"/>
              <a:ext cx="126000" cy="109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二等辺三角形 159"/>
            <p:cNvSpPr/>
            <p:nvPr/>
          </p:nvSpPr>
          <p:spPr>
            <a:xfrm>
              <a:off x="8021160" y="562680"/>
              <a:ext cx="126000" cy="109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Freeform 15"/>
          <p:cNvSpPr/>
          <p:nvPr/>
        </p:nvSpPr>
        <p:spPr>
          <a:xfrm>
            <a:off x="1827360" y="5084640"/>
            <a:ext cx="1322280" cy="1773360"/>
          </a:xfrm>
          <a:custGeom>
            <a:avLst/>
            <a:gdLst/>
            <a:ahLst/>
            <a:rect l="l" t="t" r="r" b="b"/>
            <a:pathLst>
              <a:path w="2268" h="3039">
                <a:moveTo>
                  <a:pt x="1270" y="3039"/>
                </a:moveTo>
                <a:lnTo>
                  <a:pt x="408" y="3039"/>
                </a:lnTo>
                <a:lnTo>
                  <a:pt x="680" y="2222"/>
                </a:lnTo>
                <a:lnTo>
                  <a:pt x="363" y="1905"/>
                </a:lnTo>
                <a:lnTo>
                  <a:pt x="0" y="1088"/>
                </a:lnTo>
                <a:lnTo>
                  <a:pt x="454" y="1769"/>
                </a:lnTo>
                <a:lnTo>
                  <a:pt x="771" y="2041"/>
                </a:lnTo>
                <a:lnTo>
                  <a:pt x="816" y="1859"/>
                </a:lnTo>
                <a:lnTo>
                  <a:pt x="907" y="1179"/>
                </a:lnTo>
                <a:lnTo>
                  <a:pt x="590" y="952"/>
                </a:lnTo>
                <a:lnTo>
                  <a:pt x="499" y="544"/>
                </a:lnTo>
                <a:lnTo>
                  <a:pt x="680" y="907"/>
                </a:lnTo>
                <a:lnTo>
                  <a:pt x="953" y="1043"/>
                </a:lnTo>
                <a:lnTo>
                  <a:pt x="998" y="725"/>
                </a:lnTo>
                <a:lnTo>
                  <a:pt x="907" y="0"/>
                </a:lnTo>
                <a:lnTo>
                  <a:pt x="1225" y="725"/>
                </a:lnTo>
                <a:lnTo>
                  <a:pt x="1315" y="1451"/>
                </a:lnTo>
                <a:lnTo>
                  <a:pt x="1633" y="1360"/>
                </a:lnTo>
                <a:lnTo>
                  <a:pt x="2041" y="1043"/>
                </a:lnTo>
                <a:lnTo>
                  <a:pt x="2132" y="771"/>
                </a:lnTo>
                <a:lnTo>
                  <a:pt x="2132" y="1088"/>
                </a:lnTo>
                <a:lnTo>
                  <a:pt x="1996" y="1224"/>
                </a:lnTo>
                <a:lnTo>
                  <a:pt x="2268" y="1224"/>
                </a:lnTo>
                <a:lnTo>
                  <a:pt x="1860" y="1315"/>
                </a:lnTo>
                <a:lnTo>
                  <a:pt x="1678" y="1496"/>
                </a:lnTo>
                <a:lnTo>
                  <a:pt x="1270" y="1678"/>
                </a:lnTo>
                <a:lnTo>
                  <a:pt x="1179" y="2358"/>
                </a:lnTo>
                <a:lnTo>
                  <a:pt x="1270" y="30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16"/>
          <p:cNvSpPr/>
          <p:nvPr/>
        </p:nvSpPr>
        <p:spPr>
          <a:xfrm>
            <a:off x="0" y="3645000"/>
            <a:ext cx="1881360" cy="3213000"/>
          </a:xfrm>
          <a:custGeom>
            <a:avLst/>
            <a:gdLst/>
            <a:ahLst/>
            <a:rect l="l" t="t" r="r" b="b"/>
            <a:pathLst>
              <a:path w="2177" h="3719">
                <a:moveTo>
                  <a:pt x="953" y="3719"/>
                </a:moveTo>
                <a:lnTo>
                  <a:pt x="1497" y="3719"/>
                </a:lnTo>
                <a:lnTo>
                  <a:pt x="1089" y="2903"/>
                </a:lnTo>
                <a:lnTo>
                  <a:pt x="953" y="2268"/>
                </a:lnTo>
                <a:lnTo>
                  <a:pt x="1769" y="1995"/>
                </a:lnTo>
                <a:lnTo>
                  <a:pt x="2177" y="1496"/>
                </a:lnTo>
                <a:lnTo>
                  <a:pt x="1814" y="1814"/>
                </a:lnTo>
                <a:lnTo>
                  <a:pt x="1769" y="1496"/>
                </a:lnTo>
                <a:lnTo>
                  <a:pt x="1724" y="1905"/>
                </a:lnTo>
                <a:lnTo>
                  <a:pt x="1542" y="1995"/>
                </a:lnTo>
                <a:lnTo>
                  <a:pt x="953" y="2131"/>
                </a:lnTo>
                <a:lnTo>
                  <a:pt x="907" y="1905"/>
                </a:lnTo>
                <a:lnTo>
                  <a:pt x="907" y="1088"/>
                </a:lnTo>
                <a:lnTo>
                  <a:pt x="1134" y="816"/>
                </a:lnTo>
                <a:lnTo>
                  <a:pt x="1270" y="317"/>
                </a:lnTo>
                <a:lnTo>
                  <a:pt x="1043" y="816"/>
                </a:lnTo>
                <a:lnTo>
                  <a:pt x="907" y="952"/>
                </a:lnTo>
                <a:lnTo>
                  <a:pt x="907" y="499"/>
                </a:lnTo>
                <a:lnTo>
                  <a:pt x="1043" y="0"/>
                </a:lnTo>
                <a:lnTo>
                  <a:pt x="817" y="453"/>
                </a:lnTo>
                <a:lnTo>
                  <a:pt x="726" y="1814"/>
                </a:lnTo>
                <a:lnTo>
                  <a:pt x="771" y="2630"/>
                </a:lnTo>
                <a:lnTo>
                  <a:pt x="499" y="2540"/>
                </a:lnTo>
                <a:lnTo>
                  <a:pt x="0" y="1995"/>
                </a:lnTo>
                <a:lnTo>
                  <a:pt x="363" y="2630"/>
                </a:lnTo>
                <a:lnTo>
                  <a:pt x="817" y="2993"/>
                </a:lnTo>
                <a:lnTo>
                  <a:pt x="953" y="37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WordArt 174"/>
          <p:cNvSpPr txBox="1"/>
          <p:nvPr/>
        </p:nvSpPr>
        <p:spPr>
          <a:xfrm>
            <a:off x="-160200" y="476280"/>
            <a:ext cx="89136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メイリオ"/>
              </a:rPr>
              <a:t>Trick or Tre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メイリオ"/>
              <a:ea typeface="メイリオ"/>
            </a:endParaRPr>
          </a:p>
        </p:txBody>
      </p:sp>
      <p:sp>
        <p:nvSpPr>
          <p:cNvPr id="676" name="Freeform 109"/>
          <p:cNvSpPr/>
          <p:nvPr/>
        </p:nvSpPr>
        <p:spPr>
          <a:xfrm>
            <a:off x="1424160" y="3213000"/>
            <a:ext cx="8497800" cy="1954440"/>
          </a:xfrm>
          <a:custGeom>
            <a:avLst/>
            <a:gdLst/>
            <a:ahLst/>
            <a:rect l="l" t="t" r="r" b="b"/>
            <a:pathLst>
              <a:path w="3946" h="907">
                <a:moveTo>
                  <a:pt x="3946" y="90"/>
                </a:moveTo>
                <a:lnTo>
                  <a:pt x="3129" y="317"/>
                </a:lnTo>
                <a:lnTo>
                  <a:pt x="2222" y="227"/>
                </a:lnTo>
                <a:lnTo>
                  <a:pt x="1496" y="408"/>
                </a:lnTo>
                <a:lnTo>
                  <a:pt x="907" y="272"/>
                </a:lnTo>
                <a:lnTo>
                  <a:pt x="635" y="0"/>
                </a:lnTo>
                <a:lnTo>
                  <a:pt x="816" y="272"/>
                </a:lnTo>
                <a:lnTo>
                  <a:pt x="362" y="181"/>
                </a:lnTo>
                <a:lnTo>
                  <a:pt x="0" y="317"/>
                </a:lnTo>
                <a:lnTo>
                  <a:pt x="362" y="272"/>
                </a:lnTo>
                <a:lnTo>
                  <a:pt x="544" y="317"/>
                </a:lnTo>
                <a:lnTo>
                  <a:pt x="317" y="453"/>
                </a:lnTo>
                <a:lnTo>
                  <a:pt x="680" y="363"/>
                </a:lnTo>
                <a:lnTo>
                  <a:pt x="1179" y="453"/>
                </a:lnTo>
                <a:lnTo>
                  <a:pt x="1496" y="589"/>
                </a:lnTo>
                <a:lnTo>
                  <a:pt x="1134" y="816"/>
                </a:lnTo>
                <a:lnTo>
                  <a:pt x="725" y="862"/>
                </a:lnTo>
                <a:lnTo>
                  <a:pt x="1224" y="907"/>
                </a:lnTo>
                <a:lnTo>
                  <a:pt x="1678" y="680"/>
                </a:lnTo>
                <a:lnTo>
                  <a:pt x="1769" y="499"/>
                </a:lnTo>
                <a:lnTo>
                  <a:pt x="2268" y="408"/>
                </a:lnTo>
                <a:lnTo>
                  <a:pt x="2676" y="499"/>
                </a:lnTo>
                <a:lnTo>
                  <a:pt x="2494" y="771"/>
                </a:lnTo>
                <a:lnTo>
                  <a:pt x="2177" y="907"/>
                </a:lnTo>
                <a:lnTo>
                  <a:pt x="2721" y="816"/>
                </a:lnTo>
                <a:lnTo>
                  <a:pt x="2948" y="544"/>
                </a:lnTo>
                <a:lnTo>
                  <a:pt x="3311" y="589"/>
                </a:lnTo>
                <a:lnTo>
                  <a:pt x="3946" y="499"/>
                </a:lnTo>
                <a:lnTo>
                  <a:pt x="3946" y="9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5067000" y="2565360"/>
            <a:ext cx="1334880" cy="1369800"/>
            <a:chOff x="5067000" y="2565360"/>
            <a:chExt cx="1334880" cy="1369800"/>
          </a:xfrm>
        </p:grpSpPr>
        <p:sp>
          <p:nvSpPr>
            <p:cNvPr id="678" name="Oval 56"/>
            <p:cNvSpPr/>
            <p:nvPr/>
          </p:nvSpPr>
          <p:spPr>
            <a:xfrm rot="3600000">
              <a:off x="5532480" y="377496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Oval 58"/>
            <p:cNvSpPr/>
            <p:nvPr/>
          </p:nvSpPr>
          <p:spPr>
            <a:xfrm flipH="1" rot="18000000">
              <a:off x="5650200" y="377532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Oval 59"/>
            <p:cNvSpPr/>
            <p:nvPr/>
          </p:nvSpPr>
          <p:spPr>
            <a:xfrm>
              <a:off x="5585040" y="3793320"/>
              <a:ext cx="58680" cy="141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Oval 62"/>
            <p:cNvSpPr/>
            <p:nvPr/>
          </p:nvSpPr>
          <p:spPr>
            <a:xfrm rot="3600000">
              <a:off x="5770080" y="377496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Oval 63"/>
            <p:cNvSpPr/>
            <p:nvPr/>
          </p:nvSpPr>
          <p:spPr>
            <a:xfrm flipH="1" rot="18000000">
              <a:off x="5887800" y="377532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Oval 64"/>
            <p:cNvSpPr/>
            <p:nvPr/>
          </p:nvSpPr>
          <p:spPr>
            <a:xfrm>
              <a:off x="5822640" y="3793320"/>
              <a:ext cx="59040" cy="141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Oval 41"/>
            <p:cNvSpPr/>
            <p:nvPr/>
          </p:nvSpPr>
          <p:spPr>
            <a:xfrm>
              <a:off x="5526000" y="3578400"/>
              <a:ext cx="178200" cy="235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Oval 42"/>
            <p:cNvSpPr/>
            <p:nvPr/>
          </p:nvSpPr>
          <p:spPr>
            <a:xfrm>
              <a:off x="5765040" y="3578400"/>
              <a:ext cx="178560" cy="235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Oval 43"/>
            <p:cNvSpPr/>
            <p:nvPr/>
          </p:nvSpPr>
          <p:spPr>
            <a:xfrm rot="20700000">
              <a:off x="5943240" y="2804040"/>
              <a:ext cx="356760" cy="83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Oval 44"/>
            <p:cNvSpPr/>
            <p:nvPr/>
          </p:nvSpPr>
          <p:spPr>
            <a:xfrm rot="900000">
              <a:off x="5168520" y="2803680"/>
              <a:ext cx="357120" cy="83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Oval 45"/>
            <p:cNvSpPr/>
            <p:nvPr/>
          </p:nvSpPr>
          <p:spPr>
            <a:xfrm>
              <a:off x="5288040" y="2565360"/>
              <a:ext cx="892800" cy="119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Oval 48"/>
            <p:cNvSpPr/>
            <p:nvPr/>
          </p:nvSpPr>
          <p:spPr>
            <a:xfrm>
              <a:off x="5466960" y="2863080"/>
              <a:ext cx="178560" cy="17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Oval 53"/>
            <p:cNvSpPr/>
            <p:nvPr/>
          </p:nvSpPr>
          <p:spPr>
            <a:xfrm>
              <a:off x="5824080" y="2863080"/>
              <a:ext cx="178200" cy="17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1883520" y="2565360"/>
            <a:ext cx="1937160" cy="1191960"/>
            <a:chOff x="1883520" y="2565360"/>
            <a:chExt cx="1937160" cy="1191960"/>
          </a:xfrm>
        </p:grpSpPr>
        <p:sp>
          <p:nvSpPr>
            <p:cNvPr id="692" name="Oval 152"/>
            <p:cNvSpPr/>
            <p:nvPr/>
          </p:nvSpPr>
          <p:spPr>
            <a:xfrm rot="3600000">
              <a:off x="2648160" y="3597120"/>
              <a:ext cx="4680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Oval 153"/>
            <p:cNvSpPr/>
            <p:nvPr/>
          </p:nvSpPr>
          <p:spPr>
            <a:xfrm flipH="1" rot="18000000">
              <a:off x="2765520" y="3597120"/>
              <a:ext cx="4680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Oval 154"/>
            <p:cNvSpPr/>
            <p:nvPr/>
          </p:nvSpPr>
          <p:spPr>
            <a:xfrm>
              <a:off x="2702160" y="3615840"/>
              <a:ext cx="59040" cy="14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Oval 156"/>
            <p:cNvSpPr/>
            <p:nvPr/>
          </p:nvSpPr>
          <p:spPr>
            <a:xfrm rot="3600000">
              <a:off x="2885760" y="3597120"/>
              <a:ext cx="4680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Oval 157"/>
            <p:cNvSpPr/>
            <p:nvPr/>
          </p:nvSpPr>
          <p:spPr>
            <a:xfrm flipH="1" rot="18000000">
              <a:off x="3003120" y="3597120"/>
              <a:ext cx="4680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Oval 158"/>
            <p:cNvSpPr/>
            <p:nvPr/>
          </p:nvSpPr>
          <p:spPr>
            <a:xfrm>
              <a:off x="2939760" y="3615840"/>
              <a:ext cx="58680" cy="141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Oval 159"/>
            <p:cNvSpPr/>
            <p:nvPr/>
          </p:nvSpPr>
          <p:spPr>
            <a:xfrm>
              <a:off x="2643120" y="3400560"/>
              <a:ext cx="178560" cy="234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Oval 160"/>
            <p:cNvSpPr/>
            <p:nvPr/>
          </p:nvSpPr>
          <p:spPr>
            <a:xfrm>
              <a:off x="2882160" y="3400560"/>
              <a:ext cx="178200" cy="234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Oval 161"/>
            <p:cNvSpPr/>
            <p:nvPr/>
          </p:nvSpPr>
          <p:spPr>
            <a:xfrm rot="15300000">
              <a:off x="3058560" y="2623680"/>
              <a:ext cx="476640" cy="95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Oval 162"/>
            <p:cNvSpPr/>
            <p:nvPr/>
          </p:nvSpPr>
          <p:spPr>
            <a:xfrm rot="17100000">
              <a:off x="2169000" y="2622960"/>
              <a:ext cx="476640" cy="957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Oval 163"/>
            <p:cNvSpPr/>
            <p:nvPr/>
          </p:nvSpPr>
          <p:spPr>
            <a:xfrm>
              <a:off x="2405520" y="2565360"/>
              <a:ext cx="892440" cy="1013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Oval 166"/>
            <p:cNvSpPr/>
            <p:nvPr/>
          </p:nvSpPr>
          <p:spPr>
            <a:xfrm>
              <a:off x="2584080" y="2804400"/>
              <a:ext cx="178200" cy="17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168"/>
            <p:cNvSpPr/>
            <p:nvPr/>
          </p:nvSpPr>
          <p:spPr>
            <a:xfrm>
              <a:off x="2941200" y="2804400"/>
              <a:ext cx="178560" cy="17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5" name=""/>
          <p:cNvGrpSpPr/>
          <p:nvPr/>
        </p:nvGrpSpPr>
        <p:grpSpPr>
          <a:xfrm>
            <a:off x="3771720" y="2781360"/>
            <a:ext cx="1334880" cy="1369440"/>
            <a:chOff x="3771720" y="2781360"/>
            <a:chExt cx="1334880" cy="1369440"/>
          </a:xfrm>
        </p:grpSpPr>
        <p:sp>
          <p:nvSpPr>
            <p:cNvPr id="706" name="Oval 56"/>
            <p:cNvSpPr/>
            <p:nvPr/>
          </p:nvSpPr>
          <p:spPr>
            <a:xfrm rot="3600000">
              <a:off x="4237200" y="399060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Oval 58"/>
            <p:cNvSpPr/>
            <p:nvPr/>
          </p:nvSpPr>
          <p:spPr>
            <a:xfrm flipH="1" rot="18000000">
              <a:off x="4354920" y="399096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Oval 59"/>
            <p:cNvSpPr/>
            <p:nvPr/>
          </p:nvSpPr>
          <p:spPr>
            <a:xfrm>
              <a:off x="4289760" y="4008960"/>
              <a:ext cx="58680" cy="141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Oval 62"/>
            <p:cNvSpPr/>
            <p:nvPr/>
          </p:nvSpPr>
          <p:spPr>
            <a:xfrm rot="3600000">
              <a:off x="4474800" y="399060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Oval 63"/>
            <p:cNvSpPr/>
            <p:nvPr/>
          </p:nvSpPr>
          <p:spPr>
            <a:xfrm flipH="1" rot="18000000">
              <a:off x="4592520" y="399096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Oval 64"/>
            <p:cNvSpPr/>
            <p:nvPr/>
          </p:nvSpPr>
          <p:spPr>
            <a:xfrm>
              <a:off x="4527360" y="4008960"/>
              <a:ext cx="59040" cy="141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Oval 41"/>
            <p:cNvSpPr/>
            <p:nvPr/>
          </p:nvSpPr>
          <p:spPr>
            <a:xfrm>
              <a:off x="4230720" y="3794040"/>
              <a:ext cx="178200" cy="234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Oval 42"/>
            <p:cNvSpPr/>
            <p:nvPr/>
          </p:nvSpPr>
          <p:spPr>
            <a:xfrm>
              <a:off x="4469760" y="3794040"/>
              <a:ext cx="178560" cy="234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Oval 43"/>
            <p:cNvSpPr/>
            <p:nvPr/>
          </p:nvSpPr>
          <p:spPr>
            <a:xfrm rot="20700000">
              <a:off x="4647960" y="3020040"/>
              <a:ext cx="356760" cy="83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Oval 44"/>
            <p:cNvSpPr/>
            <p:nvPr/>
          </p:nvSpPr>
          <p:spPr>
            <a:xfrm rot="900000">
              <a:off x="3873240" y="3019680"/>
              <a:ext cx="357120" cy="83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Oval 45"/>
            <p:cNvSpPr/>
            <p:nvPr/>
          </p:nvSpPr>
          <p:spPr>
            <a:xfrm>
              <a:off x="3992760" y="2781360"/>
              <a:ext cx="892800" cy="1191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Oval 48"/>
            <p:cNvSpPr/>
            <p:nvPr/>
          </p:nvSpPr>
          <p:spPr>
            <a:xfrm>
              <a:off x="4171680" y="3079080"/>
              <a:ext cx="178560" cy="17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Oval 53"/>
            <p:cNvSpPr/>
            <p:nvPr/>
          </p:nvSpPr>
          <p:spPr>
            <a:xfrm>
              <a:off x="4528800" y="3079080"/>
              <a:ext cx="178200" cy="178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7659360" y="2565360"/>
            <a:ext cx="1334880" cy="1369800"/>
            <a:chOff x="7659360" y="2565360"/>
            <a:chExt cx="1334880" cy="1369800"/>
          </a:xfrm>
        </p:grpSpPr>
        <p:sp>
          <p:nvSpPr>
            <p:cNvPr id="720" name="Oval 56"/>
            <p:cNvSpPr/>
            <p:nvPr/>
          </p:nvSpPr>
          <p:spPr>
            <a:xfrm rot="3600000">
              <a:off x="8124840" y="377496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Oval 58"/>
            <p:cNvSpPr/>
            <p:nvPr/>
          </p:nvSpPr>
          <p:spPr>
            <a:xfrm flipH="1" rot="18000000">
              <a:off x="8242560" y="377532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Oval 59"/>
            <p:cNvSpPr/>
            <p:nvPr/>
          </p:nvSpPr>
          <p:spPr>
            <a:xfrm>
              <a:off x="8177400" y="3793320"/>
              <a:ext cx="58680" cy="141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Oval 62"/>
            <p:cNvSpPr/>
            <p:nvPr/>
          </p:nvSpPr>
          <p:spPr>
            <a:xfrm rot="3600000">
              <a:off x="8362440" y="377496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Oval 63"/>
            <p:cNvSpPr/>
            <p:nvPr/>
          </p:nvSpPr>
          <p:spPr>
            <a:xfrm flipH="1" rot="18000000">
              <a:off x="8480160" y="377532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Oval 64"/>
            <p:cNvSpPr/>
            <p:nvPr/>
          </p:nvSpPr>
          <p:spPr>
            <a:xfrm>
              <a:off x="8415000" y="3793320"/>
              <a:ext cx="59040" cy="141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41"/>
            <p:cNvSpPr/>
            <p:nvPr/>
          </p:nvSpPr>
          <p:spPr>
            <a:xfrm>
              <a:off x="8118360" y="3578400"/>
              <a:ext cx="178200" cy="235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42"/>
            <p:cNvSpPr/>
            <p:nvPr/>
          </p:nvSpPr>
          <p:spPr>
            <a:xfrm>
              <a:off x="8357400" y="3578400"/>
              <a:ext cx="178560" cy="235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43"/>
            <p:cNvSpPr/>
            <p:nvPr/>
          </p:nvSpPr>
          <p:spPr>
            <a:xfrm rot="20700000">
              <a:off x="8535600" y="2804040"/>
              <a:ext cx="356760" cy="83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44"/>
            <p:cNvSpPr/>
            <p:nvPr/>
          </p:nvSpPr>
          <p:spPr>
            <a:xfrm rot="900000">
              <a:off x="7760880" y="2803680"/>
              <a:ext cx="357120" cy="83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45"/>
            <p:cNvSpPr/>
            <p:nvPr/>
          </p:nvSpPr>
          <p:spPr>
            <a:xfrm>
              <a:off x="7880400" y="2565360"/>
              <a:ext cx="892800" cy="119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48"/>
            <p:cNvSpPr/>
            <p:nvPr/>
          </p:nvSpPr>
          <p:spPr>
            <a:xfrm>
              <a:off x="8059320" y="2863080"/>
              <a:ext cx="178560" cy="17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53"/>
            <p:cNvSpPr/>
            <p:nvPr/>
          </p:nvSpPr>
          <p:spPr>
            <a:xfrm>
              <a:off x="8416440" y="2863080"/>
              <a:ext cx="178200" cy="17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364080" y="2492280"/>
            <a:ext cx="1334880" cy="1369800"/>
            <a:chOff x="6364080" y="2492280"/>
            <a:chExt cx="1334880" cy="1369800"/>
          </a:xfrm>
        </p:grpSpPr>
        <p:sp>
          <p:nvSpPr>
            <p:cNvPr id="734" name="Oval 56"/>
            <p:cNvSpPr/>
            <p:nvPr/>
          </p:nvSpPr>
          <p:spPr>
            <a:xfrm rot="3600000">
              <a:off x="6829560" y="370188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58"/>
            <p:cNvSpPr/>
            <p:nvPr/>
          </p:nvSpPr>
          <p:spPr>
            <a:xfrm flipH="1" rot="18000000">
              <a:off x="6947280" y="370224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59"/>
            <p:cNvSpPr/>
            <p:nvPr/>
          </p:nvSpPr>
          <p:spPr>
            <a:xfrm>
              <a:off x="6882120" y="3720240"/>
              <a:ext cx="58680" cy="141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 rot="3600000">
              <a:off x="7067160" y="370188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 flipH="1" rot="18000000">
              <a:off x="7184880" y="3702240"/>
              <a:ext cx="47160" cy="178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119720" y="3720240"/>
              <a:ext cx="59040" cy="141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Oval 41"/>
            <p:cNvSpPr/>
            <p:nvPr/>
          </p:nvSpPr>
          <p:spPr>
            <a:xfrm>
              <a:off x="6823080" y="3505320"/>
              <a:ext cx="178200" cy="235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Oval 42"/>
            <p:cNvSpPr/>
            <p:nvPr/>
          </p:nvSpPr>
          <p:spPr>
            <a:xfrm>
              <a:off x="7062120" y="3505320"/>
              <a:ext cx="178560" cy="235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Oval 43"/>
            <p:cNvSpPr/>
            <p:nvPr/>
          </p:nvSpPr>
          <p:spPr>
            <a:xfrm rot="20700000">
              <a:off x="7240320" y="2730960"/>
              <a:ext cx="356760" cy="83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Oval 44"/>
            <p:cNvSpPr/>
            <p:nvPr/>
          </p:nvSpPr>
          <p:spPr>
            <a:xfrm rot="900000">
              <a:off x="6465600" y="2730600"/>
              <a:ext cx="357120" cy="833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Oval 45"/>
            <p:cNvSpPr/>
            <p:nvPr/>
          </p:nvSpPr>
          <p:spPr>
            <a:xfrm>
              <a:off x="6585120" y="2492280"/>
              <a:ext cx="892800" cy="1191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48"/>
            <p:cNvSpPr/>
            <p:nvPr/>
          </p:nvSpPr>
          <p:spPr>
            <a:xfrm>
              <a:off x="6764040" y="2790000"/>
              <a:ext cx="178560" cy="17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53"/>
            <p:cNvSpPr/>
            <p:nvPr/>
          </p:nvSpPr>
          <p:spPr>
            <a:xfrm>
              <a:off x="7121160" y="2790000"/>
              <a:ext cx="178200" cy="178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グループ化 2"/>
          <p:cNvGrpSpPr/>
          <p:nvPr/>
        </p:nvGrpSpPr>
        <p:grpSpPr>
          <a:xfrm>
            <a:off x="4016520" y="5764320"/>
            <a:ext cx="2305080" cy="1093680"/>
            <a:chOff x="4016520" y="5764320"/>
            <a:chExt cx="2305080" cy="1093680"/>
          </a:xfrm>
        </p:grpSpPr>
        <p:sp>
          <p:nvSpPr>
            <p:cNvPr id="748" name="Oval 106"/>
            <p:cNvSpPr/>
            <p:nvPr/>
          </p:nvSpPr>
          <p:spPr>
            <a:xfrm>
              <a:off x="5732280" y="5764320"/>
              <a:ext cx="84240" cy="1688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07"/>
            <p:cNvSpPr/>
            <p:nvPr/>
          </p:nvSpPr>
          <p:spPr>
            <a:xfrm>
              <a:off x="5648760" y="5847480"/>
              <a:ext cx="252360" cy="1688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08"/>
            <p:cNvSpPr/>
            <p:nvPr/>
          </p:nvSpPr>
          <p:spPr>
            <a:xfrm>
              <a:off x="5901120" y="5974920"/>
              <a:ext cx="420480" cy="63072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09"/>
            <p:cNvSpPr/>
            <p:nvPr/>
          </p:nvSpPr>
          <p:spPr>
            <a:xfrm>
              <a:off x="5268960" y="5974920"/>
              <a:ext cx="420480" cy="63072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10"/>
            <p:cNvSpPr/>
            <p:nvPr/>
          </p:nvSpPr>
          <p:spPr>
            <a:xfrm>
              <a:off x="5395320" y="5932080"/>
              <a:ext cx="420480" cy="7160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11"/>
            <p:cNvSpPr/>
            <p:nvPr/>
          </p:nvSpPr>
          <p:spPr>
            <a:xfrm>
              <a:off x="5774760" y="5932080"/>
              <a:ext cx="420480" cy="7160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12"/>
            <p:cNvSpPr/>
            <p:nvPr/>
          </p:nvSpPr>
          <p:spPr>
            <a:xfrm>
              <a:off x="5564160" y="5890320"/>
              <a:ext cx="421200" cy="79956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23"/>
            <p:cNvSpPr/>
            <p:nvPr/>
          </p:nvSpPr>
          <p:spPr>
            <a:xfrm>
              <a:off x="5648400" y="6058440"/>
              <a:ext cx="252360" cy="252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31"/>
            <p:cNvSpPr/>
            <p:nvPr/>
          </p:nvSpPr>
          <p:spPr>
            <a:xfrm>
              <a:off x="6027480" y="6100920"/>
              <a:ext cx="168840" cy="16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132"/>
            <p:cNvSpPr/>
            <p:nvPr/>
          </p:nvSpPr>
          <p:spPr>
            <a:xfrm>
              <a:off x="5353200" y="6100920"/>
              <a:ext cx="168840" cy="16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フリーフォーム 44"/>
            <p:cNvSpPr/>
            <p:nvPr/>
          </p:nvSpPr>
          <p:spPr>
            <a:xfrm flipH="1">
              <a:off x="4016520" y="6165000"/>
              <a:ext cx="1116000" cy="693000"/>
            </a:xfrm>
            <a:custGeom>
              <a:avLst/>
              <a:gdLst/>
              <a:ahLst/>
              <a:rect l="l" t="t" r="r" b="b"/>
              <a:pathLst>
                <a:path w="6886575" h="4648200">
                  <a:moveTo>
                    <a:pt x="4848225" y="381000"/>
                  </a:moveTo>
                  <a:lnTo>
                    <a:pt x="4371975" y="428625"/>
                  </a:lnTo>
                  <a:lnTo>
                    <a:pt x="3419475" y="438150"/>
                  </a:lnTo>
                  <a:lnTo>
                    <a:pt x="3295650" y="495300"/>
                  </a:lnTo>
                  <a:lnTo>
                    <a:pt x="3181350" y="581025"/>
                  </a:lnTo>
                  <a:lnTo>
                    <a:pt x="2933700" y="600075"/>
                  </a:lnTo>
                  <a:lnTo>
                    <a:pt x="2724150" y="571500"/>
                  </a:lnTo>
                  <a:lnTo>
                    <a:pt x="2628900" y="561975"/>
                  </a:lnTo>
                  <a:lnTo>
                    <a:pt x="2619375" y="609600"/>
                  </a:lnTo>
                  <a:lnTo>
                    <a:pt x="2419350" y="647700"/>
                  </a:lnTo>
                  <a:lnTo>
                    <a:pt x="2286000" y="647700"/>
                  </a:lnTo>
                  <a:lnTo>
                    <a:pt x="1838325" y="523875"/>
                  </a:lnTo>
                  <a:lnTo>
                    <a:pt x="1628775" y="552450"/>
                  </a:lnTo>
                  <a:lnTo>
                    <a:pt x="933450" y="704850"/>
                  </a:lnTo>
                  <a:lnTo>
                    <a:pt x="866775" y="819150"/>
                  </a:lnTo>
                  <a:lnTo>
                    <a:pt x="714375" y="942975"/>
                  </a:lnTo>
                  <a:lnTo>
                    <a:pt x="542925" y="1038225"/>
                  </a:lnTo>
                  <a:lnTo>
                    <a:pt x="285750" y="1628775"/>
                  </a:lnTo>
                  <a:lnTo>
                    <a:pt x="295275" y="1885950"/>
                  </a:lnTo>
                  <a:lnTo>
                    <a:pt x="161925" y="2238375"/>
                  </a:lnTo>
                  <a:lnTo>
                    <a:pt x="142875" y="2495550"/>
                  </a:lnTo>
                  <a:lnTo>
                    <a:pt x="104775" y="2657475"/>
                  </a:lnTo>
                  <a:lnTo>
                    <a:pt x="114300" y="2971800"/>
                  </a:lnTo>
                  <a:lnTo>
                    <a:pt x="114300" y="2971800"/>
                  </a:lnTo>
                  <a:lnTo>
                    <a:pt x="85725" y="3419475"/>
                  </a:lnTo>
                  <a:lnTo>
                    <a:pt x="0" y="3629025"/>
                  </a:lnTo>
                  <a:lnTo>
                    <a:pt x="142875" y="3476625"/>
                  </a:lnTo>
                  <a:lnTo>
                    <a:pt x="133350" y="3609975"/>
                  </a:lnTo>
                  <a:lnTo>
                    <a:pt x="295275" y="3390900"/>
                  </a:lnTo>
                  <a:lnTo>
                    <a:pt x="304800" y="3600450"/>
                  </a:lnTo>
                  <a:lnTo>
                    <a:pt x="390525" y="3238500"/>
                  </a:lnTo>
                  <a:lnTo>
                    <a:pt x="428625" y="3400425"/>
                  </a:lnTo>
                  <a:lnTo>
                    <a:pt x="476250" y="2952750"/>
                  </a:lnTo>
                  <a:lnTo>
                    <a:pt x="590550" y="2571750"/>
                  </a:lnTo>
                  <a:lnTo>
                    <a:pt x="657225" y="2171700"/>
                  </a:lnTo>
                  <a:lnTo>
                    <a:pt x="685800" y="1828800"/>
                  </a:lnTo>
                  <a:lnTo>
                    <a:pt x="685800" y="1685925"/>
                  </a:lnTo>
                  <a:lnTo>
                    <a:pt x="781050" y="1952625"/>
                  </a:lnTo>
                  <a:lnTo>
                    <a:pt x="762000" y="1685925"/>
                  </a:lnTo>
                  <a:lnTo>
                    <a:pt x="933450" y="2124075"/>
                  </a:lnTo>
                  <a:lnTo>
                    <a:pt x="1038225" y="2257425"/>
                  </a:lnTo>
                  <a:lnTo>
                    <a:pt x="933450" y="2428875"/>
                  </a:lnTo>
                  <a:lnTo>
                    <a:pt x="790575" y="2600325"/>
                  </a:lnTo>
                  <a:lnTo>
                    <a:pt x="676275" y="2686050"/>
                  </a:lnTo>
                  <a:lnTo>
                    <a:pt x="609600" y="2781300"/>
                  </a:lnTo>
                  <a:lnTo>
                    <a:pt x="628650" y="3228975"/>
                  </a:lnTo>
                  <a:lnTo>
                    <a:pt x="657225" y="3457575"/>
                  </a:lnTo>
                  <a:lnTo>
                    <a:pt x="695325" y="3629025"/>
                  </a:lnTo>
                  <a:lnTo>
                    <a:pt x="647700" y="3752850"/>
                  </a:lnTo>
                  <a:lnTo>
                    <a:pt x="628650" y="3838575"/>
                  </a:lnTo>
                  <a:lnTo>
                    <a:pt x="552450" y="3981450"/>
                  </a:lnTo>
                  <a:lnTo>
                    <a:pt x="495300" y="3914775"/>
                  </a:lnTo>
                  <a:lnTo>
                    <a:pt x="352425" y="3933825"/>
                  </a:lnTo>
                  <a:lnTo>
                    <a:pt x="238125" y="4219575"/>
                  </a:lnTo>
                  <a:lnTo>
                    <a:pt x="438150" y="4200525"/>
                  </a:lnTo>
                  <a:lnTo>
                    <a:pt x="523875" y="4124325"/>
                  </a:lnTo>
                  <a:lnTo>
                    <a:pt x="742950" y="3990975"/>
                  </a:lnTo>
                  <a:lnTo>
                    <a:pt x="847725" y="3943350"/>
                  </a:lnTo>
                  <a:lnTo>
                    <a:pt x="866775" y="3771900"/>
                  </a:lnTo>
                  <a:lnTo>
                    <a:pt x="857250" y="3143250"/>
                  </a:lnTo>
                  <a:lnTo>
                    <a:pt x="885825" y="3048000"/>
                  </a:lnTo>
                  <a:lnTo>
                    <a:pt x="1085850" y="2800350"/>
                  </a:lnTo>
                  <a:lnTo>
                    <a:pt x="1038225" y="3057525"/>
                  </a:lnTo>
                  <a:lnTo>
                    <a:pt x="990600" y="3200400"/>
                  </a:lnTo>
                  <a:lnTo>
                    <a:pt x="1162050" y="3562350"/>
                  </a:lnTo>
                  <a:lnTo>
                    <a:pt x="1390650" y="4057650"/>
                  </a:lnTo>
                  <a:lnTo>
                    <a:pt x="1447800" y="4295775"/>
                  </a:lnTo>
                  <a:lnTo>
                    <a:pt x="1590675" y="4381500"/>
                  </a:lnTo>
                  <a:lnTo>
                    <a:pt x="1685925" y="4467225"/>
                  </a:lnTo>
                  <a:lnTo>
                    <a:pt x="1676400" y="4552950"/>
                  </a:lnTo>
                  <a:lnTo>
                    <a:pt x="1752600" y="4648200"/>
                  </a:lnTo>
                  <a:lnTo>
                    <a:pt x="1933575" y="4638675"/>
                  </a:lnTo>
                  <a:lnTo>
                    <a:pt x="2085975" y="4562475"/>
                  </a:lnTo>
                  <a:lnTo>
                    <a:pt x="1943100" y="4381500"/>
                  </a:lnTo>
                  <a:lnTo>
                    <a:pt x="1781175" y="4314825"/>
                  </a:lnTo>
                  <a:lnTo>
                    <a:pt x="1628775" y="4067175"/>
                  </a:lnTo>
                  <a:lnTo>
                    <a:pt x="1400175" y="3552825"/>
                  </a:lnTo>
                  <a:lnTo>
                    <a:pt x="1371600" y="3362325"/>
                  </a:lnTo>
                  <a:lnTo>
                    <a:pt x="1438275" y="3038475"/>
                  </a:lnTo>
                  <a:lnTo>
                    <a:pt x="1552575" y="2762250"/>
                  </a:lnTo>
                  <a:lnTo>
                    <a:pt x="1790700" y="2171700"/>
                  </a:lnTo>
                  <a:lnTo>
                    <a:pt x="1895475" y="2152650"/>
                  </a:lnTo>
                  <a:lnTo>
                    <a:pt x="1962150" y="2038350"/>
                  </a:lnTo>
                  <a:lnTo>
                    <a:pt x="2019300" y="1905000"/>
                  </a:lnTo>
                  <a:lnTo>
                    <a:pt x="2114550" y="1914525"/>
                  </a:lnTo>
                  <a:lnTo>
                    <a:pt x="2600325" y="2143125"/>
                  </a:lnTo>
                  <a:lnTo>
                    <a:pt x="2990850" y="2238375"/>
                  </a:lnTo>
                  <a:lnTo>
                    <a:pt x="3352800" y="2238375"/>
                  </a:lnTo>
                  <a:lnTo>
                    <a:pt x="3457575" y="2247900"/>
                  </a:lnTo>
                  <a:lnTo>
                    <a:pt x="3505200" y="2266950"/>
                  </a:lnTo>
                  <a:lnTo>
                    <a:pt x="3676650" y="2257425"/>
                  </a:lnTo>
                  <a:lnTo>
                    <a:pt x="3800475" y="2343150"/>
                  </a:lnTo>
                  <a:lnTo>
                    <a:pt x="3571875" y="3152775"/>
                  </a:lnTo>
                  <a:lnTo>
                    <a:pt x="3590925" y="3286125"/>
                  </a:lnTo>
                  <a:lnTo>
                    <a:pt x="3381375" y="3790950"/>
                  </a:lnTo>
                  <a:lnTo>
                    <a:pt x="3352800" y="3971925"/>
                  </a:lnTo>
                  <a:lnTo>
                    <a:pt x="3457575" y="4143375"/>
                  </a:lnTo>
                  <a:lnTo>
                    <a:pt x="3467100" y="4229100"/>
                  </a:lnTo>
                  <a:lnTo>
                    <a:pt x="3438525" y="4371975"/>
                  </a:lnTo>
                  <a:lnTo>
                    <a:pt x="3609975" y="4467225"/>
                  </a:lnTo>
                  <a:lnTo>
                    <a:pt x="3724275" y="4448175"/>
                  </a:lnTo>
                  <a:lnTo>
                    <a:pt x="3810000" y="4371975"/>
                  </a:lnTo>
                  <a:lnTo>
                    <a:pt x="3667125" y="4200525"/>
                  </a:lnTo>
                  <a:lnTo>
                    <a:pt x="3638550" y="4162425"/>
                  </a:lnTo>
                  <a:lnTo>
                    <a:pt x="3600450" y="3924300"/>
                  </a:lnTo>
                  <a:lnTo>
                    <a:pt x="3648075" y="3657600"/>
                  </a:lnTo>
                  <a:lnTo>
                    <a:pt x="3714750" y="3429000"/>
                  </a:lnTo>
                  <a:lnTo>
                    <a:pt x="3800475" y="3381375"/>
                  </a:lnTo>
                  <a:lnTo>
                    <a:pt x="4029075" y="2809875"/>
                  </a:lnTo>
                  <a:lnTo>
                    <a:pt x="4286250" y="2362200"/>
                  </a:lnTo>
                  <a:lnTo>
                    <a:pt x="4362450" y="2457450"/>
                  </a:lnTo>
                  <a:lnTo>
                    <a:pt x="4524375" y="2543175"/>
                  </a:lnTo>
                  <a:lnTo>
                    <a:pt x="4657725" y="2695575"/>
                  </a:lnTo>
                  <a:lnTo>
                    <a:pt x="5000625" y="3105150"/>
                  </a:lnTo>
                  <a:lnTo>
                    <a:pt x="5114925" y="3248025"/>
                  </a:lnTo>
                  <a:lnTo>
                    <a:pt x="5162550" y="3343275"/>
                  </a:lnTo>
                  <a:lnTo>
                    <a:pt x="5286375" y="3495675"/>
                  </a:lnTo>
                  <a:lnTo>
                    <a:pt x="5448300" y="3771900"/>
                  </a:lnTo>
                  <a:lnTo>
                    <a:pt x="5524500" y="4057650"/>
                  </a:lnTo>
                  <a:lnTo>
                    <a:pt x="5629275" y="4152900"/>
                  </a:lnTo>
                  <a:lnTo>
                    <a:pt x="5753100" y="4267200"/>
                  </a:lnTo>
                  <a:lnTo>
                    <a:pt x="5743575" y="4352925"/>
                  </a:lnTo>
                  <a:lnTo>
                    <a:pt x="5734050" y="4448175"/>
                  </a:lnTo>
                  <a:lnTo>
                    <a:pt x="5857875" y="4543425"/>
                  </a:lnTo>
                  <a:lnTo>
                    <a:pt x="6115050" y="4562475"/>
                  </a:lnTo>
                  <a:lnTo>
                    <a:pt x="6153150" y="4533900"/>
                  </a:lnTo>
                  <a:lnTo>
                    <a:pt x="6076950" y="4314825"/>
                  </a:lnTo>
                  <a:lnTo>
                    <a:pt x="5972175" y="4238625"/>
                  </a:lnTo>
                  <a:lnTo>
                    <a:pt x="5943600" y="4152900"/>
                  </a:lnTo>
                  <a:lnTo>
                    <a:pt x="5743575" y="3990975"/>
                  </a:lnTo>
                  <a:lnTo>
                    <a:pt x="5495925" y="3467100"/>
                  </a:lnTo>
                  <a:lnTo>
                    <a:pt x="5486400" y="3343275"/>
                  </a:lnTo>
                  <a:lnTo>
                    <a:pt x="5143500" y="2733675"/>
                  </a:lnTo>
                  <a:lnTo>
                    <a:pt x="4943475" y="2219325"/>
                  </a:lnTo>
                  <a:lnTo>
                    <a:pt x="5076825" y="1952625"/>
                  </a:lnTo>
                  <a:lnTo>
                    <a:pt x="5143500" y="1600200"/>
                  </a:lnTo>
                  <a:lnTo>
                    <a:pt x="5334000" y="1333500"/>
                  </a:lnTo>
                  <a:lnTo>
                    <a:pt x="5762625" y="1009650"/>
                  </a:lnTo>
                  <a:lnTo>
                    <a:pt x="5924550" y="971550"/>
                  </a:lnTo>
                  <a:lnTo>
                    <a:pt x="6057900" y="1057275"/>
                  </a:lnTo>
                  <a:lnTo>
                    <a:pt x="6181725" y="1238250"/>
                  </a:lnTo>
                  <a:lnTo>
                    <a:pt x="6257925" y="1457325"/>
                  </a:lnTo>
                  <a:lnTo>
                    <a:pt x="6305550" y="1562100"/>
                  </a:lnTo>
                  <a:lnTo>
                    <a:pt x="6296025" y="1628775"/>
                  </a:lnTo>
                  <a:lnTo>
                    <a:pt x="6276975" y="1724025"/>
                  </a:lnTo>
                  <a:lnTo>
                    <a:pt x="6391275" y="1838325"/>
                  </a:lnTo>
                  <a:lnTo>
                    <a:pt x="6429375" y="1819275"/>
                  </a:lnTo>
                  <a:lnTo>
                    <a:pt x="6486526" y="1749420"/>
                  </a:lnTo>
                  <a:lnTo>
                    <a:pt x="6505575" y="1752600"/>
                  </a:lnTo>
                  <a:lnTo>
                    <a:pt x="6524625" y="1828800"/>
                  </a:lnTo>
                  <a:lnTo>
                    <a:pt x="6667500" y="1847850"/>
                  </a:lnTo>
                  <a:lnTo>
                    <a:pt x="6810375" y="1781175"/>
                  </a:lnTo>
                  <a:lnTo>
                    <a:pt x="6819900" y="1704975"/>
                  </a:lnTo>
                  <a:lnTo>
                    <a:pt x="6829425" y="1371600"/>
                  </a:lnTo>
                  <a:lnTo>
                    <a:pt x="6858000" y="1295400"/>
                  </a:lnTo>
                  <a:lnTo>
                    <a:pt x="6819900" y="1257300"/>
                  </a:lnTo>
                  <a:lnTo>
                    <a:pt x="6819900" y="1219200"/>
                  </a:lnTo>
                  <a:lnTo>
                    <a:pt x="6886575" y="1152525"/>
                  </a:lnTo>
                  <a:lnTo>
                    <a:pt x="6877050" y="895350"/>
                  </a:lnTo>
                  <a:lnTo>
                    <a:pt x="6829425" y="485775"/>
                  </a:lnTo>
                  <a:lnTo>
                    <a:pt x="6781800" y="352425"/>
                  </a:lnTo>
                  <a:lnTo>
                    <a:pt x="6867525" y="209550"/>
                  </a:lnTo>
                  <a:lnTo>
                    <a:pt x="6819900" y="200025"/>
                  </a:lnTo>
                  <a:lnTo>
                    <a:pt x="6886575" y="0"/>
                  </a:lnTo>
                  <a:lnTo>
                    <a:pt x="6648450" y="238125"/>
                  </a:lnTo>
                  <a:lnTo>
                    <a:pt x="6486525" y="200025"/>
                  </a:lnTo>
                  <a:lnTo>
                    <a:pt x="6400800" y="200025"/>
                  </a:lnTo>
                  <a:lnTo>
                    <a:pt x="6315075" y="161925"/>
                  </a:lnTo>
                  <a:lnTo>
                    <a:pt x="6210300" y="171450"/>
                  </a:lnTo>
                  <a:lnTo>
                    <a:pt x="6067425" y="152400"/>
                  </a:lnTo>
                  <a:lnTo>
                    <a:pt x="6029325" y="161925"/>
                  </a:lnTo>
                  <a:lnTo>
                    <a:pt x="5981700" y="161925"/>
                  </a:lnTo>
                  <a:lnTo>
                    <a:pt x="5857875" y="180975"/>
                  </a:lnTo>
                  <a:lnTo>
                    <a:pt x="5638800" y="219075"/>
                  </a:lnTo>
                  <a:lnTo>
                    <a:pt x="5600700" y="219075"/>
                  </a:lnTo>
                  <a:lnTo>
                    <a:pt x="5486400" y="238125"/>
                  </a:lnTo>
                  <a:lnTo>
                    <a:pt x="5324475" y="219075"/>
                  </a:lnTo>
                  <a:lnTo>
                    <a:pt x="5257800" y="276225"/>
                  </a:lnTo>
                  <a:lnTo>
                    <a:pt x="5095875" y="314325"/>
                  </a:lnTo>
                  <a:lnTo>
                    <a:pt x="4848225" y="381000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正方形/長方形 45"/>
            <p:cNvSpPr/>
            <p:nvPr/>
          </p:nvSpPr>
          <p:spPr>
            <a:xfrm>
              <a:off x="4341240" y="6387840"/>
              <a:ext cx="1347840" cy="601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25"/>
            <p:cNvSpPr/>
            <p:nvPr/>
          </p:nvSpPr>
          <p:spPr>
            <a:xfrm>
              <a:off x="5736240" y="6310800"/>
              <a:ext cx="83520" cy="50544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26"/>
            <p:cNvSpPr/>
            <p:nvPr/>
          </p:nvSpPr>
          <p:spPr>
            <a:xfrm rot="5400000">
              <a:off x="5736960" y="6309720"/>
              <a:ext cx="83160" cy="50580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27"/>
            <p:cNvSpPr/>
            <p:nvPr/>
          </p:nvSpPr>
          <p:spPr>
            <a:xfrm rot="2700000">
              <a:off x="5735160" y="6311160"/>
              <a:ext cx="83160" cy="50580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28"/>
            <p:cNvSpPr/>
            <p:nvPr/>
          </p:nvSpPr>
          <p:spPr>
            <a:xfrm rot="8100000">
              <a:off x="5735880" y="6310440"/>
              <a:ext cx="83520" cy="50544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AutoShape 129"/>
            <p:cNvSpPr/>
            <p:nvPr/>
          </p:nvSpPr>
          <p:spPr>
            <a:xfrm>
              <a:off x="5482800" y="6269040"/>
              <a:ext cx="589680" cy="588960"/>
            </a:xfrm>
            <a:custGeom>
              <a:avLst/>
              <a:gdLst>
                <a:gd name="textAreaLeft" fmla="*/ 86400 w 589680"/>
                <a:gd name="textAreaRight" fmla="*/ 503280 w 589680"/>
                <a:gd name="textAreaTop" fmla="*/ 86040 h 588960"/>
                <a:gd name="textAreaBottom" fmla="*/ 502920 h 588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687" y="10800"/>
                  </a:moveTo>
                  <a:cubicBezTo>
                    <a:pt x="2687" y="15281"/>
                    <a:pt x="6319" y="18913"/>
                    <a:pt x="10800" y="18913"/>
                  </a:cubicBezTo>
                  <a:cubicBezTo>
                    <a:pt x="15281" y="18913"/>
                    <a:pt x="18913" y="15281"/>
                    <a:pt x="18913" y="10800"/>
                  </a:cubicBezTo>
                  <a:cubicBezTo>
                    <a:pt x="18913" y="6319"/>
                    <a:pt x="15281" y="2687"/>
                    <a:pt x="10800" y="2687"/>
                  </a:cubicBezTo>
                  <a:cubicBezTo>
                    <a:pt x="6319" y="2687"/>
                    <a:pt x="2687" y="6319"/>
                    <a:pt x="2687" y="10800"/>
                  </a:cubicBez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30"/>
            <p:cNvSpPr/>
            <p:nvPr/>
          </p:nvSpPr>
          <p:spPr>
            <a:xfrm>
              <a:off x="5693760" y="6479640"/>
              <a:ext cx="168840" cy="168840"/>
            </a:xfrm>
            <a:prstGeom prst="ellipse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6" name="グループ化 7"/>
          <p:cNvGrpSpPr/>
          <p:nvPr/>
        </p:nvGrpSpPr>
        <p:grpSpPr>
          <a:xfrm>
            <a:off x="7184880" y="6237360"/>
            <a:ext cx="427320" cy="620280"/>
            <a:chOff x="7184880" y="6237360"/>
            <a:chExt cx="427320" cy="620280"/>
          </a:xfrm>
        </p:grpSpPr>
        <p:sp>
          <p:nvSpPr>
            <p:cNvPr id="767" name="フリーフォーム 1"/>
            <p:cNvSpPr/>
            <p:nvPr/>
          </p:nvSpPr>
          <p:spPr>
            <a:xfrm>
              <a:off x="7185240" y="6237360"/>
              <a:ext cx="376920" cy="524520"/>
            </a:xfrm>
            <a:custGeom>
              <a:avLst/>
              <a:gdLst/>
              <a:ahLst/>
              <a:rect l="l" t="t" r="r" b="b"/>
              <a:pathLst>
                <a:path w="1364343" h="2046514">
                  <a:moveTo>
                    <a:pt x="551543" y="754743"/>
                  </a:moveTo>
                  <a:lnTo>
                    <a:pt x="537029" y="0"/>
                  </a:lnTo>
                  <a:lnTo>
                    <a:pt x="870857" y="0"/>
                  </a:lnTo>
                  <a:lnTo>
                    <a:pt x="870857" y="725714"/>
                  </a:lnTo>
                  <a:lnTo>
                    <a:pt x="1364343" y="696686"/>
                  </a:lnTo>
                  <a:lnTo>
                    <a:pt x="1364343" y="1045028"/>
                  </a:lnTo>
                  <a:lnTo>
                    <a:pt x="914400" y="1045028"/>
                  </a:lnTo>
                  <a:lnTo>
                    <a:pt x="928915" y="2017486"/>
                  </a:lnTo>
                  <a:lnTo>
                    <a:pt x="566057" y="2046514"/>
                  </a:lnTo>
                  <a:lnTo>
                    <a:pt x="624115" y="1074057"/>
                  </a:lnTo>
                  <a:lnTo>
                    <a:pt x="0" y="1117600"/>
                  </a:lnTo>
                  <a:lnTo>
                    <a:pt x="43543" y="711200"/>
                  </a:lnTo>
                  <a:lnTo>
                    <a:pt x="551543" y="7547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フローチャート : 論理積ゲート 181"/>
            <p:cNvSpPr/>
            <p:nvPr/>
          </p:nvSpPr>
          <p:spPr>
            <a:xfrm rot="16200000">
              <a:off x="7314480" y="6559920"/>
              <a:ext cx="168120" cy="42732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グループ化 7"/>
          <p:cNvGrpSpPr/>
          <p:nvPr/>
        </p:nvGrpSpPr>
        <p:grpSpPr>
          <a:xfrm>
            <a:off x="8048520" y="6237360"/>
            <a:ext cx="384120" cy="620280"/>
            <a:chOff x="8048520" y="6237360"/>
            <a:chExt cx="384120" cy="620280"/>
          </a:xfrm>
        </p:grpSpPr>
        <p:sp>
          <p:nvSpPr>
            <p:cNvPr id="770" name="フリーフォーム 1"/>
            <p:cNvSpPr/>
            <p:nvPr/>
          </p:nvSpPr>
          <p:spPr>
            <a:xfrm>
              <a:off x="8048880" y="6237360"/>
              <a:ext cx="339120" cy="524520"/>
            </a:xfrm>
            <a:custGeom>
              <a:avLst/>
              <a:gdLst/>
              <a:ahLst/>
              <a:rect l="l" t="t" r="r" b="b"/>
              <a:pathLst>
                <a:path w="1364343" h="2046514">
                  <a:moveTo>
                    <a:pt x="551543" y="754743"/>
                  </a:moveTo>
                  <a:lnTo>
                    <a:pt x="537029" y="0"/>
                  </a:lnTo>
                  <a:lnTo>
                    <a:pt x="870857" y="0"/>
                  </a:lnTo>
                  <a:lnTo>
                    <a:pt x="870857" y="725714"/>
                  </a:lnTo>
                  <a:lnTo>
                    <a:pt x="1364343" y="696686"/>
                  </a:lnTo>
                  <a:lnTo>
                    <a:pt x="1364343" y="1045028"/>
                  </a:lnTo>
                  <a:lnTo>
                    <a:pt x="914400" y="1045028"/>
                  </a:lnTo>
                  <a:lnTo>
                    <a:pt x="928915" y="2017486"/>
                  </a:lnTo>
                  <a:lnTo>
                    <a:pt x="566057" y="2046514"/>
                  </a:lnTo>
                  <a:lnTo>
                    <a:pt x="624115" y="1074057"/>
                  </a:lnTo>
                  <a:lnTo>
                    <a:pt x="0" y="1117600"/>
                  </a:lnTo>
                  <a:lnTo>
                    <a:pt x="43543" y="711200"/>
                  </a:lnTo>
                  <a:lnTo>
                    <a:pt x="551543" y="7547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フローチャート : 論理積ゲート 181"/>
            <p:cNvSpPr/>
            <p:nvPr/>
          </p:nvSpPr>
          <p:spPr>
            <a:xfrm rot="16200000">
              <a:off x="8156520" y="6581520"/>
              <a:ext cx="168120" cy="38412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グループ化 7"/>
          <p:cNvGrpSpPr/>
          <p:nvPr/>
        </p:nvGrpSpPr>
        <p:grpSpPr>
          <a:xfrm>
            <a:off x="8658360" y="6237360"/>
            <a:ext cx="426960" cy="620280"/>
            <a:chOff x="8658360" y="6237360"/>
            <a:chExt cx="426960" cy="620280"/>
          </a:xfrm>
        </p:grpSpPr>
        <p:sp>
          <p:nvSpPr>
            <p:cNvPr id="773" name="フリーフォーム 1"/>
            <p:cNvSpPr/>
            <p:nvPr/>
          </p:nvSpPr>
          <p:spPr>
            <a:xfrm>
              <a:off x="8658720" y="6237360"/>
              <a:ext cx="376560" cy="524520"/>
            </a:xfrm>
            <a:custGeom>
              <a:avLst/>
              <a:gdLst/>
              <a:ahLst/>
              <a:rect l="l" t="t" r="r" b="b"/>
              <a:pathLst>
                <a:path w="1364343" h="2046514">
                  <a:moveTo>
                    <a:pt x="551543" y="754743"/>
                  </a:moveTo>
                  <a:lnTo>
                    <a:pt x="537029" y="0"/>
                  </a:lnTo>
                  <a:lnTo>
                    <a:pt x="870857" y="0"/>
                  </a:lnTo>
                  <a:lnTo>
                    <a:pt x="870857" y="725714"/>
                  </a:lnTo>
                  <a:lnTo>
                    <a:pt x="1364343" y="696686"/>
                  </a:lnTo>
                  <a:lnTo>
                    <a:pt x="1364343" y="1045028"/>
                  </a:lnTo>
                  <a:lnTo>
                    <a:pt x="914400" y="1045028"/>
                  </a:lnTo>
                  <a:lnTo>
                    <a:pt x="928915" y="2017486"/>
                  </a:lnTo>
                  <a:lnTo>
                    <a:pt x="566057" y="2046514"/>
                  </a:lnTo>
                  <a:lnTo>
                    <a:pt x="624115" y="1074057"/>
                  </a:lnTo>
                  <a:lnTo>
                    <a:pt x="0" y="1117600"/>
                  </a:lnTo>
                  <a:lnTo>
                    <a:pt x="43543" y="711200"/>
                  </a:lnTo>
                  <a:lnTo>
                    <a:pt x="551543" y="7547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フローチャート : 論理積ゲート 181"/>
            <p:cNvSpPr/>
            <p:nvPr/>
          </p:nvSpPr>
          <p:spPr>
            <a:xfrm rot="16200000">
              <a:off x="8787600" y="6559920"/>
              <a:ext cx="168120" cy="42696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グループ化 7"/>
          <p:cNvGrpSpPr/>
          <p:nvPr/>
        </p:nvGrpSpPr>
        <p:grpSpPr>
          <a:xfrm>
            <a:off x="9274320" y="6237360"/>
            <a:ext cx="384120" cy="620280"/>
            <a:chOff x="9274320" y="6237360"/>
            <a:chExt cx="384120" cy="620280"/>
          </a:xfrm>
        </p:grpSpPr>
        <p:sp>
          <p:nvSpPr>
            <p:cNvPr id="776" name="フリーフォーム 1"/>
            <p:cNvSpPr/>
            <p:nvPr/>
          </p:nvSpPr>
          <p:spPr>
            <a:xfrm>
              <a:off x="9274680" y="6237360"/>
              <a:ext cx="339120" cy="524520"/>
            </a:xfrm>
            <a:custGeom>
              <a:avLst/>
              <a:gdLst/>
              <a:ahLst/>
              <a:rect l="l" t="t" r="r" b="b"/>
              <a:pathLst>
                <a:path w="1364343" h="2046514">
                  <a:moveTo>
                    <a:pt x="551543" y="754743"/>
                  </a:moveTo>
                  <a:lnTo>
                    <a:pt x="537029" y="0"/>
                  </a:lnTo>
                  <a:lnTo>
                    <a:pt x="870857" y="0"/>
                  </a:lnTo>
                  <a:lnTo>
                    <a:pt x="870857" y="725714"/>
                  </a:lnTo>
                  <a:lnTo>
                    <a:pt x="1364343" y="696686"/>
                  </a:lnTo>
                  <a:lnTo>
                    <a:pt x="1364343" y="1045028"/>
                  </a:lnTo>
                  <a:lnTo>
                    <a:pt x="914400" y="1045028"/>
                  </a:lnTo>
                  <a:lnTo>
                    <a:pt x="928915" y="2017486"/>
                  </a:lnTo>
                  <a:lnTo>
                    <a:pt x="566057" y="2046514"/>
                  </a:lnTo>
                  <a:lnTo>
                    <a:pt x="624115" y="1074057"/>
                  </a:lnTo>
                  <a:lnTo>
                    <a:pt x="0" y="1117600"/>
                  </a:lnTo>
                  <a:lnTo>
                    <a:pt x="43543" y="711200"/>
                  </a:lnTo>
                  <a:lnTo>
                    <a:pt x="551543" y="7547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フローチャート : 論理積ゲート 181"/>
            <p:cNvSpPr/>
            <p:nvPr/>
          </p:nvSpPr>
          <p:spPr>
            <a:xfrm rot="16200000">
              <a:off x="9382320" y="6581520"/>
              <a:ext cx="168120" cy="38412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Group 129"/>
          <p:cNvGrpSpPr/>
          <p:nvPr/>
        </p:nvGrpSpPr>
        <p:grpSpPr>
          <a:xfrm>
            <a:off x="7920" y="-81720"/>
            <a:ext cx="2185560" cy="1553760"/>
            <a:chOff x="7920" y="-81720"/>
            <a:chExt cx="2185560" cy="1553760"/>
          </a:xfrm>
        </p:grpSpPr>
        <p:sp>
          <p:nvSpPr>
            <p:cNvPr id="779" name="Freeform 130"/>
            <p:cNvSpPr/>
            <p:nvPr/>
          </p:nvSpPr>
          <p:spPr>
            <a:xfrm rot="19800000">
              <a:off x="1033200" y="1008000"/>
              <a:ext cx="237960" cy="2084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31"/>
            <p:cNvSpPr/>
            <p:nvPr/>
          </p:nvSpPr>
          <p:spPr>
            <a:xfrm flipH="1" rot="19800000">
              <a:off x="1316880" y="844560"/>
              <a:ext cx="237960" cy="2084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32"/>
            <p:cNvSpPr/>
            <p:nvPr/>
          </p:nvSpPr>
          <p:spPr>
            <a:xfrm flipH="1" rot="19800000">
              <a:off x="1067040" y="151920"/>
              <a:ext cx="1071360" cy="50544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33"/>
            <p:cNvSpPr/>
            <p:nvPr/>
          </p:nvSpPr>
          <p:spPr>
            <a:xfrm rot="19800000">
              <a:off x="62280" y="732240"/>
              <a:ext cx="1071360" cy="50544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34"/>
            <p:cNvSpPr/>
            <p:nvPr/>
          </p:nvSpPr>
          <p:spPr>
            <a:xfrm rot="19800000">
              <a:off x="1026360" y="545400"/>
              <a:ext cx="267480" cy="505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AutoShape 135"/>
            <p:cNvSpPr/>
            <p:nvPr/>
          </p:nvSpPr>
          <p:spPr>
            <a:xfrm rot="19800000">
              <a:off x="833400" y="340200"/>
              <a:ext cx="88920" cy="178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AutoShape 136"/>
            <p:cNvSpPr/>
            <p:nvPr/>
          </p:nvSpPr>
          <p:spPr>
            <a:xfrm rot="19800000">
              <a:off x="937080" y="280440"/>
              <a:ext cx="88920" cy="1782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Oval 137"/>
            <p:cNvSpPr/>
            <p:nvPr/>
          </p:nvSpPr>
          <p:spPr>
            <a:xfrm rot="19800000">
              <a:off x="855360" y="434160"/>
              <a:ext cx="326520" cy="2379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AutoShape 138"/>
            <p:cNvSpPr/>
            <p:nvPr/>
          </p:nvSpPr>
          <p:spPr>
            <a:xfrm rot="9000000">
              <a:off x="894960" y="561600"/>
              <a:ext cx="118440" cy="59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AutoShape 139"/>
            <p:cNvSpPr/>
            <p:nvPr/>
          </p:nvSpPr>
          <p:spPr>
            <a:xfrm rot="9000000">
              <a:off x="1023840" y="487080"/>
              <a:ext cx="118440" cy="59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29"/>
          <p:cNvGrpSpPr/>
          <p:nvPr/>
        </p:nvGrpSpPr>
        <p:grpSpPr>
          <a:xfrm>
            <a:off x="6561720" y="5082480"/>
            <a:ext cx="1394640" cy="991440"/>
            <a:chOff x="6561720" y="5082480"/>
            <a:chExt cx="1394640" cy="991440"/>
          </a:xfrm>
        </p:grpSpPr>
        <p:sp>
          <p:nvSpPr>
            <p:cNvPr id="790" name="Freeform 130"/>
            <p:cNvSpPr/>
            <p:nvPr/>
          </p:nvSpPr>
          <p:spPr>
            <a:xfrm rot="1800000">
              <a:off x="6968520" y="5673240"/>
              <a:ext cx="151920" cy="13320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31"/>
            <p:cNvSpPr/>
            <p:nvPr/>
          </p:nvSpPr>
          <p:spPr>
            <a:xfrm flipH="1" rot="1800000">
              <a:off x="7149600" y="5777640"/>
              <a:ext cx="151560" cy="13320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32"/>
            <p:cNvSpPr/>
            <p:nvPr/>
          </p:nvSpPr>
          <p:spPr>
            <a:xfrm flipH="1" rot="1800000">
              <a:off x="7237440" y="5601960"/>
              <a:ext cx="683640" cy="32292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33"/>
            <p:cNvSpPr/>
            <p:nvPr/>
          </p:nvSpPr>
          <p:spPr>
            <a:xfrm rot="1800000">
              <a:off x="6596280" y="5231520"/>
              <a:ext cx="683640" cy="32292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34"/>
            <p:cNvSpPr/>
            <p:nvPr/>
          </p:nvSpPr>
          <p:spPr>
            <a:xfrm rot="1800000">
              <a:off x="7134840" y="5482440"/>
              <a:ext cx="170640" cy="32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AutoShape 135"/>
            <p:cNvSpPr/>
            <p:nvPr/>
          </p:nvSpPr>
          <p:spPr>
            <a:xfrm rot="1800000">
              <a:off x="7306560" y="5313240"/>
              <a:ext cx="56520" cy="113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AutoShape 136"/>
            <p:cNvSpPr/>
            <p:nvPr/>
          </p:nvSpPr>
          <p:spPr>
            <a:xfrm rot="1800000">
              <a:off x="7372440" y="5351400"/>
              <a:ext cx="56880" cy="113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37"/>
            <p:cNvSpPr/>
            <p:nvPr/>
          </p:nvSpPr>
          <p:spPr>
            <a:xfrm rot="1800000">
              <a:off x="7206480" y="5411520"/>
              <a:ext cx="208440" cy="15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AutoShape 138"/>
            <p:cNvSpPr/>
            <p:nvPr/>
          </p:nvSpPr>
          <p:spPr>
            <a:xfrm rot="12600000">
              <a:off x="7232040" y="5445000"/>
              <a:ext cx="75600" cy="37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AutoShape 139"/>
            <p:cNvSpPr/>
            <p:nvPr/>
          </p:nvSpPr>
          <p:spPr>
            <a:xfrm rot="12600000">
              <a:off x="7314480" y="5492880"/>
              <a:ext cx="75600" cy="37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129"/>
          <p:cNvGrpSpPr/>
          <p:nvPr/>
        </p:nvGrpSpPr>
        <p:grpSpPr>
          <a:xfrm>
            <a:off x="1006920" y="5960880"/>
            <a:ext cx="845280" cy="601200"/>
            <a:chOff x="1006920" y="5960880"/>
            <a:chExt cx="845280" cy="601200"/>
          </a:xfrm>
        </p:grpSpPr>
        <p:sp>
          <p:nvSpPr>
            <p:cNvPr id="801" name="Freeform 130"/>
            <p:cNvSpPr/>
            <p:nvPr/>
          </p:nvSpPr>
          <p:spPr>
            <a:xfrm rot="1800000">
              <a:off x="1253520" y="6319080"/>
              <a:ext cx="92160" cy="806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31"/>
            <p:cNvSpPr/>
            <p:nvPr/>
          </p:nvSpPr>
          <p:spPr>
            <a:xfrm flipH="1" rot="1800000">
              <a:off x="1362600" y="6382440"/>
              <a:ext cx="91800" cy="806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32"/>
            <p:cNvSpPr/>
            <p:nvPr/>
          </p:nvSpPr>
          <p:spPr>
            <a:xfrm flipH="1" rot="1800000">
              <a:off x="1415880" y="6275520"/>
              <a:ext cx="414360" cy="19584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33"/>
            <p:cNvSpPr/>
            <p:nvPr/>
          </p:nvSpPr>
          <p:spPr>
            <a:xfrm rot="1800000">
              <a:off x="1027800" y="6051240"/>
              <a:ext cx="414360" cy="19584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Oval 134"/>
            <p:cNvSpPr/>
            <p:nvPr/>
          </p:nvSpPr>
          <p:spPr>
            <a:xfrm rot="1800000">
              <a:off x="1354680" y="6203160"/>
              <a:ext cx="103320" cy="195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AutoShape 135"/>
            <p:cNvSpPr/>
            <p:nvPr/>
          </p:nvSpPr>
          <p:spPr>
            <a:xfrm rot="1800000">
              <a:off x="1458360" y="6100200"/>
              <a:ext cx="34200" cy="69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AutoShape 136"/>
            <p:cNvSpPr/>
            <p:nvPr/>
          </p:nvSpPr>
          <p:spPr>
            <a:xfrm rot="1800000">
              <a:off x="1498680" y="6123600"/>
              <a:ext cx="34200" cy="69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760" bIns="-23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Oval 137"/>
            <p:cNvSpPr/>
            <p:nvPr/>
          </p:nvSpPr>
          <p:spPr>
            <a:xfrm rot="1800000">
              <a:off x="1398240" y="6160320"/>
              <a:ext cx="126360" cy="921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AutoShape 138"/>
            <p:cNvSpPr/>
            <p:nvPr/>
          </p:nvSpPr>
          <p:spPr>
            <a:xfrm rot="12600000">
              <a:off x="1413000" y="6180120"/>
              <a:ext cx="45720" cy="22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AutoShape 139"/>
            <p:cNvSpPr/>
            <p:nvPr/>
          </p:nvSpPr>
          <p:spPr>
            <a:xfrm rot="12600000">
              <a:off x="1463400" y="6208920"/>
              <a:ext cx="45720" cy="22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240" bIns="-3924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Group 129"/>
          <p:cNvGrpSpPr/>
          <p:nvPr/>
        </p:nvGrpSpPr>
        <p:grpSpPr>
          <a:xfrm>
            <a:off x="1127520" y="4555440"/>
            <a:ext cx="590040" cy="278640"/>
            <a:chOff x="1127520" y="4555440"/>
            <a:chExt cx="590040" cy="278640"/>
          </a:xfrm>
        </p:grpSpPr>
        <p:sp>
          <p:nvSpPr>
            <p:cNvPr id="812" name="Freeform 130"/>
            <p:cNvSpPr/>
            <p:nvPr/>
          </p:nvSpPr>
          <p:spPr>
            <a:xfrm rot="20700000">
              <a:off x="1376640" y="4773240"/>
              <a:ext cx="61200" cy="536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31"/>
            <p:cNvSpPr/>
            <p:nvPr/>
          </p:nvSpPr>
          <p:spPr>
            <a:xfrm flipH="1" rot="20700000">
              <a:off x="1458000" y="4751640"/>
              <a:ext cx="61200" cy="5364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32"/>
            <p:cNvSpPr/>
            <p:nvPr/>
          </p:nvSpPr>
          <p:spPr>
            <a:xfrm flipH="1" rot="20700000">
              <a:off x="1428480" y="4588920"/>
              <a:ext cx="276480" cy="13068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33"/>
            <p:cNvSpPr/>
            <p:nvPr/>
          </p:nvSpPr>
          <p:spPr>
            <a:xfrm rot="20700000">
              <a:off x="1139400" y="4666320"/>
              <a:ext cx="276480" cy="13068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Oval 134"/>
            <p:cNvSpPr/>
            <p:nvPr/>
          </p:nvSpPr>
          <p:spPr>
            <a:xfrm rot="20700000">
              <a:off x="1395720" y="4656960"/>
              <a:ext cx="69120" cy="13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AutoShape 135"/>
            <p:cNvSpPr/>
            <p:nvPr/>
          </p:nvSpPr>
          <p:spPr>
            <a:xfrm rot="20700000">
              <a:off x="1373400" y="4588200"/>
              <a:ext cx="22680" cy="46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AutoShape 136"/>
            <p:cNvSpPr/>
            <p:nvPr/>
          </p:nvSpPr>
          <p:spPr>
            <a:xfrm rot="20700000">
              <a:off x="1402920" y="4580280"/>
              <a:ext cx="23040" cy="46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137"/>
            <p:cNvSpPr/>
            <p:nvPr/>
          </p:nvSpPr>
          <p:spPr>
            <a:xfrm rot="20700000">
              <a:off x="1369440" y="4620960"/>
              <a:ext cx="84240" cy="61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AutoShape 138"/>
            <p:cNvSpPr/>
            <p:nvPr/>
          </p:nvSpPr>
          <p:spPr>
            <a:xfrm rot="9900000">
              <a:off x="1377360" y="4649400"/>
              <a:ext cx="30600" cy="15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AutoShape 139"/>
            <p:cNvSpPr/>
            <p:nvPr/>
          </p:nvSpPr>
          <p:spPr>
            <a:xfrm rot="9900000">
              <a:off x="1414440" y="4639320"/>
              <a:ext cx="30600" cy="1512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760" bIns="-4176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Group 129"/>
          <p:cNvGrpSpPr/>
          <p:nvPr/>
        </p:nvGrpSpPr>
        <p:grpSpPr>
          <a:xfrm>
            <a:off x="537840" y="2860200"/>
            <a:ext cx="1458360" cy="689400"/>
            <a:chOff x="537840" y="2860200"/>
            <a:chExt cx="1458360" cy="689400"/>
          </a:xfrm>
        </p:grpSpPr>
        <p:sp>
          <p:nvSpPr>
            <p:cNvPr id="823" name="Freeform 130"/>
            <p:cNvSpPr/>
            <p:nvPr/>
          </p:nvSpPr>
          <p:spPr>
            <a:xfrm rot="20700000">
              <a:off x="1154160" y="3399120"/>
              <a:ext cx="151920" cy="13320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131"/>
            <p:cNvSpPr/>
            <p:nvPr/>
          </p:nvSpPr>
          <p:spPr>
            <a:xfrm flipH="1" rot="20700000">
              <a:off x="1355040" y="3345480"/>
              <a:ext cx="151560" cy="13320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132"/>
            <p:cNvSpPr/>
            <p:nvPr/>
          </p:nvSpPr>
          <p:spPr>
            <a:xfrm flipH="1" rot="20700000">
              <a:off x="1282320" y="2943000"/>
              <a:ext cx="683280" cy="32292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133"/>
            <p:cNvSpPr/>
            <p:nvPr/>
          </p:nvSpPr>
          <p:spPr>
            <a:xfrm rot="20700000">
              <a:off x="567720" y="3134520"/>
              <a:ext cx="683280" cy="32292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134"/>
            <p:cNvSpPr/>
            <p:nvPr/>
          </p:nvSpPr>
          <p:spPr>
            <a:xfrm rot="20700000">
              <a:off x="1201680" y="3111840"/>
              <a:ext cx="170640" cy="32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AutoShape 135"/>
            <p:cNvSpPr/>
            <p:nvPr/>
          </p:nvSpPr>
          <p:spPr>
            <a:xfrm rot="20700000">
              <a:off x="1145880" y="2941920"/>
              <a:ext cx="56520" cy="113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AutoShape 136"/>
            <p:cNvSpPr/>
            <p:nvPr/>
          </p:nvSpPr>
          <p:spPr>
            <a:xfrm rot="20700000">
              <a:off x="1218960" y="2922480"/>
              <a:ext cx="56880" cy="113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137"/>
            <p:cNvSpPr/>
            <p:nvPr/>
          </p:nvSpPr>
          <p:spPr>
            <a:xfrm rot="20700000">
              <a:off x="1135800" y="3022920"/>
              <a:ext cx="208440" cy="15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AutoShape 138"/>
            <p:cNvSpPr/>
            <p:nvPr/>
          </p:nvSpPr>
          <p:spPr>
            <a:xfrm rot="9900000">
              <a:off x="1156320" y="3092400"/>
              <a:ext cx="75600" cy="37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AutoShape 139"/>
            <p:cNvSpPr/>
            <p:nvPr/>
          </p:nvSpPr>
          <p:spPr>
            <a:xfrm rot="9900000">
              <a:off x="1248120" y="3067920"/>
              <a:ext cx="75600" cy="37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Group 129"/>
          <p:cNvGrpSpPr/>
          <p:nvPr/>
        </p:nvGrpSpPr>
        <p:grpSpPr>
          <a:xfrm>
            <a:off x="8053560" y="4579560"/>
            <a:ext cx="1394640" cy="991440"/>
            <a:chOff x="8053560" y="4579560"/>
            <a:chExt cx="1394640" cy="991440"/>
          </a:xfrm>
        </p:grpSpPr>
        <p:sp>
          <p:nvSpPr>
            <p:cNvPr id="834" name="Freeform 130"/>
            <p:cNvSpPr/>
            <p:nvPr/>
          </p:nvSpPr>
          <p:spPr>
            <a:xfrm rot="19800000">
              <a:off x="8707680" y="5274720"/>
              <a:ext cx="151920" cy="13320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131"/>
            <p:cNvSpPr/>
            <p:nvPr/>
          </p:nvSpPr>
          <p:spPr>
            <a:xfrm flipH="1" rot="19800000">
              <a:off x="8888760" y="5170680"/>
              <a:ext cx="151560" cy="133200"/>
            </a:xfrm>
            <a:custGeom>
              <a:avLst/>
              <a:gdLst/>
              <a:ahLst/>
              <a:rect l="l" t="t" r="r" b="b"/>
              <a:pathLst>
                <a:path w="363" h="318">
                  <a:moveTo>
                    <a:pt x="318" y="0"/>
                  </a:moveTo>
                  <a:lnTo>
                    <a:pt x="227" y="136"/>
                  </a:lnTo>
                  <a:lnTo>
                    <a:pt x="0" y="136"/>
                  </a:lnTo>
                  <a:lnTo>
                    <a:pt x="181" y="182"/>
                  </a:lnTo>
                  <a:lnTo>
                    <a:pt x="91" y="318"/>
                  </a:lnTo>
                  <a:lnTo>
                    <a:pt x="227" y="227"/>
                  </a:lnTo>
                  <a:lnTo>
                    <a:pt x="272" y="318"/>
                  </a:lnTo>
                  <a:lnTo>
                    <a:pt x="272" y="182"/>
                  </a:lnTo>
                  <a:lnTo>
                    <a:pt x="363" y="46"/>
                  </a:lnTo>
                  <a:lnTo>
                    <a:pt x="3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132"/>
            <p:cNvSpPr/>
            <p:nvPr/>
          </p:nvSpPr>
          <p:spPr>
            <a:xfrm flipH="1" rot="19800000">
              <a:off x="8728920" y="4728600"/>
              <a:ext cx="683640" cy="32292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133"/>
            <p:cNvSpPr/>
            <p:nvPr/>
          </p:nvSpPr>
          <p:spPr>
            <a:xfrm rot="19800000">
              <a:off x="8088480" y="5098680"/>
              <a:ext cx="683640" cy="322920"/>
            </a:xfrm>
            <a:custGeom>
              <a:avLst/>
              <a:gdLst/>
              <a:ahLst/>
              <a:rect l="l" t="t" r="r" b="b"/>
              <a:pathLst>
                <a:path w="1633" h="771">
                  <a:moveTo>
                    <a:pt x="1633" y="408"/>
                  </a:moveTo>
                  <a:lnTo>
                    <a:pt x="998" y="0"/>
                  </a:lnTo>
                  <a:lnTo>
                    <a:pt x="0" y="589"/>
                  </a:lnTo>
                  <a:lnTo>
                    <a:pt x="453" y="544"/>
                  </a:lnTo>
                  <a:lnTo>
                    <a:pt x="589" y="771"/>
                  </a:lnTo>
                  <a:lnTo>
                    <a:pt x="907" y="499"/>
                  </a:lnTo>
                  <a:lnTo>
                    <a:pt x="1134" y="680"/>
                  </a:lnTo>
                  <a:lnTo>
                    <a:pt x="1633" y="4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34"/>
            <p:cNvSpPr/>
            <p:nvPr/>
          </p:nvSpPr>
          <p:spPr>
            <a:xfrm rot="19800000">
              <a:off x="8703000" y="4979520"/>
              <a:ext cx="170640" cy="32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AutoShape 135"/>
            <p:cNvSpPr/>
            <p:nvPr/>
          </p:nvSpPr>
          <p:spPr>
            <a:xfrm rot="19800000">
              <a:off x="8580240" y="4848120"/>
              <a:ext cx="56520" cy="113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AutoShape 136"/>
            <p:cNvSpPr/>
            <p:nvPr/>
          </p:nvSpPr>
          <p:spPr>
            <a:xfrm rot="19800000">
              <a:off x="8646120" y="4809960"/>
              <a:ext cx="56880" cy="1137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137"/>
            <p:cNvSpPr/>
            <p:nvPr/>
          </p:nvSpPr>
          <p:spPr>
            <a:xfrm rot="19800000">
              <a:off x="8593920" y="4908240"/>
              <a:ext cx="208440" cy="15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AutoShape 138"/>
            <p:cNvSpPr/>
            <p:nvPr/>
          </p:nvSpPr>
          <p:spPr>
            <a:xfrm rot="9000000">
              <a:off x="8619480" y="4989600"/>
              <a:ext cx="75600" cy="37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AutoShape 139"/>
            <p:cNvSpPr/>
            <p:nvPr/>
          </p:nvSpPr>
          <p:spPr>
            <a:xfrm rot="9000000">
              <a:off x="8701920" y="4942080"/>
              <a:ext cx="75600" cy="374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8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Freeform 15"/>
          <p:cNvSpPr/>
          <p:nvPr/>
        </p:nvSpPr>
        <p:spPr>
          <a:xfrm>
            <a:off x="2289240" y="4581360"/>
            <a:ext cx="1698480" cy="2276640"/>
          </a:xfrm>
          <a:custGeom>
            <a:avLst/>
            <a:gdLst/>
            <a:ahLst/>
            <a:rect l="l" t="t" r="r" b="b"/>
            <a:pathLst>
              <a:path w="2268" h="3039">
                <a:moveTo>
                  <a:pt x="1270" y="3039"/>
                </a:moveTo>
                <a:lnTo>
                  <a:pt x="408" y="3039"/>
                </a:lnTo>
                <a:lnTo>
                  <a:pt x="680" y="2222"/>
                </a:lnTo>
                <a:lnTo>
                  <a:pt x="363" y="1905"/>
                </a:lnTo>
                <a:lnTo>
                  <a:pt x="0" y="1088"/>
                </a:lnTo>
                <a:lnTo>
                  <a:pt x="454" y="1769"/>
                </a:lnTo>
                <a:lnTo>
                  <a:pt x="771" y="2041"/>
                </a:lnTo>
                <a:lnTo>
                  <a:pt x="816" y="1859"/>
                </a:lnTo>
                <a:lnTo>
                  <a:pt x="907" y="1179"/>
                </a:lnTo>
                <a:lnTo>
                  <a:pt x="590" y="952"/>
                </a:lnTo>
                <a:lnTo>
                  <a:pt x="499" y="544"/>
                </a:lnTo>
                <a:lnTo>
                  <a:pt x="680" y="907"/>
                </a:lnTo>
                <a:lnTo>
                  <a:pt x="953" y="1043"/>
                </a:lnTo>
                <a:lnTo>
                  <a:pt x="998" y="725"/>
                </a:lnTo>
                <a:lnTo>
                  <a:pt x="907" y="0"/>
                </a:lnTo>
                <a:lnTo>
                  <a:pt x="1225" y="725"/>
                </a:lnTo>
                <a:lnTo>
                  <a:pt x="1315" y="1451"/>
                </a:lnTo>
                <a:lnTo>
                  <a:pt x="1633" y="1360"/>
                </a:lnTo>
                <a:lnTo>
                  <a:pt x="2041" y="1043"/>
                </a:lnTo>
                <a:lnTo>
                  <a:pt x="2132" y="771"/>
                </a:lnTo>
                <a:lnTo>
                  <a:pt x="2132" y="1088"/>
                </a:lnTo>
                <a:lnTo>
                  <a:pt x="1996" y="1224"/>
                </a:lnTo>
                <a:lnTo>
                  <a:pt x="2268" y="1224"/>
                </a:lnTo>
                <a:lnTo>
                  <a:pt x="1860" y="1315"/>
                </a:lnTo>
                <a:lnTo>
                  <a:pt x="1678" y="1496"/>
                </a:lnTo>
                <a:lnTo>
                  <a:pt x="1270" y="1678"/>
                </a:lnTo>
                <a:lnTo>
                  <a:pt x="1179" y="2358"/>
                </a:lnTo>
                <a:lnTo>
                  <a:pt x="1270" y="30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16"/>
          <p:cNvSpPr/>
          <p:nvPr/>
        </p:nvSpPr>
        <p:spPr>
          <a:xfrm>
            <a:off x="461880" y="2732040"/>
            <a:ext cx="2416320" cy="4125960"/>
          </a:xfrm>
          <a:custGeom>
            <a:avLst/>
            <a:gdLst/>
            <a:ahLst/>
            <a:rect l="l" t="t" r="r" b="b"/>
            <a:pathLst>
              <a:path w="2177" h="3719">
                <a:moveTo>
                  <a:pt x="953" y="3719"/>
                </a:moveTo>
                <a:lnTo>
                  <a:pt x="1497" y="3719"/>
                </a:lnTo>
                <a:lnTo>
                  <a:pt x="1089" y="2903"/>
                </a:lnTo>
                <a:lnTo>
                  <a:pt x="953" y="2268"/>
                </a:lnTo>
                <a:lnTo>
                  <a:pt x="1769" y="1995"/>
                </a:lnTo>
                <a:lnTo>
                  <a:pt x="2177" y="1496"/>
                </a:lnTo>
                <a:lnTo>
                  <a:pt x="1814" y="1814"/>
                </a:lnTo>
                <a:lnTo>
                  <a:pt x="1769" y="1496"/>
                </a:lnTo>
                <a:lnTo>
                  <a:pt x="1724" y="1905"/>
                </a:lnTo>
                <a:lnTo>
                  <a:pt x="1542" y="1995"/>
                </a:lnTo>
                <a:lnTo>
                  <a:pt x="953" y="2131"/>
                </a:lnTo>
                <a:lnTo>
                  <a:pt x="907" y="1905"/>
                </a:lnTo>
                <a:lnTo>
                  <a:pt x="907" y="1088"/>
                </a:lnTo>
                <a:lnTo>
                  <a:pt x="1134" y="816"/>
                </a:lnTo>
                <a:lnTo>
                  <a:pt x="1270" y="317"/>
                </a:lnTo>
                <a:lnTo>
                  <a:pt x="1043" y="816"/>
                </a:lnTo>
                <a:lnTo>
                  <a:pt x="907" y="952"/>
                </a:lnTo>
                <a:lnTo>
                  <a:pt x="907" y="499"/>
                </a:lnTo>
                <a:lnTo>
                  <a:pt x="1043" y="0"/>
                </a:lnTo>
                <a:lnTo>
                  <a:pt x="817" y="453"/>
                </a:lnTo>
                <a:lnTo>
                  <a:pt x="726" y="1814"/>
                </a:lnTo>
                <a:lnTo>
                  <a:pt x="771" y="2630"/>
                </a:lnTo>
                <a:lnTo>
                  <a:pt x="499" y="2540"/>
                </a:lnTo>
                <a:lnTo>
                  <a:pt x="0" y="1995"/>
                </a:lnTo>
                <a:lnTo>
                  <a:pt x="363" y="2630"/>
                </a:lnTo>
                <a:lnTo>
                  <a:pt x="817" y="2993"/>
                </a:lnTo>
                <a:lnTo>
                  <a:pt x="953" y="37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グループ化 1"/>
          <p:cNvGrpSpPr/>
          <p:nvPr/>
        </p:nvGrpSpPr>
        <p:grpSpPr>
          <a:xfrm>
            <a:off x="4736880" y="4565520"/>
            <a:ext cx="4824720" cy="2292480"/>
            <a:chOff x="4736880" y="4565520"/>
            <a:chExt cx="4824720" cy="2292480"/>
          </a:xfrm>
        </p:grpSpPr>
        <p:sp>
          <p:nvSpPr>
            <p:cNvPr id="848" name="Oval 106"/>
            <p:cNvSpPr/>
            <p:nvPr/>
          </p:nvSpPr>
          <p:spPr>
            <a:xfrm>
              <a:off x="8327520" y="4565520"/>
              <a:ext cx="176760" cy="35388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Oval 107"/>
            <p:cNvSpPr/>
            <p:nvPr/>
          </p:nvSpPr>
          <p:spPr>
            <a:xfrm>
              <a:off x="8152560" y="4740480"/>
              <a:ext cx="528480" cy="353880"/>
            </a:xfrm>
            <a:prstGeom prst="ellipse">
              <a:avLst/>
            </a:prstGeom>
            <a:solidFill>
              <a:srgbClr val="008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Oval 108"/>
            <p:cNvSpPr/>
            <p:nvPr/>
          </p:nvSpPr>
          <p:spPr>
            <a:xfrm>
              <a:off x="8681400" y="5006880"/>
              <a:ext cx="880200" cy="1322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Oval 109"/>
            <p:cNvSpPr/>
            <p:nvPr/>
          </p:nvSpPr>
          <p:spPr>
            <a:xfrm>
              <a:off x="7357680" y="5006880"/>
              <a:ext cx="880200" cy="132228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Oval 110"/>
            <p:cNvSpPr/>
            <p:nvPr/>
          </p:nvSpPr>
          <p:spPr>
            <a:xfrm>
              <a:off x="7622280" y="4917240"/>
              <a:ext cx="880200" cy="15012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Oval 111"/>
            <p:cNvSpPr/>
            <p:nvPr/>
          </p:nvSpPr>
          <p:spPr>
            <a:xfrm>
              <a:off x="8417160" y="4917240"/>
              <a:ext cx="880200" cy="150120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Oval 112"/>
            <p:cNvSpPr/>
            <p:nvPr/>
          </p:nvSpPr>
          <p:spPr>
            <a:xfrm>
              <a:off x="7975800" y="4829760"/>
              <a:ext cx="882360" cy="1676160"/>
            </a:xfrm>
            <a:prstGeom prst="ellipse">
              <a:avLst/>
            </a:prstGeom>
            <a:solidFill>
              <a:srgbClr val="ff66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Oval 123"/>
            <p:cNvSpPr/>
            <p:nvPr/>
          </p:nvSpPr>
          <p:spPr>
            <a:xfrm>
              <a:off x="8152560" y="5181840"/>
              <a:ext cx="528480" cy="52884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Oval 131"/>
            <p:cNvSpPr/>
            <p:nvPr/>
          </p:nvSpPr>
          <p:spPr>
            <a:xfrm>
              <a:off x="8945640" y="5271120"/>
              <a:ext cx="353520" cy="35388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Oval 132"/>
            <p:cNvSpPr/>
            <p:nvPr/>
          </p:nvSpPr>
          <p:spPr>
            <a:xfrm>
              <a:off x="7534800" y="5271120"/>
              <a:ext cx="353520" cy="35388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フリーフォーム 14"/>
            <p:cNvSpPr/>
            <p:nvPr/>
          </p:nvSpPr>
          <p:spPr>
            <a:xfrm flipH="1">
              <a:off x="4736520" y="5405400"/>
              <a:ext cx="2336040" cy="1452600"/>
            </a:xfrm>
            <a:custGeom>
              <a:avLst/>
              <a:gdLst/>
              <a:ahLst/>
              <a:rect l="l" t="t" r="r" b="b"/>
              <a:pathLst>
                <a:path w="6886575" h="4648200">
                  <a:moveTo>
                    <a:pt x="4848225" y="381000"/>
                  </a:moveTo>
                  <a:lnTo>
                    <a:pt x="4371975" y="428625"/>
                  </a:lnTo>
                  <a:lnTo>
                    <a:pt x="3419475" y="438150"/>
                  </a:lnTo>
                  <a:lnTo>
                    <a:pt x="3295650" y="495300"/>
                  </a:lnTo>
                  <a:lnTo>
                    <a:pt x="3181350" y="581025"/>
                  </a:lnTo>
                  <a:lnTo>
                    <a:pt x="2933700" y="600075"/>
                  </a:lnTo>
                  <a:lnTo>
                    <a:pt x="2724150" y="571500"/>
                  </a:lnTo>
                  <a:lnTo>
                    <a:pt x="2628900" y="561975"/>
                  </a:lnTo>
                  <a:lnTo>
                    <a:pt x="2619375" y="609600"/>
                  </a:lnTo>
                  <a:lnTo>
                    <a:pt x="2419350" y="647700"/>
                  </a:lnTo>
                  <a:lnTo>
                    <a:pt x="2286000" y="647700"/>
                  </a:lnTo>
                  <a:lnTo>
                    <a:pt x="1838325" y="523875"/>
                  </a:lnTo>
                  <a:lnTo>
                    <a:pt x="1628775" y="552450"/>
                  </a:lnTo>
                  <a:lnTo>
                    <a:pt x="933450" y="704850"/>
                  </a:lnTo>
                  <a:lnTo>
                    <a:pt x="866775" y="819150"/>
                  </a:lnTo>
                  <a:lnTo>
                    <a:pt x="714375" y="942975"/>
                  </a:lnTo>
                  <a:lnTo>
                    <a:pt x="542925" y="1038225"/>
                  </a:lnTo>
                  <a:lnTo>
                    <a:pt x="285750" y="1628775"/>
                  </a:lnTo>
                  <a:lnTo>
                    <a:pt x="295275" y="1885950"/>
                  </a:lnTo>
                  <a:lnTo>
                    <a:pt x="161925" y="2238375"/>
                  </a:lnTo>
                  <a:lnTo>
                    <a:pt x="142875" y="2495550"/>
                  </a:lnTo>
                  <a:lnTo>
                    <a:pt x="104775" y="2657475"/>
                  </a:lnTo>
                  <a:lnTo>
                    <a:pt x="114300" y="2971800"/>
                  </a:lnTo>
                  <a:lnTo>
                    <a:pt x="85725" y="3419475"/>
                  </a:lnTo>
                  <a:lnTo>
                    <a:pt x="0" y="3629025"/>
                  </a:lnTo>
                  <a:lnTo>
                    <a:pt x="142875" y="3476625"/>
                  </a:lnTo>
                  <a:lnTo>
                    <a:pt x="133350" y="3609975"/>
                  </a:lnTo>
                  <a:lnTo>
                    <a:pt x="295275" y="3390900"/>
                  </a:lnTo>
                  <a:lnTo>
                    <a:pt x="304800" y="3600450"/>
                  </a:lnTo>
                  <a:lnTo>
                    <a:pt x="390525" y="3238500"/>
                  </a:lnTo>
                  <a:lnTo>
                    <a:pt x="428625" y="3400425"/>
                  </a:lnTo>
                  <a:lnTo>
                    <a:pt x="476250" y="2952750"/>
                  </a:lnTo>
                  <a:lnTo>
                    <a:pt x="590550" y="2571750"/>
                  </a:lnTo>
                  <a:lnTo>
                    <a:pt x="657225" y="2171700"/>
                  </a:lnTo>
                  <a:lnTo>
                    <a:pt x="685800" y="1828800"/>
                  </a:lnTo>
                  <a:lnTo>
                    <a:pt x="685800" y="1685925"/>
                  </a:lnTo>
                  <a:lnTo>
                    <a:pt x="781050" y="1952625"/>
                  </a:lnTo>
                  <a:lnTo>
                    <a:pt x="762000" y="1685925"/>
                  </a:lnTo>
                  <a:lnTo>
                    <a:pt x="933450" y="2124075"/>
                  </a:lnTo>
                  <a:lnTo>
                    <a:pt x="1038225" y="2257425"/>
                  </a:lnTo>
                  <a:lnTo>
                    <a:pt x="933450" y="2428875"/>
                  </a:lnTo>
                  <a:lnTo>
                    <a:pt x="790575" y="2600325"/>
                  </a:lnTo>
                  <a:lnTo>
                    <a:pt x="676275" y="2686050"/>
                  </a:lnTo>
                  <a:lnTo>
                    <a:pt x="609600" y="2781300"/>
                  </a:lnTo>
                  <a:lnTo>
                    <a:pt x="628650" y="3228975"/>
                  </a:lnTo>
                  <a:lnTo>
                    <a:pt x="657225" y="3457575"/>
                  </a:lnTo>
                  <a:lnTo>
                    <a:pt x="695325" y="3629025"/>
                  </a:lnTo>
                  <a:lnTo>
                    <a:pt x="647700" y="3752850"/>
                  </a:lnTo>
                  <a:lnTo>
                    <a:pt x="628650" y="3838575"/>
                  </a:lnTo>
                  <a:lnTo>
                    <a:pt x="552450" y="3981450"/>
                  </a:lnTo>
                  <a:lnTo>
                    <a:pt x="495300" y="3914775"/>
                  </a:lnTo>
                  <a:lnTo>
                    <a:pt x="352425" y="3933825"/>
                  </a:lnTo>
                  <a:lnTo>
                    <a:pt x="238125" y="4219575"/>
                  </a:lnTo>
                  <a:lnTo>
                    <a:pt x="438150" y="4200525"/>
                  </a:lnTo>
                  <a:lnTo>
                    <a:pt x="523875" y="4124325"/>
                  </a:lnTo>
                  <a:lnTo>
                    <a:pt x="742950" y="3990975"/>
                  </a:lnTo>
                  <a:lnTo>
                    <a:pt x="847725" y="3943350"/>
                  </a:lnTo>
                  <a:lnTo>
                    <a:pt x="866775" y="3771900"/>
                  </a:lnTo>
                  <a:lnTo>
                    <a:pt x="857250" y="3143250"/>
                  </a:lnTo>
                  <a:lnTo>
                    <a:pt x="885825" y="3048000"/>
                  </a:lnTo>
                  <a:lnTo>
                    <a:pt x="1085850" y="2800350"/>
                  </a:lnTo>
                  <a:lnTo>
                    <a:pt x="1038225" y="3057525"/>
                  </a:lnTo>
                  <a:lnTo>
                    <a:pt x="990600" y="3200400"/>
                  </a:lnTo>
                  <a:lnTo>
                    <a:pt x="1162050" y="3562350"/>
                  </a:lnTo>
                  <a:lnTo>
                    <a:pt x="1390650" y="4057650"/>
                  </a:lnTo>
                  <a:lnTo>
                    <a:pt x="1447800" y="4295775"/>
                  </a:lnTo>
                  <a:lnTo>
                    <a:pt x="1590675" y="4381500"/>
                  </a:lnTo>
                  <a:lnTo>
                    <a:pt x="1685925" y="4467225"/>
                  </a:lnTo>
                  <a:lnTo>
                    <a:pt x="1676400" y="4552950"/>
                  </a:lnTo>
                  <a:lnTo>
                    <a:pt x="1752600" y="4648200"/>
                  </a:lnTo>
                  <a:lnTo>
                    <a:pt x="1933575" y="4638675"/>
                  </a:lnTo>
                  <a:lnTo>
                    <a:pt x="2085975" y="4562475"/>
                  </a:lnTo>
                  <a:lnTo>
                    <a:pt x="1943100" y="4381500"/>
                  </a:lnTo>
                  <a:lnTo>
                    <a:pt x="1781175" y="4314825"/>
                  </a:lnTo>
                  <a:lnTo>
                    <a:pt x="1628775" y="4067175"/>
                  </a:lnTo>
                  <a:lnTo>
                    <a:pt x="1400175" y="3552825"/>
                  </a:lnTo>
                  <a:lnTo>
                    <a:pt x="1371600" y="3362325"/>
                  </a:lnTo>
                  <a:lnTo>
                    <a:pt x="1438275" y="3038475"/>
                  </a:lnTo>
                  <a:lnTo>
                    <a:pt x="1552575" y="2762250"/>
                  </a:lnTo>
                  <a:lnTo>
                    <a:pt x="1790700" y="2171700"/>
                  </a:lnTo>
                  <a:lnTo>
                    <a:pt x="1895475" y="2152650"/>
                  </a:lnTo>
                  <a:lnTo>
                    <a:pt x="1962150" y="2038350"/>
                  </a:lnTo>
                  <a:lnTo>
                    <a:pt x="2019300" y="1905000"/>
                  </a:lnTo>
                  <a:lnTo>
                    <a:pt x="2114550" y="1914525"/>
                  </a:lnTo>
                  <a:lnTo>
                    <a:pt x="2600325" y="2143125"/>
                  </a:lnTo>
                  <a:lnTo>
                    <a:pt x="2990850" y="2238375"/>
                  </a:lnTo>
                  <a:lnTo>
                    <a:pt x="3352800" y="2238375"/>
                  </a:lnTo>
                  <a:lnTo>
                    <a:pt x="3457575" y="2247900"/>
                  </a:lnTo>
                  <a:lnTo>
                    <a:pt x="3505200" y="2266950"/>
                  </a:lnTo>
                  <a:lnTo>
                    <a:pt x="3676650" y="2257425"/>
                  </a:lnTo>
                  <a:lnTo>
                    <a:pt x="3800475" y="2343150"/>
                  </a:lnTo>
                  <a:lnTo>
                    <a:pt x="3571875" y="3152775"/>
                  </a:lnTo>
                  <a:lnTo>
                    <a:pt x="3590925" y="3286125"/>
                  </a:lnTo>
                  <a:lnTo>
                    <a:pt x="3381375" y="3790950"/>
                  </a:lnTo>
                  <a:lnTo>
                    <a:pt x="3352800" y="3971925"/>
                  </a:lnTo>
                  <a:lnTo>
                    <a:pt x="3457575" y="4143375"/>
                  </a:lnTo>
                  <a:lnTo>
                    <a:pt x="3467100" y="4229100"/>
                  </a:lnTo>
                  <a:lnTo>
                    <a:pt x="3438525" y="4371975"/>
                  </a:lnTo>
                  <a:lnTo>
                    <a:pt x="3609975" y="4467225"/>
                  </a:lnTo>
                  <a:lnTo>
                    <a:pt x="3724275" y="4448175"/>
                  </a:lnTo>
                  <a:lnTo>
                    <a:pt x="3810000" y="4371975"/>
                  </a:lnTo>
                  <a:lnTo>
                    <a:pt x="3667125" y="4200525"/>
                  </a:lnTo>
                  <a:lnTo>
                    <a:pt x="3638550" y="4162425"/>
                  </a:lnTo>
                  <a:lnTo>
                    <a:pt x="3600450" y="3924300"/>
                  </a:lnTo>
                  <a:lnTo>
                    <a:pt x="3648075" y="3657600"/>
                  </a:lnTo>
                  <a:lnTo>
                    <a:pt x="3714750" y="3429000"/>
                  </a:lnTo>
                  <a:lnTo>
                    <a:pt x="3800475" y="3381375"/>
                  </a:lnTo>
                  <a:lnTo>
                    <a:pt x="4029075" y="2809875"/>
                  </a:lnTo>
                  <a:lnTo>
                    <a:pt x="4286250" y="2362200"/>
                  </a:lnTo>
                  <a:lnTo>
                    <a:pt x="4362450" y="2457450"/>
                  </a:lnTo>
                  <a:lnTo>
                    <a:pt x="4524375" y="2543175"/>
                  </a:lnTo>
                  <a:lnTo>
                    <a:pt x="4657725" y="2695575"/>
                  </a:lnTo>
                  <a:lnTo>
                    <a:pt x="5000625" y="3105150"/>
                  </a:lnTo>
                  <a:lnTo>
                    <a:pt x="5114925" y="3248025"/>
                  </a:lnTo>
                  <a:lnTo>
                    <a:pt x="5162550" y="3343275"/>
                  </a:lnTo>
                  <a:lnTo>
                    <a:pt x="5286375" y="3495675"/>
                  </a:lnTo>
                  <a:lnTo>
                    <a:pt x="5448300" y="3771900"/>
                  </a:lnTo>
                  <a:lnTo>
                    <a:pt x="5524500" y="4057650"/>
                  </a:lnTo>
                  <a:lnTo>
                    <a:pt x="5629275" y="4152900"/>
                  </a:lnTo>
                  <a:lnTo>
                    <a:pt x="5753100" y="4267200"/>
                  </a:lnTo>
                  <a:lnTo>
                    <a:pt x="5743575" y="4352925"/>
                  </a:lnTo>
                  <a:lnTo>
                    <a:pt x="5734050" y="4448175"/>
                  </a:lnTo>
                  <a:lnTo>
                    <a:pt x="5857875" y="4543425"/>
                  </a:lnTo>
                  <a:lnTo>
                    <a:pt x="6115050" y="4562475"/>
                  </a:lnTo>
                  <a:lnTo>
                    <a:pt x="6153150" y="4533900"/>
                  </a:lnTo>
                  <a:lnTo>
                    <a:pt x="6076950" y="4314825"/>
                  </a:lnTo>
                  <a:lnTo>
                    <a:pt x="5972175" y="4238625"/>
                  </a:lnTo>
                  <a:lnTo>
                    <a:pt x="5943600" y="4152900"/>
                  </a:lnTo>
                  <a:lnTo>
                    <a:pt x="5743575" y="3990975"/>
                  </a:lnTo>
                  <a:lnTo>
                    <a:pt x="5495925" y="3467100"/>
                  </a:lnTo>
                  <a:lnTo>
                    <a:pt x="5486400" y="3343275"/>
                  </a:lnTo>
                  <a:lnTo>
                    <a:pt x="5143500" y="2733675"/>
                  </a:lnTo>
                  <a:lnTo>
                    <a:pt x="4943475" y="2219325"/>
                  </a:lnTo>
                  <a:lnTo>
                    <a:pt x="5076825" y="1952625"/>
                  </a:lnTo>
                  <a:lnTo>
                    <a:pt x="5143500" y="1600200"/>
                  </a:lnTo>
                  <a:lnTo>
                    <a:pt x="5334000" y="1333500"/>
                  </a:lnTo>
                  <a:lnTo>
                    <a:pt x="5762625" y="1009650"/>
                  </a:lnTo>
                  <a:lnTo>
                    <a:pt x="5924550" y="971550"/>
                  </a:lnTo>
                  <a:lnTo>
                    <a:pt x="6057900" y="1057275"/>
                  </a:lnTo>
                  <a:lnTo>
                    <a:pt x="6181725" y="1238250"/>
                  </a:lnTo>
                  <a:lnTo>
                    <a:pt x="6257925" y="1457325"/>
                  </a:lnTo>
                  <a:lnTo>
                    <a:pt x="6305550" y="1562100"/>
                  </a:lnTo>
                  <a:lnTo>
                    <a:pt x="6296025" y="1628775"/>
                  </a:lnTo>
                  <a:lnTo>
                    <a:pt x="6276975" y="1724025"/>
                  </a:lnTo>
                  <a:lnTo>
                    <a:pt x="6391275" y="1838325"/>
                  </a:lnTo>
                  <a:lnTo>
                    <a:pt x="6429375" y="1819275"/>
                  </a:lnTo>
                  <a:lnTo>
                    <a:pt x="6486526" y="1749420"/>
                  </a:lnTo>
                  <a:lnTo>
                    <a:pt x="6505575" y="1752600"/>
                  </a:lnTo>
                  <a:lnTo>
                    <a:pt x="6524625" y="1828800"/>
                  </a:lnTo>
                  <a:lnTo>
                    <a:pt x="6667500" y="1847850"/>
                  </a:lnTo>
                  <a:lnTo>
                    <a:pt x="6810375" y="1781175"/>
                  </a:lnTo>
                  <a:lnTo>
                    <a:pt x="6819900" y="1704975"/>
                  </a:lnTo>
                  <a:lnTo>
                    <a:pt x="6829425" y="1371600"/>
                  </a:lnTo>
                  <a:lnTo>
                    <a:pt x="6858000" y="1295400"/>
                  </a:lnTo>
                  <a:lnTo>
                    <a:pt x="6819900" y="1257300"/>
                  </a:lnTo>
                  <a:lnTo>
                    <a:pt x="6819900" y="1219200"/>
                  </a:lnTo>
                  <a:lnTo>
                    <a:pt x="6886575" y="1152525"/>
                  </a:lnTo>
                  <a:lnTo>
                    <a:pt x="6877050" y="895350"/>
                  </a:lnTo>
                  <a:lnTo>
                    <a:pt x="6829425" y="485775"/>
                  </a:lnTo>
                  <a:lnTo>
                    <a:pt x="6781800" y="352425"/>
                  </a:lnTo>
                  <a:lnTo>
                    <a:pt x="6867525" y="209550"/>
                  </a:lnTo>
                  <a:lnTo>
                    <a:pt x="6819900" y="200025"/>
                  </a:lnTo>
                  <a:lnTo>
                    <a:pt x="6886575" y="0"/>
                  </a:lnTo>
                  <a:lnTo>
                    <a:pt x="6648450" y="238125"/>
                  </a:lnTo>
                  <a:lnTo>
                    <a:pt x="6486525" y="200025"/>
                  </a:lnTo>
                  <a:lnTo>
                    <a:pt x="6400800" y="200025"/>
                  </a:lnTo>
                  <a:lnTo>
                    <a:pt x="6315075" y="161925"/>
                  </a:lnTo>
                  <a:lnTo>
                    <a:pt x="6210300" y="171450"/>
                  </a:lnTo>
                  <a:lnTo>
                    <a:pt x="6067425" y="152400"/>
                  </a:lnTo>
                  <a:lnTo>
                    <a:pt x="6029325" y="161925"/>
                  </a:lnTo>
                  <a:lnTo>
                    <a:pt x="5981700" y="161925"/>
                  </a:lnTo>
                  <a:lnTo>
                    <a:pt x="5857875" y="180975"/>
                  </a:lnTo>
                  <a:lnTo>
                    <a:pt x="5638800" y="219075"/>
                  </a:lnTo>
                  <a:lnTo>
                    <a:pt x="5600700" y="219075"/>
                  </a:lnTo>
                  <a:lnTo>
                    <a:pt x="5486400" y="238125"/>
                  </a:lnTo>
                  <a:lnTo>
                    <a:pt x="5324475" y="219075"/>
                  </a:lnTo>
                  <a:lnTo>
                    <a:pt x="5257800" y="276225"/>
                  </a:lnTo>
                  <a:lnTo>
                    <a:pt x="5095875" y="314325"/>
                  </a:lnTo>
                  <a:lnTo>
                    <a:pt x="4848225" y="381000"/>
                  </a:ln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正方形/長方形 15"/>
            <p:cNvSpPr/>
            <p:nvPr/>
          </p:nvSpPr>
          <p:spPr>
            <a:xfrm>
              <a:off x="5416920" y="5872320"/>
              <a:ext cx="2821320" cy="12708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Rectangle 125"/>
            <p:cNvSpPr/>
            <p:nvPr/>
          </p:nvSpPr>
          <p:spPr>
            <a:xfrm>
              <a:off x="8336520" y="5710680"/>
              <a:ext cx="174600" cy="105984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Rectangle 126"/>
            <p:cNvSpPr/>
            <p:nvPr/>
          </p:nvSpPr>
          <p:spPr>
            <a:xfrm rot="5400000">
              <a:off x="8338680" y="5709240"/>
              <a:ext cx="174960" cy="10591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27"/>
            <p:cNvSpPr/>
            <p:nvPr/>
          </p:nvSpPr>
          <p:spPr>
            <a:xfrm rot="2700000">
              <a:off x="8334360" y="5712840"/>
              <a:ext cx="174960" cy="105912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Rectangle 128"/>
            <p:cNvSpPr/>
            <p:nvPr/>
          </p:nvSpPr>
          <p:spPr>
            <a:xfrm rot="8100000">
              <a:off x="8336160" y="5710680"/>
              <a:ext cx="174600" cy="1059840"/>
            </a:xfrm>
            <a:prstGeom prst="rect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AutoShape 129"/>
            <p:cNvSpPr/>
            <p:nvPr/>
          </p:nvSpPr>
          <p:spPr>
            <a:xfrm>
              <a:off x="7806240" y="5623200"/>
              <a:ext cx="1234080" cy="1234800"/>
            </a:xfrm>
            <a:custGeom>
              <a:avLst/>
              <a:gdLst>
                <a:gd name="textAreaLeft" fmla="*/ 180720 w 1234080"/>
                <a:gd name="textAreaRight" fmla="*/ 1053360 w 1234080"/>
                <a:gd name="textAreaTop" fmla="*/ 180720 h 1234800"/>
                <a:gd name="textAreaBottom" fmla="*/ 1054080 h 123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687" y="10800"/>
                  </a:moveTo>
                  <a:cubicBezTo>
                    <a:pt x="2687" y="15281"/>
                    <a:pt x="6319" y="18913"/>
                    <a:pt x="10800" y="18913"/>
                  </a:cubicBezTo>
                  <a:cubicBezTo>
                    <a:pt x="15281" y="18913"/>
                    <a:pt x="18913" y="15281"/>
                    <a:pt x="18913" y="10800"/>
                  </a:cubicBezTo>
                  <a:cubicBezTo>
                    <a:pt x="18913" y="6319"/>
                    <a:pt x="15281" y="2687"/>
                    <a:pt x="10800" y="2687"/>
                  </a:cubicBezTo>
                  <a:cubicBezTo>
                    <a:pt x="6319" y="2687"/>
                    <a:pt x="2687" y="6319"/>
                    <a:pt x="2687" y="10800"/>
                  </a:cubicBezTo>
                  <a:close/>
                </a:path>
              </a:pathLst>
            </a:custGeom>
            <a:solidFill>
              <a:srgbClr val="ff99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130"/>
            <p:cNvSpPr/>
            <p:nvPr/>
          </p:nvSpPr>
          <p:spPr>
            <a:xfrm>
              <a:off x="8247240" y="6064560"/>
              <a:ext cx="353520" cy="35388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"/>
          <p:cNvSpPr txBox="1"/>
          <p:nvPr/>
        </p:nvSpPr>
        <p:spPr>
          <a:xfrm>
            <a:off x="488880" y="333360"/>
            <a:ext cx="8928000" cy="158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メイリオ"/>
              </a:rPr>
              <a:t>Trick or Treat</a:t>
            </a:r>
            <a:endParaRPr b="1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メイリオ"/>
              <a:ea typeface="メイリオ"/>
            </a:endParaRPr>
          </a:p>
        </p:txBody>
      </p:sp>
      <p:grpSp>
        <p:nvGrpSpPr>
          <p:cNvPr id="867" name="グループ化 10"/>
          <p:cNvGrpSpPr/>
          <p:nvPr/>
        </p:nvGrpSpPr>
        <p:grpSpPr>
          <a:xfrm>
            <a:off x="3368520" y="6021360"/>
            <a:ext cx="513000" cy="836640"/>
            <a:chOff x="3368520" y="6021360"/>
            <a:chExt cx="513000" cy="836640"/>
          </a:xfrm>
        </p:grpSpPr>
        <p:sp>
          <p:nvSpPr>
            <p:cNvPr id="868" name="フリーフォーム 185"/>
            <p:cNvSpPr/>
            <p:nvPr/>
          </p:nvSpPr>
          <p:spPr>
            <a:xfrm>
              <a:off x="3368520" y="6021360"/>
              <a:ext cx="513000" cy="721800"/>
            </a:xfrm>
            <a:custGeom>
              <a:avLst/>
              <a:gdLst/>
              <a:ahLst/>
              <a:rect l="l" t="t" r="r" b="b"/>
              <a:pathLst>
                <a:path w="1295400" h="1821180">
                  <a:moveTo>
                    <a:pt x="495300" y="0"/>
                  </a:moveTo>
                  <a:lnTo>
                    <a:pt x="495300" y="594360"/>
                  </a:lnTo>
                  <a:lnTo>
                    <a:pt x="0" y="594360"/>
                  </a:lnTo>
                  <a:lnTo>
                    <a:pt x="0" y="899160"/>
                  </a:lnTo>
                  <a:lnTo>
                    <a:pt x="495300" y="899160"/>
                  </a:lnTo>
                  <a:lnTo>
                    <a:pt x="495300" y="1821180"/>
                  </a:lnTo>
                  <a:lnTo>
                    <a:pt x="792480" y="1821180"/>
                  </a:lnTo>
                  <a:lnTo>
                    <a:pt x="792480" y="922020"/>
                  </a:lnTo>
                  <a:lnTo>
                    <a:pt x="1295400" y="922020"/>
                  </a:lnTo>
                  <a:lnTo>
                    <a:pt x="1295400" y="586740"/>
                  </a:lnTo>
                  <a:lnTo>
                    <a:pt x="792480" y="586740"/>
                  </a:lnTo>
                  <a:lnTo>
                    <a:pt x="792480" y="15240"/>
                  </a:lnTo>
                  <a:lnTo>
                    <a:pt x="495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正方形/長方形 186"/>
            <p:cNvSpPr/>
            <p:nvPr/>
          </p:nvSpPr>
          <p:spPr>
            <a:xfrm>
              <a:off x="3436920" y="6725880"/>
              <a:ext cx="377280" cy="58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正方形/長方形 187"/>
            <p:cNvSpPr/>
            <p:nvPr/>
          </p:nvSpPr>
          <p:spPr>
            <a:xfrm>
              <a:off x="3415320" y="6782040"/>
              <a:ext cx="42084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865600" y="2852640"/>
            <a:ext cx="884160" cy="1130400"/>
            <a:chOff x="2865600" y="2852640"/>
            <a:chExt cx="884160" cy="1130400"/>
          </a:xfrm>
        </p:grpSpPr>
        <p:sp>
          <p:nvSpPr>
            <p:cNvPr id="872" name="フローチャート : 論理積ゲート 116"/>
            <p:cNvSpPr/>
            <p:nvPr/>
          </p:nvSpPr>
          <p:spPr>
            <a:xfrm rot="16200000">
              <a:off x="2742480" y="2975760"/>
              <a:ext cx="1130400" cy="88416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フローチャート : 論理積ゲート 117"/>
            <p:cNvSpPr/>
            <p:nvPr/>
          </p:nvSpPr>
          <p:spPr>
            <a:xfrm rot="16200000">
              <a:off x="2814120" y="3063240"/>
              <a:ext cx="986400" cy="72432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正方形/長方形 118"/>
            <p:cNvSpPr/>
            <p:nvPr/>
          </p:nvSpPr>
          <p:spPr>
            <a:xfrm>
              <a:off x="2946600" y="3675960"/>
              <a:ext cx="72324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正方形/長方形 119"/>
            <p:cNvSpPr/>
            <p:nvPr/>
          </p:nvSpPr>
          <p:spPr>
            <a:xfrm>
              <a:off x="2946600" y="3394080"/>
              <a:ext cx="723240" cy="7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正方形/長方形 120"/>
            <p:cNvSpPr/>
            <p:nvPr/>
          </p:nvSpPr>
          <p:spPr>
            <a:xfrm rot="5400000">
              <a:off x="2813040" y="3387240"/>
              <a:ext cx="990720" cy="7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5024520" y="3573360"/>
            <a:ext cx="884160" cy="1130400"/>
            <a:chOff x="5024520" y="3573360"/>
            <a:chExt cx="884160" cy="1130400"/>
          </a:xfrm>
        </p:grpSpPr>
        <p:sp>
          <p:nvSpPr>
            <p:cNvPr id="878" name="フローチャート : 論理積ゲート 116"/>
            <p:cNvSpPr/>
            <p:nvPr/>
          </p:nvSpPr>
          <p:spPr>
            <a:xfrm rot="16200000">
              <a:off x="4901400" y="3696480"/>
              <a:ext cx="1130400" cy="88416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フローチャート : 論理積ゲート 117"/>
            <p:cNvSpPr/>
            <p:nvPr/>
          </p:nvSpPr>
          <p:spPr>
            <a:xfrm rot="16200000">
              <a:off x="4973040" y="3783960"/>
              <a:ext cx="986400" cy="72432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正方形/長方形 118"/>
            <p:cNvSpPr/>
            <p:nvPr/>
          </p:nvSpPr>
          <p:spPr>
            <a:xfrm>
              <a:off x="5105520" y="4396680"/>
              <a:ext cx="72324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正方形/長方形 119"/>
            <p:cNvSpPr/>
            <p:nvPr/>
          </p:nvSpPr>
          <p:spPr>
            <a:xfrm>
              <a:off x="5105520" y="4114800"/>
              <a:ext cx="723240" cy="7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正方形/長方形 120"/>
            <p:cNvSpPr/>
            <p:nvPr/>
          </p:nvSpPr>
          <p:spPr>
            <a:xfrm rot="5400000">
              <a:off x="4971960" y="4107960"/>
              <a:ext cx="990720" cy="7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761240" y="2421000"/>
            <a:ext cx="884160" cy="1130400"/>
            <a:chOff x="7761240" y="2421000"/>
            <a:chExt cx="884160" cy="1130400"/>
          </a:xfrm>
        </p:grpSpPr>
        <p:sp>
          <p:nvSpPr>
            <p:cNvPr id="884" name="フローチャート : 論理積ゲート 116"/>
            <p:cNvSpPr/>
            <p:nvPr/>
          </p:nvSpPr>
          <p:spPr>
            <a:xfrm rot="16200000">
              <a:off x="7638120" y="2544120"/>
              <a:ext cx="1130400" cy="884160"/>
            </a:xfrm>
            <a:prstGeom prst="flowChartDelay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フローチャート : 論理積ゲート 117"/>
            <p:cNvSpPr/>
            <p:nvPr/>
          </p:nvSpPr>
          <p:spPr>
            <a:xfrm rot="16200000">
              <a:off x="7709760" y="2631600"/>
              <a:ext cx="986400" cy="724320"/>
            </a:xfrm>
            <a:prstGeom prst="flowChartDelay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正方形/長方形 118"/>
            <p:cNvSpPr/>
            <p:nvPr/>
          </p:nvSpPr>
          <p:spPr>
            <a:xfrm>
              <a:off x="7842240" y="3244320"/>
              <a:ext cx="723240" cy="77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正方形/長方形 119"/>
            <p:cNvSpPr/>
            <p:nvPr/>
          </p:nvSpPr>
          <p:spPr>
            <a:xfrm>
              <a:off x="7842240" y="2962440"/>
              <a:ext cx="723240" cy="7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正方形/長方形 120"/>
            <p:cNvSpPr/>
            <p:nvPr/>
          </p:nvSpPr>
          <p:spPr>
            <a:xfrm rot="5400000">
              <a:off x="7708680" y="2955600"/>
              <a:ext cx="990720" cy="7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9" name="Group 156"/>
          <p:cNvGrpSpPr/>
          <p:nvPr/>
        </p:nvGrpSpPr>
        <p:grpSpPr>
          <a:xfrm>
            <a:off x="631800" y="3213000"/>
            <a:ext cx="929880" cy="936720"/>
            <a:chOff x="631800" y="3213000"/>
            <a:chExt cx="929880" cy="936720"/>
          </a:xfrm>
        </p:grpSpPr>
        <p:sp>
          <p:nvSpPr>
            <p:cNvPr id="890" name="Freeform 157"/>
            <p:cNvSpPr/>
            <p:nvPr/>
          </p:nvSpPr>
          <p:spPr>
            <a:xfrm>
              <a:off x="734760" y="3547800"/>
              <a:ext cx="826920" cy="60192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Oval 158"/>
            <p:cNvSpPr/>
            <p:nvPr/>
          </p:nvSpPr>
          <p:spPr>
            <a:xfrm>
              <a:off x="790560" y="3688920"/>
              <a:ext cx="128520" cy="128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Oval 159"/>
            <p:cNvSpPr/>
            <p:nvPr/>
          </p:nvSpPr>
          <p:spPr>
            <a:xfrm>
              <a:off x="970200" y="3688920"/>
              <a:ext cx="128520" cy="128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Oval 160"/>
            <p:cNvSpPr/>
            <p:nvPr/>
          </p:nvSpPr>
          <p:spPr>
            <a:xfrm>
              <a:off x="631800" y="3547800"/>
              <a:ext cx="617400" cy="180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61"/>
            <p:cNvSpPr/>
            <p:nvPr/>
          </p:nvSpPr>
          <p:spPr>
            <a:xfrm>
              <a:off x="760320" y="3213000"/>
              <a:ext cx="359280" cy="47988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5" name="Group 156"/>
          <p:cNvGrpSpPr/>
          <p:nvPr/>
        </p:nvGrpSpPr>
        <p:grpSpPr>
          <a:xfrm>
            <a:off x="2649600" y="4508640"/>
            <a:ext cx="929880" cy="936000"/>
            <a:chOff x="2649600" y="4508640"/>
            <a:chExt cx="929880" cy="936000"/>
          </a:xfrm>
        </p:grpSpPr>
        <p:sp>
          <p:nvSpPr>
            <p:cNvPr id="896" name="Freeform 157"/>
            <p:cNvSpPr/>
            <p:nvPr/>
          </p:nvSpPr>
          <p:spPr>
            <a:xfrm>
              <a:off x="2752560" y="4843080"/>
              <a:ext cx="826920" cy="60156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Oval 158"/>
            <p:cNvSpPr/>
            <p:nvPr/>
          </p:nvSpPr>
          <p:spPr>
            <a:xfrm>
              <a:off x="2808360" y="4984560"/>
              <a:ext cx="128520" cy="128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Oval 159"/>
            <p:cNvSpPr/>
            <p:nvPr/>
          </p:nvSpPr>
          <p:spPr>
            <a:xfrm>
              <a:off x="2988000" y="4984560"/>
              <a:ext cx="128520" cy="12852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Oval 160"/>
            <p:cNvSpPr/>
            <p:nvPr/>
          </p:nvSpPr>
          <p:spPr>
            <a:xfrm>
              <a:off x="2649600" y="4843080"/>
              <a:ext cx="617400" cy="18036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61"/>
            <p:cNvSpPr/>
            <p:nvPr/>
          </p:nvSpPr>
          <p:spPr>
            <a:xfrm>
              <a:off x="2778120" y="4508640"/>
              <a:ext cx="359280" cy="47988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Group 168"/>
          <p:cNvGrpSpPr/>
          <p:nvPr/>
        </p:nvGrpSpPr>
        <p:grpSpPr>
          <a:xfrm>
            <a:off x="6466320" y="3213000"/>
            <a:ext cx="1007640" cy="863280"/>
            <a:chOff x="6466320" y="3213000"/>
            <a:chExt cx="1007640" cy="863280"/>
          </a:xfrm>
        </p:grpSpPr>
        <p:sp>
          <p:nvSpPr>
            <p:cNvPr id="902" name="Freeform 169"/>
            <p:cNvSpPr/>
            <p:nvPr/>
          </p:nvSpPr>
          <p:spPr>
            <a:xfrm flipH="1">
              <a:off x="6465960" y="3521520"/>
              <a:ext cx="896040" cy="55476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Oval 170"/>
            <p:cNvSpPr/>
            <p:nvPr/>
          </p:nvSpPr>
          <p:spPr>
            <a:xfrm flipH="1">
              <a:off x="7162560" y="3651840"/>
              <a:ext cx="139320" cy="118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Oval 171"/>
            <p:cNvSpPr/>
            <p:nvPr/>
          </p:nvSpPr>
          <p:spPr>
            <a:xfrm flipH="1">
              <a:off x="6967440" y="3651840"/>
              <a:ext cx="139320" cy="118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172"/>
            <p:cNvSpPr/>
            <p:nvPr/>
          </p:nvSpPr>
          <p:spPr>
            <a:xfrm flipH="1">
              <a:off x="6805080" y="3521520"/>
              <a:ext cx="668880" cy="1663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73"/>
            <p:cNvSpPr/>
            <p:nvPr/>
          </p:nvSpPr>
          <p:spPr>
            <a:xfrm flipH="1">
              <a:off x="6945120" y="3213000"/>
              <a:ext cx="389520" cy="44244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7" name="Group 168"/>
          <p:cNvGrpSpPr/>
          <p:nvPr/>
        </p:nvGrpSpPr>
        <p:grpSpPr>
          <a:xfrm>
            <a:off x="4161240" y="2421000"/>
            <a:ext cx="1007640" cy="863280"/>
            <a:chOff x="4161240" y="2421000"/>
            <a:chExt cx="1007640" cy="863280"/>
          </a:xfrm>
        </p:grpSpPr>
        <p:sp>
          <p:nvSpPr>
            <p:cNvPr id="908" name="Freeform 169"/>
            <p:cNvSpPr/>
            <p:nvPr/>
          </p:nvSpPr>
          <p:spPr>
            <a:xfrm flipH="1">
              <a:off x="4160880" y="2729520"/>
              <a:ext cx="896040" cy="55476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170"/>
            <p:cNvSpPr/>
            <p:nvPr/>
          </p:nvSpPr>
          <p:spPr>
            <a:xfrm flipH="1">
              <a:off x="4857480" y="2859840"/>
              <a:ext cx="139320" cy="118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71"/>
            <p:cNvSpPr/>
            <p:nvPr/>
          </p:nvSpPr>
          <p:spPr>
            <a:xfrm flipH="1">
              <a:off x="4662360" y="2859840"/>
              <a:ext cx="139320" cy="11844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72"/>
            <p:cNvSpPr/>
            <p:nvPr/>
          </p:nvSpPr>
          <p:spPr>
            <a:xfrm flipH="1">
              <a:off x="4500000" y="2729520"/>
              <a:ext cx="668880" cy="16632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73"/>
            <p:cNvSpPr/>
            <p:nvPr/>
          </p:nvSpPr>
          <p:spPr>
            <a:xfrm flipH="1">
              <a:off x="4640040" y="2421000"/>
              <a:ext cx="389520" cy="44244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3816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0" y="0"/>
            <a:ext cx="990612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88880" y="333360"/>
            <a:ext cx="8928000" cy="61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757575">
                        <a:alpha val="20000"/>
                      </a:srgbClr>
                    </a:gs>
                    <a:gs pos="100000">
                      <a:srgbClr val="ffffff">
                        <a:alpha val="80392"/>
                      </a:srgbClr>
                    </a:gs>
                  </a:gsLst>
                  <a:lin ang="5400000"/>
                </a:gradFill>
                <a:latin typeface="メイリオ"/>
              </a:rPr>
              <a:t>Trick or Treat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757575">
                      <a:alpha val="20000"/>
                    </a:srgbClr>
                  </a:gs>
                  <a:gs pos="100000">
                    <a:srgbClr val="ffffff">
                      <a:alpha val="80392"/>
                    </a:srgbClr>
                  </a:gs>
                </a:gsLst>
                <a:lin ang="5400000"/>
              </a:gradFill>
              <a:latin typeface="メイリオ"/>
              <a:ea typeface="メイリオ"/>
            </a:endParaRPr>
          </a:p>
        </p:txBody>
      </p:sp>
      <p:grpSp>
        <p:nvGrpSpPr>
          <p:cNvPr id="915" name="グループ化 79"/>
          <p:cNvGrpSpPr/>
          <p:nvPr/>
        </p:nvGrpSpPr>
        <p:grpSpPr>
          <a:xfrm>
            <a:off x="925560" y="4365720"/>
            <a:ext cx="1638360" cy="2492280"/>
            <a:chOff x="925560" y="4365720"/>
            <a:chExt cx="1638360" cy="2492280"/>
          </a:xfrm>
        </p:grpSpPr>
        <p:sp>
          <p:nvSpPr>
            <p:cNvPr id="916" name="フリーフォーム 60"/>
            <p:cNvSpPr/>
            <p:nvPr/>
          </p:nvSpPr>
          <p:spPr>
            <a:xfrm>
              <a:off x="1083240" y="5498640"/>
              <a:ext cx="1283760" cy="1277280"/>
            </a:xfrm>
            <a:custGeom>
              <a:avLst/>
              <a:gdLst/>
              <a:ahLst/>
              <a:rect l="l" t="t" r="r" b="b"/>
              <a:pathLst>
                <a:path w="1363980" h="1356360">
                  <a:moveTo>
                    <a:pt x="0" y="403860"/>
                  </a:moveTo>
                  <a:lnTo>
                    <a:pt x="60960" y="777240"/>
                  </a:lnTo>
                  <a:lnTo>
                    <a:pt x="571500" y="838200"/>
                  </a:lnTo>
                  <a:lnTo>
                    <a:pt x="609600" y="1356360"/>
                  </a:lnTo>
                  <a:lnTo>
                    <a:pt x="784860" y="1356360"/>
                  </a:lnTo>
                  <a:lnTo>
                    <a:pt x="739140" y="838200"/>
                  </a:lnTo>
                  <a:lnTo>
                    <a:pt x="1295400" y="792480"/>
                  </a:lnTo>
                  <a:lnTo>
                    <a:pt x="1363980" y="403860"/>
                  </a:lnTo>
                  <a:lnTo>
                    <a:pt x="1249680" y="411480"/>
                  </a:lnTo>
                  <a:lnTo>
                    <a:pt x="1196340" y="693420"/>
                  </a:lnTo>
                  <a:lnTo>
                    <a:pt x="762000" y="731520"/>
                  </a:lnTo>
                  <a:lnTo>
                    <a:pt x="746760" y="7620"/>
                  </a:lnTo>
                  <a:lnTo>
                    <a:pt x="647700" y="0"/>
                  </a:lnTo>
                  <a:lnTo>
                    <a:pt x="601980" y="731520"/>
                  </a:lnTo>
                  <a:lnTo>
                    <a:pt x="175260" y="693420"/>
                  </a:lnTo>
                  <a:lnTo>
                    <a:pt x="137160" y="403860"/>
                  </a:lnTo>
                  <a:lnTo>
                    <a:pt x="0" y="403860"/>
                  </a:ln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月 61"/>
            <p:cNvSpPr/>
            <p:nvPr/>
          </p:nvSpPr>
          <p:spPr>
            <a:xfrm rot="5400000">
              <a:off x="1685880" y="6358320"/>
              <a:ext cx="13572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フリーフォーム 62"/>
            <p:cNvSpPr/>
            <p:nvPr/>
          </p:nvSpPr>
          <p:spPr>
            <a:xfrm>
              <a:off x="1079640" y="4717080"/>
              <a:ext cx="172080" cy="42408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c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フリーフォーム 63"/>
            <p:cNvSpPr/>
            <p:nvPr/>
          </p:nvSpPr>
          <p:spPr>
            <a:xfrm>
              <a:off x="1115640" y="4880160"/>
              <a:ext cx="100440" cy="2473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角丸四角形 64"/>
            <p:cNvSpPr/>
            <p:nvPr/>
          </p:nvSpPr>
          <p:spPr>
            <a:xfrm>
              <a:off x="1087920" y="5171760"/>
              <a:ext cx="157680" cy="577080"/>
            </a:xfrm>
            <a:custGeom>
              <a:avLst/>
              <a:gdLst>
                <a:gd name="textAreaLeft" fmla="*/ 7560 w 157680"/>
                <a:gd name="textAreaRight" fmla="*/ 150120 w 157680"/>
                <a:gd name="textAreaTop" fmla="*/ 7560 h 577080"/>
                <a:gd name="textAreaBottom" fmla="*/ 569520 h 577080"/>
              </a:gdLst>
              <a:ahLst/>
              <a:rect l="textAreaLeft" t="textAreaTop" r="textAreaRight" b="textAreaBottom"/>
              <a:pathLst>
                <a:path w="21600" h="78921">
                  <a:moveTo>
                    <a:pt x="3600" y="0"/>
                  </a:moveTo>
                  <a:arcTo wR="3600" hR="3600" stAng="16200000" swAng="-5400000"/>
                  <a:lnTo>
                    <a:pt x="0" y="75321"/>
                  </a:lnTo>
                  <a:arcTo wR="3600" hR="3600" stAng="10800000" swAng="-5400000"/>
                  <a:lnTo>
                    <a:pt x="18000" y="78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角丸四角形 65"/>
            <p:cNvSpPr/>
            <p:nvPr/>
          </p:nvSpPr>
          <p:spPr>
            <a:xfrm>
              <a:off x="1076040" y="5140440"/>
              <a:ext cx="181440" cy="1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角丸四角形 66"/>
            <p:cNvSpPr/>
            <p:nvPr/>
          </p:nvSpPr>
          <p:spPr>
            <a:xfrm>
              <a:off x="1661760" y="4827600"/>
              <a:ext cx="157680" cy="577080"/>
            </a:xfrm>
            <a:custGeom>
              <a:avLst/>
              <a:gdLst>
                <a:gd name="textAreaLeft" fmla="*/ 7560 w 157680"/>
                <a:gd name="textAreaRight" fmla="*/ 150120 w 157680"/>
                <a:gd name="textAreaTop" fmla="*/ 7560 h 577080"/>
                <a:gd name="textAreaBottom" fmla="*/ 569520 h 577080"/>
              </a:gdLst>
              <a:ahLst/>
              <a:rect l="textAreaLeft" t="textAreaTop" r="textAreaRight" b="textAreaBottom"/>
              <a:pathLst>
                <a:path w="21600" h="78921">
                  <a:moveTo>
                    <a:pt x="3600" y="0"/>
                  </a:moveTo>
                  <a:arcTo wR="3600" hR="3600" stAng="16200000" swAng="-5400000"/>
                  <a:lnTo>
                    <a:pt x="0" y="75321"/>
                  </a:lnTo>
                  <a:arcTo wR="3600" hR="3600" stAng="10800000" swAng="-5400000"/>
                  <a:lnTo>
                    <a:pt x="18000" y="78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角丸四角形 67"/>
            <p:cNvSpPr/>
            <p:nvPr/>
          </p:nvSpPr>
          <p:spPr>
            <a:xfrm>
              <a:off x="1649880" y="4795920"/>
              <a:ext cx="181440" cy="1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角丸四角形 68"/>
            <p:cNvSpPr/>
            <p:nvPr/>
          </p:nvSpPr>
          <p:spPr>
            <a:xfrm>
              <a:off x="2199600" y="5236560"/>
              <a:ext cx="157680" cy="577080"/>
            </a:xfrm>
            <a:custGeom>
              <a:avLst/>
              <a:gdLst>
                <a:gd name="textAreaLeft" fmla="*/ 7560 w 157680"/>
                <a:gd name="textAreaRight" fmla="*/ 150120 w 157680"/>
                <a:gd name="textAreaTop" fmla="*/ 7560 h 577080"/>
                <a:gd name="textAreaBottom" fmla="*/ 569520 h 577080"/>
              </a:gdLst>
              <a:ahLst/>
              <a:rect l="textAreaLeft" t="textAreaTop" r="textAreaRight" b="textAreaBottom"/>
              <a:pathLst>
                <a:path w="21600" h="78921">
                  <a:moveTo>
                    <a:pt x="3600" y="0"/>
                  </a:moveTo>
                  <a:arcTo wR="3600" hR="3600" stAng="16200000" swAng="-5400000"/>
                  <a:lnTo>
                    <a:pt x="0" y="75321"/>
                  </a:lnTo>
                  <a:arcTo wR="3600" hR="3600" stAng="10800000" swAng="-5400000"/>
                  <a:lnTo>
                    <a:pt x="18000" y="78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角丸四角形 69"/>
            <p:cNvSpPr/>
            <p:nvPr/>
          </p:nvSpPr>
          <p:spPr>
            <a:xfrm>
              <a:off x="2187720" y="5205240"/>
              <a:ext cx="181440" cy="1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月 70"/>
            <p:cNvSpPr/>
            <p:nvPr/>
          </p:nvSpPr>
          <p:spPr>
            <a:xfrm rot="16200000">
              <a:off x="1068840" y="5526720"/>
              <a:ext cx="271800" cy="558720"/>
            </a:xfrm>
            <a:custGeom>
              <a:avLst/>
              <a:gdLst>
                <a:gd name="textAreaLeft" fmla="*/ 16200 w 271800"/>
                <a:gd name="textAreaRight" fmla="*/ 202320 w 271800"/>
                <a:gd name="textAreaTop" fmla="*/ 183600 h 558720"/>
                <a:gd name="textAreaBottom" fmla="*/ 37512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月 71"/>
            <p:cNvSpPr/>
            <p:nvPr/>
          </p:nvSpPr>
          <p:spPr>
            <a:xfrm rot="16200000">
              <a:off x="2148480" y="5545440"/>
              <a:ext cx="271800" cy="558720"/>
            </a:xfrm>
            <a:custGeom>
              <a:avLst/>
              <a:gdLst>
                <a:gd name="textAreaLeft" fmla="*/ 16200 w 271800"/>
                <a:gd name="textAreaRight" fmla="*/ 202320 w 271800"/>
                <a:gd name="textAreaTop" fmla="*/ 183600 h 558720"/>
                <a:gd name="textAreaBottom" fmla="*/ 37512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月 72"/>
            <p:cNvSpPr/>
            <p:nvPr/>
          </p:nvSpPr>
          <p:spPr>
            <a:xfrm rot="16200000">
              <a:off x="1618200" y="5154480"/>
              <a:ext cx="271800" cy="558720"/>
            </a:xfrm>
            <a:custGeom>
              <a:avLst/>
              <a:gdLst>
                <a:gd name="textAreaLeft" fmla="*/ 16200 w 271800"/>
                <a:gd name="textAreaRight" fmla="*/ 202320 w 271800"/>
                <a:gd name="textAreaTop" fmla="*/ 183600 h 558720"/>
                <a:gd name="textAreaBottom" fmla="*/ 37512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フリーフォーム 73"/>
            <p:cNvSpPr/>
            <p:nvPr/>
          </p:nvSpPr>
          <p:spPr>
            <a:xfrm>
              <a:off x="1660680" y="4365720"/>
              <a:ext cx="172080" cy="42408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c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フリーフォーム 74"/>
            <p:cNvSpPr/>
            <p:nvPr/>
          </p:nvSpPr>
          <p:spPr>
            <a:xfrm>
              <a:off x="1696320" y="4528440"/>
              <a:ext cx="100440" cy="2473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フリーフォーム 75"/>
            <p:cNvSpPr/>
            <p:nvPr/>
          </p:nvSpPr>
          <p:spPr>
            <a:xfrm>
              <a:off x="2205720" y="4789080"/>
              <a:ext cx="172080" cy="42408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c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フリーフォーム 76"/>
            <p:cNvSpPr/>
            <p:nvPr/>
          </p:nvSpPr>
          <p:spPr>
            <a:xfrm>
              <a:off x="2241720" y="4951800"/>
              <a:ext cx="100440" cy="2473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グループ化 79"/>
          <p:cNvGrpSpPr/>
          <p:nvPr/>
        </p:nvGrpSpPr>
        <p:grpSpPr>
          <a:xfrm>
            <a:off x="5024520" y="4365720"/>
            <a:ext cx="1638360" cy="2492280"/>
            <a:chOff x="5024520" y="4365720"/>
            <a:chExt cx="1638360" cy="2492280"/>
          </a:xfrm>
        </p:grpSpPr>
        <p:sp>
          <p:nvSpPr>
            <p:cNvPr id="934" name="フリーフォーム 60"/>
            <p:cNvSpPr/>
            <p:nvPr/>
          </p:nvSpPr>
          <p:spPr>
            <a:xfrm>
              <a:off x="5182200" y="5498640"/>
              <a:ext cx="1283760" cy="1277280"/>
            </a:xfrm>
            <a:custGeom>
              <a:avLst/>
              <a:gdLst/>
              <a:ahLst/>
              <a:rect l="l" t="t" r="r" b="b"/>
              <a:pathLst>
                <a:path w="1363980" h="1356360">
                  <a:moveTo>
                    <a:pt x="0" y="403860"/>
                  </a:moveTo>
                  <a:lnTo>
                    <a:pt x="60960" y="777240"/>
                  </a:lnTo>
                  <a:lnTo>
                    <a:pt x="571500" y="838200"/>
                  </a:lnTo>
                  <a:lnTo>
                    <a:pt x="609600" y="1356360"/>
                  </a:lnTo>
                  <a:lnTo>
                    <a:pt x="784860" y="1356360"/>
                  </a:lnTo>
                  <a:lnTo>
                    <a:pt x="739140" y="838200"/>
                  </a:lnTo>
                  <a:lnTo>
                    <a:pt x="1295400" y="792480"/>
                  </a:lnTo>
                  <a:lnTo>
                    <a:pt x="1363980" y="403860"/>
                  </a:lnTo>
                  <a:lnTo>
                    <a:pt x="1249680" y="411480"/>
                  </a:lnTo>
                  <a:lnTo>
                    <a:pt x="1196340" y="693420"/>
                  </a:lnTo>
                  <a:lnTo>
                    <a:pt x="762000" y="731520"/>
                  </a:lnTo>
                  <a:lnTo>
                    <a:pt x="746760" y="7620"/>
                  </a:lnTo>
                  <a:lnTo>
                    <a:pt x="647700" y="0"/>
                  </a:lnTo>
                  <a:lnTo>
                    <a:pt x="601980" y="731520"/>
                  </a:lnTo>
                  <a:lnTo>
                    <a:pt x="175260" y="693420"/>
                  </a:lnTo>
                  <a:lnTo>
                    <a:pt x="137160" y="403860"/>
                  </a:lnTo>
                  <a:lnTo>
                    <a:pt x="0" y="403860"/>
                  </a:ln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月 61"/>
            <p:cNvSpPr/>
            <p:nvPr/>
          </p:nvSpPr>
          <p:spPr>
            <a:xfrm rot="5400000">
              <a:off x="5784840" y="6358320"/>
              <a:ext cx="135720" cy="863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20250" y="3391"/>
                    <a:pt x="18900" y="5080"/>
                    <a:pt x="18900" y="10800"/>
                  </a:cubicBezTo>
                  <a:cubicBezTo>
                    <a:pt x="18900" y="16520"/>
                    <a:pt x="20250" y="18209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フリーフォーム 62"/>
            <p:cNvSpPr/>
            <p:nvPr/>
          </p:nvSpPr>
          <p:spPr>
            <a:xfrm>
              <a:off x="5178600" y="4717080"/>
              <a:ext cx="172080" cy="42408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c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フリーフォーム 63"/>
            <p:cNvSpPr/>
            <p:nvPr/>
          </p:nvSpPr>
          <p:spPr>
            <a:xfrm>
              <a:off x="5214600" y="4880160"/>
              <a:ext cx="100440" cy="2473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角丸四角形 64"/>
            <p:cNvSpPr/>
            <p:nvPr/>
          </p:nvSpPr>
          <p:spPr>
            <a:xfrm>
              <a:off x="5186880" y="5171760"/>
              <a:ext cx="157680" cy="577080"/>
            </a:xfrm>
            <a:custGeom>
              <a:avLst/>
              <a:gdLst>
                <a:gd name="textAreaLeft" fmla="*/ 7560 w 157680"/>
                <a:gd name="textAreaRight" fmla="*/ 150120 w 157680"/>
                <a:gd name="textAreaTop" fmla="*/ 7560 h 577080"/>
                <a:gd name="textAreaBottom" fmla="*/ 569520 h 577080"/>
              </a:gdLst>
              <a:ahLst/>
              <a:rect l="textAreaLeft" t="textAreaTop" r="textAreaRight" b="textAreaBottom"/>
              <a:pathLst>
                <a:path w="21600" h="78921">
                  <a:moveTo>
                    <a:pt x="3600" y="0"/>
                  </a:moveTo>
                  <a:arcTo wR="3600" hR="3600" stAng="16200000" swAng="-5400000"/>
                  <a:lnTo>
                    <a:pt x="0" y="75321"/>
                  </a:lnTo>
                  <a:arcTo wR="3600" hR="3600" stAng="10800000" swAng="-5400000"/>
                  <a:lnTo>
                    <a:pt x="18000" y="78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角丸四角形 65"/>
            <p:cNvSpPr/>
            <p:nvPr/>
          </p:nvSpPr>
          <p:spPr>
            <a:xfrm>
              <a:off x="5175000" y="5140440"/>
              <a:ext cx="181440" cy="1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角丸四角形 66"/>
            <p:cNvSpPr/>
            <p:nvPr/>
          </p:nvSpPr>
          <p:spPr>
            <a:xfrm>
              <a:off x="5760720" y="4827600"/>
              <a:ext cx="157680" cy="577080"/>
            </a:xfrm>
            <a:custGeom>
              <a:avLst/>
              <a:gdLst>
                <a:gd name="textAreaLeft" fmla="*/ 7560 w 157680"/>
                <a:gd name="textAreaRight" fmla="*/ 150120 w 157680"/>
                <a:gd name="textAreaTop" fmla="*/ 7560 h 577080"/>
                <a:gd name="textAreaBottom" fmla="*/ 569520 h 577080"/>
              </a:gdLst>
              <a:ahLst/>
              <a:rect l="textAreaLeft" t="textAreaTop" r="textAreaRight" b="textAreaBottom"/>
              <a:pathLst>
                <a:path w="21600" h="78921">
                  <a:moveTo>
                    <a:pt x="3600" y="0"/>
                  </a:moveTo>
                  <a:arcTo wR="3600" hR="3600" stAng="16200000" swAng="-5400000"/>
                  <a:lnTo>
                    <a:pt x="0" y="75321"/>
                  </a:lnTo>
                  <a:arcTo wR="3600" hR="3600" stAng="10800000" swAng="-5400000"/>
                  <a:lnTo>
                    <a:pt x="18000" y="78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角丸四角形 67"/>
            <p:cNvSpPr/>
            <p:nvPr/>
          </p:nvSpPr>
          <p:spPr>
            <a:xfrm>
              <a:off x="5748840" y="4795920"/>
              <a:ext cx="181440" cy="1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角丸四角形 68"/>
            <p:cNvSpPr/>
            <p:nvPr/>
          </p:nvSpPr>
          <p:spPr>
            <a:xfrm>
              <a:off x="6298560" y="5236560"/>
              <a:ext cx="157680" cy="577080"/>
            </a:xfrm>
            <a:custGeom>
              <a:avLst/>
              <a:gdLst>
                <a:gd name="textAreaLeft" fmla="*/ 7560 w 157680"/>
                <a:gd name="textAreaRight" fmla="*/ 150120 w 157680"/>
                <a:gd name="textAreaTop" fmla="*/ 7560 h 577080"/>
                <a:gd name="textAreaBottom" fmla="*/ 569520 h 577080"/>
              </a:gdLst>
              <a:ahLst/>
              <a:rect l="textAreaLeft" t="textAreaTop" r="textAreaRight" b="textAreaBottom"/>
              <a:pathLst>
                <a:path w="21600" h="78921">
                  <a:moveTo>
                    <a:pt x="3600" y="0"/>
                  </a:moveTo>
                  <a:arcTo wR="3600" hR="3600" stAng="16200000" swAng="-5400000"/>
                  <a:lnTo>
                    <a:pt x="0" y="75321"/>
                  </a:lnTo>
                  <a:arcTo wR="3600" hR="3600" stAng="10800000" swAng="-5400000"/>
                  <a:lnTo>
                    <a:pt x="18000" y="78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角丸四角形 69"/>
            <p:cNvSpPr/>
            <p:nvPr/>
          </p:nvSpPr>
          <p:spPr>
            <a:xfrm>
              <a:off x="6286680" y="5205240"/>
              <a:ext cx="181440" cy="138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月 70"/>
            <p:cNvSpPr/>
            <p:nvPr/>
          </p:nvSpPr>
          <p:spPr>
            <a:xfrm rot="16200000">
              <a:off x="5167800" y="5526720"/>
              <a:ext cx="271800" cy="558720"/>
            </a:xfrm>
            <a:custGeom>
              <a:avLst/>
              <a:gdLst>
                <a:gd name="textAreaLeft" fmla="*/ 16200 w 271800"/>
                <a:gd name="textAreaRight" fmla="*/ 202320 w 271800"/>
                <a:gd name="textAreaTop" fmla="*/ 183600 h 558720"/>
                <a:gd name="textAreaBottom" fmla="*/ 37512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月 71"/>
            <p:cNvSpPr/>
            <p:nvPr/>
          </p:nvSpPr>
          <p:spPr>
            <a:xfrm rot="16200000">
              <a:off x="6247440" y="5545440"/>
              <a:ext cx="271800" cy="558720"/>
            </a:xfrm>
            <a:custGeom>
              <a:avLst/>
              <a:gdLst>
                <a:gd name="textAreaLeft" fmla="*/ 16200 w 271800"/>
                <a:gd name="textAreaRight" fmla="*/ 202320 w 271800"/>
                <a:gd name="textAreaTop" fmla="*/ 183600 h 558720"/>
                <a:gd name="textAreaBottom" fmla="*/ 37512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月 72"/>
            <p:cNvSpPr/>
            <p:nvPr/>
          </p:nvSpPr>
          <p:spPr>
            <a:xfrm rot="16200000">
              <a:off x="5717160" y="5154480"/>
              <a:ext cx="271800" cy="558720"/>
            </a:xfrm>
            <a:custGeom>
              <a:avLst/>
              <a:gdLst>
                <a:gd name="textAreaLeft" fmla="*/ 16200 w 271800"/>
                <a:gd name="textAreaRight" fmla="*/ 202320 w 271800"/>
                <a:gd name="textAreaTop" fmla="*/ 183600 h 558720"/>
                <a:gd name="textAreaBottom" fmla="*/ 375120 h 55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8832" y="2882"/>
                    <a:pt x="16063" y="5080"/>
                    <a:pt x="16063" y="10800"/>
                  </a:cubicBezTo>
                  <a:cubicBezTo>
                    <a:pt x="16063" y="16520"/>
                    <a:pt x="18832" y="1871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フリーフォーム 73"/>
            <p:cNvSpPr/>
            <p:nvPr/>
          </p:nvSpPr>
          <p:spPr>
            <a:xfrm>
              <a:off x="5759640" y="4365720"/>
              <a:ext cx="172080" cy="42408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c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フリーフォーム 74"/>
            <p:cNvSpPr/>
            <p:nvPr/>
          </p:nvSpPr>
          <p:spPr>
            <a:xfrm>
              <a:off x="5795280" y="4528440"/>
              <a:ext cx="100440" cy="2473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フリーフォーム 75"/>
            <p:cNvSpPr/>
            <p:nvPr/>
          </p:nvSpPr>
          <p:spPr>
            <a:xfrm>
              <a:off x="6304680" y="4789080"/>
              <a:ext cx="172080" cy="42408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c000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フリーフォーム 76"/>
            <p:cNvSpPr/>
            <p:nvPr/>
          </p:nvSpPr>
          <p:spPr>
            <a:xfrm>
              <a:off x="6340680" y="4951800"/>
              <a:ext cx="100440" cy="247320"/>
            </a:xfrm>
            <a:custGeom>
              <a:avLst/>
              <a:gdLst/>
              <a:ahLst/>
              <a:rect l="l" t="t" r="r" b="b"/>
              <a:pathLst>
                <a:path w="366183" h="900806">
                  <a:moveTo>
                    <a:pt x="71443" y="879315"/>
                  </a:moveTo>
                  <a:cubicBezTo>
                    <a:pt x="13023" y="837405"/>
                    <a:pt x="-17457" y="659605"/>
                    <a:pt x="10483" y="513555"/>
                  </a:cubicBezTo>
                  <a:cubicBezTo>
                    <a:pt x="38423" y="367505"/>
                    <a:pt x="180663" y="-38895"/>
                    <a:pt x="239083" y="3015"/>
                  </a:cubicBezTo>
                  <a:cubicBezTo>
                    <a:pt x="297503" y="44925"/>
                    <a:pt x="388943" y="618965"/>
                    <a:pt x="361003" y="765015"/>
                  </a:cubicBezTo>
                  <a:cubicBezTo>
                    <a:pt x="333063" y="911065"/>
                    <a:pt x="129863" y="921225"/>
                    <a:pt x="71443" y="879315"/>
                  </a:cubicBezTo>
                  <a:close/>
                </a:path>
              </a:pathLst>
            </a:custGeom>
            <a:solidFill>
              <a:srgbClr val="ff6600"/>
            </a:solidFill>
            <a:ln w="284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3078000" y="3500280"/>
            <a:ext cx="1431720" cy="1441080"/>
            <a:chOff x="3078000" y="3500280"/>
            <a:chExt cx="1431720" cy="1441080"/>
          </a:xfrm>
        </p:grpSpPr>
        <p:sp>
          <p:nvSpPr>
            <p:cNvPr id="952" name="Freeform 133"/>
            <p:cNvSpPr/>
            <p:nvPr/>
          </p:nvSpPr>
          <p:spPr>
            <a:xfrm>
              <a:off x="3236760" y="4015080"/>
              <a:ext cx="1272960" cy="92628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Oval 134"/>
            <p:cNvSpPr/>
            <p:nvPr/>
          </p:nvSpPr>
          <p:spPr>
            <a:xfrm>
              <a:off x="3322800" y="4232160"/>
              <a:ext cx="196920" cy="19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35"/>
            <p:cNvSpPr/>
            <p:nvPr/>
          </p:nvSpPr>
          <p:spPr>
            <a:xfrm>
              <a:off x="3599280" y="4232160"/>
              <a:ext cx="196920" cy="19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Oval 136"/>
            <p:cNvSpPr/>
            <p:nvPr/>
          </p:nvSpPr>
          <p:spPr>
            <a:xfrm>
              <a:off x="3078000" y="4015080"/>
              <a:ext cx="950400" cy="277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37"/>
            <p:cNvSpPr/>
            <p:nvPr/>
          </p:nvSpPr>
          <p:spPr>
            <a:xfrm>
              <a:off x="3276360" y="3500280"/>
              <a:ext cx="552960" cy="7387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7" name=""/>
          <p:cNvGrpSpPr/>
          <p:nvPr/>
        </p:nvGrpSpPr>
        <p:grpSpPr>
          <a:xfrm>
            <a:off x="8047080" y="5229360"/>
            <a:ext cx="1431360" cy="1441080"/>
            <a:chOff x="8047080" y="5229360"/>
            <a:chExt cx="1431360" cy="1441080"/>
          </a:xfrm>
        </p:grpSpPr>
        <p:sp>
          <p:nvSpPr>
            <p:cNvPr id="958" name="Freeform 142"/>
            <p:cNvSpPr/>
            <p:nvPr/>
          </p:nvSpPr>
          <p:spPr>
            <a:xfrm>
              <a:off x="8205480" y="5744160"/>
              <a:ext cx="1272960" cy="926280"/>
            </a:xfrm>
            <a:custGeom>
              <a:avLst/>
              <a:gdLst/>
              <a:ahLst/>
              <a:rect l="l" t="t" r="r" b="b"/>
              <a:pathLst>
                <a:path w="2048" h="1489">
                  <a:moveTo>
                    <a:pt x="1096" y="1383"/>
                  </a:moveTo>
                  <a:cubicBezTo>
                    <a:pt x="1277" y="1360"/>
                    <a:pt x="1285" y="1194"/>
                    <a:pt x="1368" y="1202"/>
                  </a:cubicBezTo>
                  <a:cubicBezTo>
                    <a:pt x="1451" y="1210"/>
                    <a:pt x="1527" y="1422"/>
                    <a:pt x="1595" y="1429"/>
                  </a:cubicBezTo>
                  <a:cubicBezTo>
                    <a:pt x="1663" y="1436"/>
                    <a:pt x="1723" y="1262"/>
                    <a:pt x="1776" y="1247"/>
                  </a:cubicBezTo>
                  <a:cubicBezTo>
                    <a:pt x="1829" y="1232"/>
                    <a:pt x="1867" y="1361"/>
                    <a:pt x="1912" y="1338"/>
                  </a:cubicBezTo>
                  <a:cubicBezTo>
                    <a:pt x="1957" y="1315"/>
                    <a:pt x="2048" y="1134"/>
                    <a:pt x="2048" y="1111"/>
                  </a:cubicBezTo>
                  <a:cubicBezTo>
                    <a:pt x="2048" y="1088"/>
                    <a:pt x="1957" y="1209"/>
                    <a:pt x="1912" y="1202"/>
                  </a:cubicBezTo>
                  <a:cubicBezTo>
                    <a:pt x="1867" y="1195"/>
                    <a:pt x="1829" y="1081"/>
                    <a:pt x="1776" y="1066"/>
                  </a:cubicBezTo>
                  <a:cubicBezTo>
                    <a:pt x="1723" y="1051"/>
                    <a:pt x="1671" y="1141"/>
                    <a:pt x="1595" y="1111"/>
                  </a:cubicBezTo>
                  <a:cubicBezTo>
                    <a:pt x="1519" y="1081"/>
                    <a:pt x="1414" y="914"/>
                    <a:pt x="1323" y="884"/>
                  </a:cubicBezTo>
                  <a:cubicBezTo>
                    <a:pt x="1232" y="854"/>
                    <a:pt x="1096" y="1021"/>
                    <a:pt x="1050" y="930"/>
                  </a:cubicBezTo>
                  <a:cubicBezTo>
                    <a:pt x="1004" y="839"/>
                    <a:pt x="1125" y="491"/>
                    <a:pt x="1050" y="340"/>
                  </a:cubicBezTo>
                  <a:cubicBezTo>
                    <a:pt x="975" y="189"/>
                    <a:pt x="763" y="0"/>
                    <a:pt x="597" y="23"/>
                  </a:cubicBezTo>
                  <a:cubicBezTo>
                    <a:pt x="431" y="46"/>
                    <a:pt x="106" y="257"/>
                    <a:pt x="53" y="476"/>
                  </a:cubicBezTo>
                  <a:cubicBezTo>
                    <a:pt x="0" y="695"/>
                    <a:pt x="105" y="1187"/>
                    <a:pt x="279" y="1338"/>
                  </a:cubicBezTo>
                  <a:cubicBezTo>
                    <a:pt x="453" y="1489"/>
                    <a:pt x="915" y="1406"/>
                    <a:pt x="1096" y="1383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Oval 143"/>
            <p:cNvSpPr/>
            <p:nvPr/>
          </p:nvSpPr>
          <p:spPr>
            <a:xfrm>
              <a:off x="8291880" y="5961240"/>
              <a:ext cx="196920" cy="19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144"/>
            <p:cNvSpPr/>
            <p:nvPr/>
          </p:nvSpPr>
          <p:spPr>
            <a:xfrm>
              <a:off x="8568360" y="5961240"/>
              <a:ext cx="196920" cy="198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Oval 145"/>
            <p:cNvSpPr/>
            <p:nvPr/>
          </p:nvSpPr>
          <p:spPr>
            <a:xfrm>
              <a:off x="8047080" y="5744160"/>
              <a:ext cx="949680" cy="277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46"/>
            <p:cNvSpPr/>
            <p:nvPr/>
          </p:nvSpPr>
          <p:spPr>
            <a:xfrm>
              <a:off x="8245440" y="5229360"/>
              <a:ext cx="552960" cy="738720"/>
            </a:xfrm>
            <a:custGeom>
              <a:avLst/>
              <a:gdLst/>
              <a:ahLst/>
              <a:rect l="l" t="t" r="r" b="b"/>
              <a:pathLst>
                <a:path w="634" h="846">
                  <a:moveTo>
                    <a:pt x="45" y="725"/>
                  </a:moveTo>
                  <a:cubicBezTo>
                    <a:pt x="0" y="604"/>
                    <a:pt x="226" y="0"/>
                    <a:pt x="317" y="0"/>
                  </a:cubicBezTo>
                  <a:cubicBezTo>
                    <a:pt x="408" y="0"/>
                    <a:pt x="634" y="604"/>
                    <a:pt x="589" y="725"/>
                  </a:cubicBezTo>
                  <a:cubicBezTo>
                    <a:pt x="544" y="846"/>
                    <a:pt x="90" y="846"/>
                    <a:pt x="45" y="72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3" name=""/>
          <p:cNvGrpSpPr/>
          <p:nvPr/>
        </p:nvGrpSpPr>
        <p:grpSpPr>
          <a:xfrm>
            <a:off x="6465960" y="-27000"/>
            <a:ext cx="3456000" cy="3311640"/>
            <a:chOff x="6465960" y="-27000"/>
            <a:chExt cx="3456000" cy="3311640"/>
          </a:xfrm>
        </p:grpSpPr>
        <p:grpSp>
          <p:nvGrpSpPr>
            <p:cNvPr id="964" name=""/>
            <p:cNvGrpSpPr/>
            <p:nvPr/>
          </p:nvGrpSpPr>
          <p:grpSpPr>
            <a:xfrm>
              <a:off x="7185600" y="222840"/>
              <a:ext cx="2079000" cy="2163600"/>
              <a:chOff x="7185600" y="222840"/>
              <a:chExt cx="2079000" cy="2163600"/>
            </a:xfrm>
          </p:grpSpPr>
          <p:sp>
            <p:nvSpPr>
              <p:cNvPr id="965" name=""/>
              <p:cNvSpPr/>
              <p:nvPr/>
            </p:nvSpPr>
            <p:spPr>
              <a:xfrm rot="2347800">
                <a:off x="7616880" y="404640"/>
                <a:ext cx="1216080" cy="1800000"/>
              </a:xfrm>
              <a:prstGeom prst="pentagon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rot="2347800">
                <a:off x="7814880" y="758520"/>
                <a:ext cx="778320" cy="1152360"/>
              </a:xfrm>
              <a:prstGeom prst="pentagon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rot="2347800">
                <a:off x="7977600" y="987120"/>
                <a:ext cx="484200" cy="718920"/>
              </a:xfrm>
              <a:prstGeom prst="pentagon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rot="2347800">
                <a:off x="8113320" y="1133280"/>
                <a:ext cx="242640" cy="360360"/>
              </a:xfrm>
              <a:prstGeom prst="pentagon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9" name=""/>
            <p:cNvSpPr/>
            <p:nvPr/>
          </p:nvSpPr>
          <p:spPr>
            <a:xfrm>
              <a:off x="8337600" y="-27000"/>
              <a:ext cx="936720" cy="1224000"/>
            </a:xfrm>
            <a:custGeom>
              <a:avLst/>
              <a:gdLst/>
              <a:ahLst/>
              <a:rect l="l" t="t" r="r" b="b"/>
              <a:pathLst>
                <a:path w="590" h="771">
                  <a:moveTo>
                    <a:pt x="0" y="771"/>
                  </a:moveTo>
                  <a:lnTo>
                    <a:pt x="317" y="408"/>
                  </a:lnTo>
                  <a:lnTo>
                    <a:pt x="59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184880" y="1557360"/>
              <a:ext cx="936720" cy="1727280"/>
            </a:xfrm>
            <a:custGeom>
              <a:avLst/>
              <a:gdLst/>
              <a:ahLst/>
              <a:rect l="l" t="t" r="r" b="b"/>
              <a:pathLst>
                <a:path w="590" h="1088">
                  <a:moveTo>
                    <a:pt x="590" y="0"/>
                  </a:moveTo>
                  <a:lnTo>
                    <a:pt x="499" y="408"/>
                  </a:lnTo>
                  <a:lnTo>
                    <a:pt x="318" y="816"/>
                  </a:lnTo>
                  <a:lnTo>
                    <a:pt x="0" y="10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337600" y="1413000"/>
              <a:ext cx="1584360" cy="215640"/>
            </a:xfrm>
            <a:custGeom>
              <a:avLst/>
              <a:gdLst/>
              <a:ahLst/>
              <a:rect l="l" t="t" r="r" b="b"/>
              <a:pathLst>
                <a:path w="998" h="136">
                  <a:moveTo>
                    <a:pt x="0" y="0"/>
                  </a:moveTo>
                  <a:lnTo>
                    <a:pt x="181" y="45"/>
                  </a:lnTo>
                  <a:lnTo>
                    <a:pt x="544" y="136"/>
                  </a:lnTo>
                  <a:lnTo>
                    <a:pt x="998" y="4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832880" y="44280"/>
              <a:ext cx="360360" cy="1297080"/>
            </a:xfrm>
            <a:custGeom>
              <a:avLst/>
              <a:gdLst/>
              <a:ahLst/>
              <a:rect l="l" t="t" r="r" b="b"/>
              <a:pathLst>
                <a:path w="227" h="817">
                  <a:moveTo>
                    <a:pt x="0" y="0"/>
                  </a:moveTo>
                  <a:lnTo>
                    <a:pt x="0" y="408"/>
                  </a:lnTo>
                  <a:lnTo>
                    <a:pt x="136" y="681"/>
                  </a:lnTo>
                  <a:lnTo>
                    <a:pt x="227" y="81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465960" y="1341360"/>
              <a:ext cx="1727280" cy="358920"/>
            </a:xfrm>
            <a:custGeom>
              <a:avLst/>
              <a:gdLst/>
              <a:ahLst/>
              <a:rect l="l" t="t" r="r" b="b"/>
              <a:pathLst>
                <a:path w="1088" h="226">
                  <a:moveTo>
                    <a:pt x="0" y="226"/>
                  </a:moveTo>
                  <a:lnTo>
                    <a:pt x="544" y="226"/>
                  </a:lnTo>
                  <a:lnTo>
                    <a:pt x="952" y="90"/>
                  </a:lnTo>
                  <a:lnTo>
                    <a:pt x="1088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265960" y="1484280"/>
              <a:ext cx="1656000" cy="1152720"/>
            </a:xfrm>
            <a:custGeom>
              <a:avLst/>
              <a:gdLst/>
              <a:ahLst/>
              <a:rect l="l" t="t" r="r" b="b"/>
              <a:pathLst>
                <a:path w="1043" h="726">
                  <a:moveTo>
                    <a:pt x="0" y="0"/>
                  </a:moveTo>
                  <a:lnTo>
                    <a:pt x="181" y="318"/>
                  </a:lnTo>
                  <a:lnTo>
                    <a:pt x="544" y="499"/>
                  </a:lnTo>
                  <a:lnTo>
                    <a:pt x="1043" y="72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7977240" y="1263960"/>
            <a:ext cx="949680" cy="844200"/>
            <a:chOff x="7977240" y="1263960"/>
            <a:chExt cx="949680" cy="844200"/>
          </a:xfrm>
        </p:grpSpPr>
        <p:sp>
          <p:nvSpPr>
            <p:cNvPr id="976" name=""/>
            <p:cNvSpPr/>
            <p:nvPr/>
          </p:nvSpPr>
          <p:spPr>
            <a:xfrm>
              <a:off x="8406720" y="1463400"/>
              <a:ext cx="155520" cy="1555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328600" y="1580400"/>
              <a:ext cx="312120" cy="390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211240" y="1268280"/>
              <a:ext cx="195120" cy="429120"/>
            </a:xfrm>
            <a:custGeom>
              <a:avLst/>
              <a:gdLst/>
              <a:ahLst/>
              <a:rect l="l" t="t" r="r" b="b"/>
              <a:pathLst>
                <a:path w="227" h="499">
                  <a:moveTo>
                    <a:pt x="227" y="454"/>
                  </a:moveTo>
                  <a:lnTo>
                    <a:pt x="45" y="318"/>
                  </a:lnTo>
                  <a:lnTo>
                    <a:pt x="91" y="0"/>
                  </a:lnTo>
                  <a:lnTo>
                    <a:pt x="0" y="318"/>
                  </a:lnTo>
                  <a:lnTo>
                    <a:pt x="182" y="499"/>
                  </a:lnTo>
                  <a:lnTo>
                    <a:pt x="227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rot="1520400">
              <a:off x="8602200" y="1268280"/>
              <a:ext cx="117000" cy="429120"/>
            </a:xfrm>
            <a:custGeom>
              <a:avLst/>
              <a:gdLst/>
              <a:ahLst/>
              <a:rect l="l" t="t" r="r" b="b"/>
              <a:pathLst>
                <a:path w="227" h="499">
                  <a:moveTo>
                    <a:pt x="227" y="454"/>
                  </a:moveTo>
                  <a:lnTo>
                    <a:pt x="45" y="318"/>
                  </a:lnTo>
                  <a:lnTo>
                    <a:pt x="91" y="0"/>
                  </a:lnTo>
                  <a:lnTo>
                    <a:pt x="0" y="318"/>
                  </a:lnTo>
                  <a:lnTo>
                    <a:pt x="182" y="499"/>
                  </a:lnTo>
                  <a:lnTo>
                    <a:pt x="227" y="4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094240" y="1463400"/>
              <a:ext cx="312480" cy="31212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363" y="317"/>
                  </a:moveTo>
                  <a:lnTo>
                    <a:pt x="136" y="227"/>
                  </a:lnTo>
                  <a:lnTo>
                    <a:pt x="0" y="0"/>
                  </a:lnTo>
                  <a:lnTo>
                    <a:pt x="136" y="272"/>
                  </a:lnTo>
                  <a:lnTo>
                    <a:pt x="318" y="363"/>
                  </a:lnTo>
                  <a:lnTo>
                    <a:pt x="363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977240" y="1736280"/>
              <a:ext cx="429480" cy="15660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454" y="45"/>
                  </a:moveTo>
                  <a:lnTo>
                    <a:pt x="227" y="0"/>
                  </a:lnTo>
                  <a:lnTo>
                    <a:pt x="0" y="182"/>
                  </a:lnTo>
                  <a:lnTo>
                    <a:pt x="227" y="45"/>
                  </a:lnTo>
                  <a:lnTo>
                    <a:pt x="499" y="91"/>
                  </a:lnTo>
                  <a:lnTo>
                    <a:pt x="4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055720" y="1853280"/>
              <a:ext cx="389880" cy="234000"/>
            </a:xfrm>
            <a:custGeom>
              <a:avLst/>
              <a:gdLst/>
              <a:ahLst/>
              <a:rect l="l" t="t" r="r" b="b"/>
              <a:pathLst>
                <a:path w="453" h="272">
                  <a:moveTo>
                    <a:pt x="408" y="0"/>
                  </a:moveTo>
                  <a:lnTo>
                    <a:pt x="136" y="0"/>
                  </a:lnTo>
                  <a:lnTo>
                    <a:pt x="0" y="272"/>
                  </a:lnTo>
                  <a:lnTo>
                    <a:pt x="181" y="46"/>
                  </a:lnTo>
                  <a:lnTo>
                    <a:pt x="453" y="46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rot="884400">
              <a:off x="8562600" y="1541520"/>
              <a:ext cx="312480" cy="208080"/>
            </a:xfrm>
            <a:custGeom>
              <a:avLst/>
              <a:gdLst/>
              <a:ahLst/>
              <a:rect l="l" t="t" r="r" b="b"/>
              <a:pathLst>
                <a:path w="363" h="363">
                  <a:moveTo>
                    <a:pt x="363" y="317"/>
                  </a:moveTo>
                  <a:lnTo>
                    <a:pt x="136" y="227"/>
                  </a:lnTo>
                  <a:lnTo>
                    <a:pt x="0" y="0"/>
                  </a:lnTo>
                  <a:lnTo>
                    <a:pt x="136" y="272"/>
                  </a:lnTo>
                  <a:lnTo>
                    <a:pt x="318" y="363"/>
                  </a:lnTo>
                  <a:lnTo>
                    <a:pt x="363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H="1" rot="844800">
              <a:off x="8444880" y="1762560"/>
              <a:ext cx="429480" cy="10404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454" y="45"/>
                  </a:moveTo>
                  <a:lnTo>
                    <a:pt x="227" y="0"/>
                  </a:lnTo>
                  <a:lnTo>
                    <a:pt x="0" y="182"/>
                  </a:lnTo>
                  <a:lnTo>
                    <a:pt x="227" y="45"/>
                  </a:lnTo>
                  <a:lnTo>
                    <a:pt x="499" y="91"/>
                  </a:lnTo>
                  <a:lnTo>
                    <a:pt x="454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 rot="871200">
              <a:off x="8523360" y="1905840"/>
              <a:ext cx="389880" cy="155880"/>
            </a:xfrm>
            <a:custGeom>
              <a:avLst/>
              <a:gdLst/>
              <a:ahLst/>
              <a:rect l="l" t="t" r="r" b="b"/>
              <a:pathLst>
                <a:path w="453" h="272">
                  <a:moveTo>
                    <a:pt x="408" y="0"/>
                  </a:moveTo>
                  <a:lnTo>
                    <a:pt x="136" y="0"/>
                  </a:lnTo>
                  <a:lnTo>
                    <a:pt x="0" y="272"/>
                  </a:lnTo>
                  <a:lnTo>
                    <a:pt x="181" y="46"/>
                  </a:lnTo>
                  <a:lnTo>
                    <a:pt x="453" y="46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-40320" y="-46440"/>
            <a:ext cx="3919680" cy="4959720"/>
            <a:chOff x="-40320" y="-46440"/>
            <a:chExt cx="3919680" cy="4959720"/>
          </a:xfrm>
        </p:grpSpPr>
        <p:grpSp>
          <p:nvGrpSpPr>
            <p:cNvPr id="987" name=""/>
            <p:cNvGrpSpPr/>
            <p:nvPr/>
          </p:nvGrpSpPr>
          <p:grpSpPr>
            <a:xfrm>
              <a:off x="759600" y="801720"/>
              <a:ext cx="1237320" cy="2553840"/>
              <a:chOff x="759600" y="801720"/>
              <a:chExt cx="1237320" cy="2553840"/>
            </a:xfrm>
          </p:grpSpPr>
          <p:sp>
            <p:nvSpPr>
              <p:cNvPr id="988" name=""/>
              <p:cNvSpPr/>
              <p:nvPr/>
            </p:nvSpPr>
            <p:spPr>
              <a:xfrm rot="28800">
                <a:off x="770040" y="806760"/>
                <a:ext cx="1216080" cy="2543760"/>
              </a:xfrm>
              <a:prstGeom prst="pentagon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rot="28800">
                <a:off x="991800" y="1315440"/>
                <a:ext cx="778320" cy="1628640"/>
              </a:xfrm>
              <a:prstGeom prst="pentagon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rot="28800">
                <a:off x="1158480" y="1621080"/>
                <a:ext cx="484200" cy="1015920"/>
              </a:xfrm>
              <a:prstGeom prst="pentagon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rot="28800">
                <a:off x="1270800" y="1825200"/>
                <a:ext cx="242640" cy="509040"/>
              </a:xfrm>
              <a:prstGeom prst="pentagon">
                <a:avLst/>
              </a:prstGeom>
              <a:noFill/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2" name=""/>
            <p:cNvSpPr/>
            <p:nvPr/>
          </p:nvSpPr>
          <p:spPr>
            <a:xfrm rot="19281000">
              <a:off x="728640" y="56520"/>
              <a:ext cx="936720" cy="1729440"/>
            </a:xfrm>
            <a:custGeom>
              <a:avLst/>
              <a:gdLst/>
              <a:ahLst/>
              <a:rect l="l" t="t" r="r" b="b"/>
              <a:pathLst>
                <a:path w="590" h="771">
                  <a:moveTo>
                    <a:pt x="0" y="771"/>
                  </a:moveTo>
                  <a:lnTo>
                    <a:pt x="317" y="408"/>
                  </a:lnTo>
                  <a:lnTo>
                    <a:pt x="590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rot="19281000">
              <a:off x="1448640" y="2446920"/>
              <a:ext cx="936720" cy="2440800"/>
            </a:xfrm>
            <a:custGeom>
              <a:avLst/>
              <a:gdLst/>
              <a:ahLst/>
              <a:rect l="l" t="t" r="r" b="b"/>
              <a:pathLst>
                <a:path w="590" h="1088">
                  <a:moveTo>
                    <a:pt x="590" y="0"/>
                  </a:moveTo>
                  <a:lnTo>
                    <a:pt x="499" y="408"/>
                  </a:lnTo>
                  <a:lnTo>
                    <a:pt x="318" y="816"/>
                  </a:lnTo>
                  <a:lnTo>
                    <a:pt x="0" y="1088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rot="19281000">
              <a:off x="1483560" y="1599840"/>
              <a:ext cx="1584360" cy="304560"/>
            </a:xfrm>
            <a:custGeom>
              <a:avLst/>
              <a:gdLst/>
              <a:ahLst/>
              <a:rect l="l" t="t" r="r" b="b"/>
              <a:pathLst>
                <a:path w="998" h="136">
                  <a:moveTo>
                    <a:pt x="0" y="0"/>
                  </a:moveTo>
                  <a:lnTo>
                    <a:pt x="181" y="45"/>
                  </a:lnTo>
                  <a:lnTo>
                    <a:pt x="544" y="136"/>
                  </a:lnTo>
                  <a:lnTo>
                    <a:pt x="998" y="45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rot="19281000">
              <a:off x="492480" y="618840"/>
              <a:ext cx="360360" cy="1832760"/>
            </a:xfrm>
            <a:custGeom>
              <a:avLst/>
              <a:gdLst/>
              <a:ahLst/>
              <a:rect l="l" t="t" r="r" b="b"/>
              <a:pathLst>
                <a:path w="227" h="817">
                  <a:moveTo>
                    <a:pt x="0" y="0"/>
                  </a:moveTo>
                  <a:lnTo>
                    <a:pt x="0" y="408"/>
                  </a:lnTo>
                  <a:lnTo>
                    <a:pt x="136" y="681"/>
                  </a:lnTo>
                  <a:lnTo>
                    <a:pt x="227" y="817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rot="19281000">
              <a:off x="6120" y="2622600"/>
              <a:ext cx="1727280" cy="506880"/>
            </a:xfrm>
            <a:custGeom>
              <a:avLst/>
              <a:gdLst/>
              <a:ahLst/>
              <a:rect l="l" t="t" r="r" b="b"/>
              <a:pathLst>
                <a:path w="1088" h="226">
                  <a:moveTo>
                    <a:pt x="0" y="226"/>
                  </a:moveTo>
                  <a:lnTo>
                    <a:pt x="544" y="226"/>
                  </a:lnTo>
                  <a:lnTo>
                    <a:pt x="952" y="90"/>
                  </a:lnTo>
                  <a:lnTo>
                    <a:pt x="1088" y="0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rot="19281000">
              <a:off x="1896120" y="1555560"/>
              <a:ext cx="1656000" cy="1628640"/>
            </a:xfrm>
            <a:custGeom>
              <a:avLst/>
              <a:gdLst/>
              <a:ahLst/>
              <a:rect l="l" t="t" r="r" b="b"/>
              <a:pathLst>
                <a:path w="1043" h="726">
                  <a:moveTo>
                    <a:pt x="0" y="0"/>
                  </a:moveTo>
                  <a:lnTo>
                    <a:pt x="181" y="318"/>
                  </a:lnTo>
                  <a:lnTo>
                    <a:pt x="544" y="499"/>
                  </a:lnTo>
                  <a:lnTo>
                    <a:pt x="1043" y="726"/>
                  </a:lnTo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00:53:18Z</dcterms:created>
  <dc:creator>http://www.digipot.net</dc:creator>
  <dc:description/>
  <dc:language>en-US</dc:language>
  <cp:lastModifiedBy>http://www.digipot.net</cp:lastModifiedBy>
  <dcterms:modified xsi:type="dcterms:W3CDTF">2012-10-11T01:48:30Z</dcterms:modified>
  <cp:revision>1</cp:revision>
  <dc:subject>PPT191_ハロウィンポップ素材</dc:subject>
  <dc:title>PPT191_ハロウィンポップ素材</dc:title>
</cp:coreProperties>
</file>